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37D-C692-4229-AF90-6C5FD402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CF1-DA0F-419F-B14E-750DBBB0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9D0-5E62-4AEB-AA45-7342D8BC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4D9-6B6A-4D9D-A1A2-654D7D2F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49E8-689D-45AC-AB91-8983A0C4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1006-2D62-4AC4-9591-6B7FF8A8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D468-DA67-4CB6-B908-E1147B30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675D-797D-4174-A982-30E71647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60A4-BC78-4822-80A4-52DC6F4D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23E6-6E8B-4ADC-A84B-9F728F3A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B0AC-7616-4234-B387-126152A6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835-A0AB-4904-82E2-75013DC0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1C42-4775-4C3F-B2E2-C287F017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A132-2FDF-44D7-896A-A54C0D5B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0A65-0C55-4D4F-80A7-46DB2590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F696-8A8E-4FB9-82EA-5437C481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140E-15B6-483B-8A3E-C7B7EAE4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979F-0DED-46F0-926D-B9DF8356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96B16-6431-42EB-A141-8D7DE670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F8A1-BA39-4200-AAA4-365350EB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70BFA-BB29-43FC-A571-4CB0D314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3898-2A60-4726-933E-F91CCBA5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1E3-5AF0-48AD-9325-0B46DF9F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9010-E2DE-4883-BB0A-67CBB86E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4F84-9BFE-4139-9896-369E407A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F370-0F12-4399-BC59-5B5E19AC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80FB-2363-41FE-9852-A82691B2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29DC8-1E9A-422E-B6D3-233AE1DD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F70D9-A3F8-4BC4-9C26-EDF27209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6125E-E38A-4D28-9FCE-963784A4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F632A-62DE-4812-9C65-38382410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958C1-B98B-4D1A-B5AA-62121875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6BAB-3B5A-4669-BB4D-932BAD21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A8D-CEF2-4B4D-BE40-EDA53714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0532E-E3B3-402A-9716-2071FC10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A060-6F1E-425C-8248-68FFA0CA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5981C-8564-4557-823A-32C29172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53FFF-962B-4396-9E4B-8FF3B5D9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9F17-38C2-47B6-AC0B-63B7B63C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E9FE7-60A1-435A-906E-D5A92E46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4A6A-227E-47CB-9DB5-B56C70D2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28122-5D9B-4400-AF99-C4320D25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A1FE7-1891-486D-A897-E037614A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F50EE-2299-43DE-B619-7561D885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5EC-89EF-4A4A-9068-F2314981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3DF04-FBAA-441C-8DB5-FBD978DF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3FCD9-D0AB-4DB1-A613-69D86238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4EF4-DB0B-4698-A820-A9ECA2DA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8F96F-3F38-4421-9D62-9FB76525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DF1A5-5B9F-472D-A6E6-C0590D4F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D8A5F-FB13-44FB-A5D3-C21421B5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64B74-2C67-40DC-A890-ECC58088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1D993-F391-4CEE-8CDC-ECA52CBF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26D38-69EF-4E6A-9435-AD64FED4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E1C4B-6F18-4501-9E59-EB3CBE1A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079-ED3F-481A-8B6D-C54C2588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9AB16-1264-4DF9-A4B1-9CCC2244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2B07C-49C7-4B42-9334-F62D7157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36367-C781-42F1-A28D-5AFFDAF5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4760C-2C28-493A-90E3-AFCEEF80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8AB80-882F-4A0D-A50E-66CA5450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70BB9-D159-4CBF-BD67-11FAF289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B287E-AE8F-4D4A-9D3D-5658D6DE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2F372-476B-4990-B971-206350E3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40B65-3ACA-48DF-A684-DCC68C1C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C60E0-AA0F-4967-AC7B-6182AF62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FE2-12C8-4C48-9465-D8BE656E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EF0AE-ECD1-4D26-BD76-8283B3F5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52B1A-93C3-4BAA-B872-AAE6E77B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2D21E-51C5-4DA9-95A3-2F24160D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8EFA4-5404-4EAA-9B64-6EDC62EE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AF9FA-FFAE-4FA4-88FF-D2EE3A29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E7589-CDCE-4FE5-AFBD-2AA3CA25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7BDFA-C9E0-441C-9D55-DEBF9E64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061FD-0CE9-4294-981F-090ABA89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6E669-1D42-4A32-89BD-DB32FF0D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F34C2-F9C1-4471-8B8C-7C77529B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4CC-DE3A-4582-ABE1-EAF1880E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84198-F766-461F-9546-B8C2E9BE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5586F-95BD-45AF-A64B-201D6F5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31A4C-BCDD-4F9D-AABA-DC677697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78F21-FACA-4087-ADAF-044B1210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1415A-0807-477F-A95B-49401A65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B8C-D9D2-4340-B8B4-1A70A1B9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0164-69B2-4D82-9283-4884B881E23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A9CD-F5A1-47F1-A6AA-728A63D38F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D11B-8B57-4980-8C1F-28A3E1297C7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9BE2-C3FB-4EA7-BB47-4F83FE1DA27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63DC-0495-49FF-9D3C-646908E2827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4C76-F608-432F-9C87-18D1240EEDA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FC11-67AB-4254-A296-BE326B950C9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5880" y="1000080"/>
            <a:ext cx="80532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572314"/>
                </a:solidFill>
                <a:latin typeface="Corbel"/>
              </a:rPr>
              <a:t>Житие преподобного </a:t>
            </a:r>
            <a:br>
              <a:rPr sz="6000"/>
            </a:br>
            <a:r>
              <a:rPr b="1" i="1" lang="ru-RU" sz="6000" spc="-1" strike="noStrike">
                <a:solidFill>
                  <a:srgbClr val="572314"/>
                </a:solidFill>
                <a:latin typeface="Corbel"/>
              </a:rPr>
              <a:t>Сергия Радонежского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5234040"/>
            <a:ext cx="74070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Picture 2" descr="C:\Documents and Settings\Admin\Мои документы\Мои рисунки\image004.gif"/>
          <p:cNvPicPr/>
          <p:nvPr/>
        </p:nvPicPr>
        <p:blipFill>
          <a:blip r:embed="rId1"/>
          <a:stretch/>
        </p:blipFill>
        <p:spPr>
          <a:xfrm>
            <a:off x="2571840" y="500040"/>
            <a:ext cx="4429080" cy="5857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6072120"/>
            <a:ext cx="74995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.В. Нестеров. Видение отроку Варфоломею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Picture 2" descr="C:\Documents and Settings\Admin\Мои документы\Мои рисунки\image006.jpg"/>
          <p:cNvPicPr/>
          <p:nvPr/>
        </p:nvPicPr>
        <p:blipFill>
          <a:blip r:embed="rId1"/>
          <a:stretch/>
        </p:blipFill>
        <p:spPr>
          <a:xfrm>
            <a:off x="1714680" y="357120"/>
            <a:ext cx="6715080" cy="4929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45920" y="5785920"/>
            <a:ext cx="7497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М.В. Нестеров.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Труды преподобного Сергия.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2" descr="C:\Documents and Settings\Admin\Мои документы\Мои рисунки\image008.jpg"/>
          <p:cNvPicPr/>
          <p:nvPr/>
        </p:nvPicPr>
        <p:blipFill>
          <a:blip r:embed="rId1"/>
          <a:stretch/>
        </p:blipFill>
        <p:spPr>
          <a:xfrm>
            <a:off x="2714760" y="214200"/>
            <a:ext cx="4786200" cy="514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5785920"/>
            <a:ext cx="7499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Миниатюра Лицевого Летописного свода «Строительство Троицкой обители».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2" descr="C:\Documents and Settings\Admin\Мои документы\Мои рисунки\image010.jpg"/>
          <p:cNvPicPr/>
          <p:nvPr/>
        </p:nvPicPr>
        <p:blipFill>
          <a:blip r:embed="rId1"/>
          <a:stretch/>
        </p:blipFill>
        <p:spPr>
          <a:xfrm>
            <a:off x="2643120" y="214200"/>
            <a:ext cx="4500720" cy="514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6000840"/>
            <a:ext cx="7499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А. Клившенко . Посещение великим князем Дмитрием  Сергия Радонежского перед выступлением в поход на татар.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2" descr="C:\Documents and Settings\Admin\Мои документы\Мои рисунки\image012.jpg"/>
          <p:cNvPicPr/>
          <p:nvPr/>
        </p:nvPicPr>
        <p:blipFill>
          <a:blip r:embed="rId1"/>
          <a:stretch/>
        </p:blipFill>
        <p:spPr>
          <a:xfrm>
            <a:off x="1928880" y="428760"/>
            <a:ext cx="6215040" cy="5000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5929200"/>
            <a:ext cx="7499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В. Назарук.  Куликовская битва.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Picture 2" descr="C:\Documents and Settings\Admin\Мои документы\Мои рисунки\image014.gif"/>
          <p:cNvPicPr/>
          <p:nvPr/>
        </p:nvPicPr>
        <p:blipFill>
          <a:blip r:embed="rId1"/>
          <a:stretch/>
        </p:blipFill>
        <p:spPr>
          <a:xfrm>
            <a:off x="1428840" y="785880"/>
            <a:ext cx="7286400" cy="45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856800"/>
            <a:ext cx="74995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Вопросы по тексту 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«Жития преподобного Сергия Радонежского»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5680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 чего начинает Епифаний Премудрый описание жизни преподобного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втор жития называет родителей Сергия  - благоверными. Что означает это слово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Чем отличался преподобный Сергий в детстве  от других детей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Какое было знамение его родителям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Как вы думаете, почему отрок Варфоломей не мог научиться грамоте?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чему семья преподобного Сергия переехала в Радонеж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Какова была иноческая жизнь преподобного Сергия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Какую роль сыграл Сергий Радонежский в истории Руси?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58:45Z</dcterms:created>
  <dc:creator>Admin</dc:creator>
  <dc:description/>
  <dc:language>en-US</dc:language>
  <cp:lastModifiedBy>Admin</cp:lastModifiedBy>
  <dcterms:modified xsi:type="dcterms:W3CDTF">2010-01-17T14:20:16Z</dcterms:modified>
  <cp:revision>3</cp:revision>
  <dc:subject/>
  <dc:title>Житие преподобного  Сергия Радонежского</dc:title>
</cp:coreProperties>
</file>