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B0D4-C15E-45FE-AC0E-738C9A84C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BE93-3240-469A-BFC2-39C482FA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755C-1D85-4974-9EB5-337DCFFFD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672F-B100-4D41-AAC2-FE332419A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E0D3-0234-4998-9741-B0C0AEC6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22AD-FFD2-4C23-847D-1D2EA81F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1879-2367-4D3C-994C-BFEF08B8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38F3-0CBB-4265-B7A3-D0CA1CF0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F065-DACB-47CC-AEBB-C46E0FAB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0533-1B8B-47D5-99E1-C0F92835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89D7-1480-41CC-A033-5F0D779C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4A16-4967-4A85-AAA4-F227046D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FA83-7DE3-4A32-B798-D9EB1DCE46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Calibri"/>
              </a:rPr>
              <a:t>Сирень</a:t>
            </a: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ппликация из бумаг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s://encrypted-tbn2.gstatic.com/images?q=tbn:ANd9GcTTjEDylrLSJrI91xM_DvZqNJEtKvlkn8X6AZJcGG2YVY3NeGjF"/>
          <p:cNvPicPr/>
          <p:nvPr/>
        </p:nvPicPr>
        <p:blipFill>
          <a:blip r:embed="rId1"/>
          <a:stretch/>
        </p:blipFill>
        <p:spPr>
          <a:xfrm>
            <a:off x="2268360" y="1773360"/>
            <a:ext cx="413568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012000" y="1628280"/>
            <a:ext cx="2808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надобится: бумага голубого, синего, фиолетового, белого, зелёного цвета, клей, карандаш, ножницы, дыроко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://kladraz.ru/images/11(8).jpg"/>
          <p:cNvPicPr/>
          <p:nvPr/>
        </p:nvPicPr>
        <p:blipFill>
          <a:blip r:embed="rId1"/>
          <a:stretch/>
        </p:blipFill>
        <p:spPr>
          <a:xfrm>
            <a:off x="1763640" y="476280"/>
            <a:ext cx="424836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. Сложите пополам половину листа бумаги фиолетового цвета. Нарисуйте половину контура вазы так, чтобы её середина проходила по сгибу, и вырежьте её. По тому же принципу изготовьте из зелёной бумаги листь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kladraz.ru/images/11-1(1).jpg"/>
          <p:cNvPicPr/>
          <p:nvPr/>
        </p:nvPicPr>
        <p:blipFill>
          <a:blip r:embed="rId1"/>
          <a:stretch/>
        </p:blipFill>
        <p:spPr>
          <a:xfrm>
            <a:off x="1258920" y="333360"/>
            <a:ext cx="50068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3357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Сделайте при помощи дырокола много кружочков из бумаги тех цветов, которые подходят к оттенкам соцветий сире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kladraz.ru/images/11-2(1).jpg"/>
          <p:cNvPicPr/>
          <p:nvPr/>
        </p:nvPicPr>
        <p:blipFill>
          <a:blip r:embed="rId1"/>
          <a:stretch/>
        </p:blipFill>
        <p:spPr>
          <a:xfrm>
            <a:off x="1403280" y="189000"/>
            <a:ext cx="50403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В центре низа листа бумаги наклейте вазу, нарисуйте простым карандашом контур соцветий, стоящих в ней. Намажьте внутри нарисованного контура клеем и обильно насыпьте кружочки из бумаги. Приклейте только нижние половинки листьев, а верхние оставьте свободны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kladraz.ru/images/11-3.jpg"/>
          <p:cNvPicPr/>
          <p:nvPr/>
        </p:nvPicPr>
        <p:blipFill>
          <a:blip r:embed="rId1"/>
          <a:stretch/>
        </p:blipFill>
        <p:spPr>
          <a:xfrm>
            <a:off x="1476360" y="260280"/>
            <a:ext cx="428616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s://encrypted-tbn2.gstatic.com/images?q=tbn:ANd9GcTS15_ppZmLN9JeN3CB9xhnatkX8ebnKI3GcuQHEGyusIF_STQv4w"/>
          <p:cNvPicPr/>
          <p:nvPr/>
        </p:nvPicPr>
        <p:blipFill>
          <a:blip r:embed="rId1"/>
          <a:stretch/>
        </p:blipFill>
        <p:spPr>
          <a:xfrm>
            <a:off x="4572000" y="2997360"/>
            <a:ext cx="4032360" cy="3638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s://encrypted-tbn1.gstatic.com/images?q=tbn:ANd9GcSF1o1FD3IW8AFHAHZUCJsm9Qp44ORWht8IGobQ1iEoimvpYxTc"/>
          <p:cNvPicPr/>
          <p:nvPr/>
        </p:nvPicPr>
        <p:blipFill>
          <a:blip r:embed="rId2"/>
          <a:stretch/>
        </p:blipFill>
        <p:spPr>
          <a:xfrm>
            <a:off x="611280" y="549360"/>
            <a:ext cx="3790800" cy="3286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https://encrypted-tbn2.gstatic.com/images?q=tbn:ANd9GcSgF09o7bqlAiT090l5o-8QdCnFE9YbbOMTLisdTUvi60eBfugPpQ"/>
          <p:cNvPicPr/>
          <p:nvPr/>
        </p:nvPicPr>
        <p:blipFill>
          <a:blip r:embed="rId3"/>
          <a:stretch/>
        </p:blipFill>
        <p:spPr>
          <a:xfrm>
            <a:off x="5435640" y="476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https://encrypted-tbn1.gstatic.com/images?q=tbn:ANd9GcTcRsrBxH0fNnKpS8QA7UqHnS4lnBXglXui54vlvJv1WEAhSp9oPQ"/>
          <p:cNvPicPr/>
          <p:nvPr/>
        </p:nvPicPr>
        <p:blipFill>
          <a:blip r:embed="rId4"/>
          <a:stretch/>
        </p:blipFill>
        <p:spPr>
          <a:xfrm>
            <a:off x="1187280" y="4581360"/>
            <a:ext cx="26197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4T14:43:26Z</dcterms:created>
  <dc:creator>Юрий</dc:creator>
  <dc:description/>
  <dc:language>en-US</dc:language>
  <cp:lastModifiedBy>Юрий</cp:lastModifiedBy>
  <dcterms:modified xsi:type="dcterms:W3CDTF">2014-11-04T10:12:19Z</dcterms:modified>
  <cp:revision>2</cp:revision>
  <dc:subject/>
  <dc:title>Сирень Аппликация из бумаги </dc:title>
</cp:coreProperties>
</file>