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4D50-E21F-46A5-A729-33721CA2C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5ED1-6AA1-4867-A8D8-E0F8EF27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873F-A57F-4C55-A5B0-D9558BE31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C72E-85DE-4190-914C-09672E6D2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98C4-A672-441A-8873-FD6E4237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AB3C-6864-4F1A-A75A-24439019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61CB-8BC2-4B71-9373-64A99170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139D-75C2-4442-90E7-BD7BAB8B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CE46-0461-49D0-9886-708E6FCD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EA87-D514-4C8D-B579-E10559BB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D282-CD4E-4E49-A7CB-1646F46A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38EA-49FC-4E59-9BDD-21B77E6A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ECF9-28D9-4366-8600-5FCB2409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B9E4-1DF2-450C-A4DA-AFDC4099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5F0B-588A-46BE-B4CB-B7D2E60C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23BE-B8C5-408F-BBCC-A9B946B6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F178-D103-47D4-901D-911B75A4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AFBA-0FEF-4C7D-8DBB-6EF8DD53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59E4-E251-414D-9A0E-24BAE107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61F0-819E-4687-A9DA-AE5B633A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8FBB-C9E0-4FDF-B959-73B94898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8EC5-C094-4EBE-B683-916828F6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8F73-AD1E-470F-B61E-CDFBBED3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CD4B-35E1-4710-BD78-8F718F80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A9B2-D2AA-42E4-B415-1AB5B05E38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6185-C1AE-4AE2-BF4C-7F34E6D5AA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6666"/>
                </a:solidFill>
                <a:uFillTx/>
                <a:latin typeface="Gill Sans MT"/>
              </a:rPr>
              <a:t>Ψ</a:t>
            </a:r>
            <a:br>
              <a:rPr sz="2000"/>
            </a:br>
            <a:r>
              <a:rPr b="0" i="1" lang="ru-RU" sz="2000" spc="-1" strike="noStrike">
                <a:solidFill>
                  <a:srgbClr val="336666"/>
                </a:solidFill>
                <a:latin typeface="Arial Black"/>
              </a:rPr>
              <a:t>Государственное  бюджетное образовательное учреждение   для детей, нуждающихся в психолого-педагогической и медико-социальной помощи, </a:t>
            </a:r>
            <a:br>
              <a:rPr sz="2000"/>
            </a:br>
            <a:r>
              <a:rPr b="0" i="1" lang="ru-RU" sz="2000" spc="-1" strike="noStrike">
                <a:solidFill>
                  <a:srgbClr val="336666"/>
                </a:solidFill>
                <a:latin typeface="Arial Black"/>
              </a:rPr>
              <a:t>ЦЕНТР ПСИХОЛОГО-МЕДИКО-СОЦИАЛЬНОГО СОПРОВОЖДЕНИЯ</a:t>
            </a:r>
            <a:br>
              <a:rPr sz="2000"/>
            </a:br>
            <a:r>
              <a:rPr b="1" i="1" lang="ru-RU" sz="2000" spc="-1" strike="noStrike">
                <a:solidFill>
                  <a:srgbClr val="336666"/>
                </a:solidFill>
                <a:latin typeface="Arial Black"/>
              </a:rPr>
              <a:t>«Личность»</a:t>
            </a:r>
            <a:br>
              <a:rPr sz="2000"/>
            </a:br>
            <a:r>
              <a:rPr b="0" i="1" lang="ru-RU" sz="2000" spc="-1" strike="noStrike">
                <a:solidFill>
                  <a:srgbClr val="336666"/>
                </a:solidFill>
                <a:latin typeface="Arial Black"/>
              </a:rPr>
              <a:t>городского округа Тольятти</a:t>
            </a:r>
            <a:br>
              <a:rPr sz="2000"/>
            </a:b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248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Sylfaen"/>
              </a:rPr>
              <a:t>ул. Юбилейная, 81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Sylfaen"/>
              </a:rPr>
              <a:t> </a:t>
            </a:r>
            <a:r>
              <a:rPr b="0" lang="ru-RU" sz="2400" spc="-1" strike="noStrike">
                <a:solidFill>
                  <a:srgbClr val="320e04"/>
                </a:solidFill>
                <a:latin typeface="Sylfaen"/>
              </a:rPr>
              <a:t>тел. 34 81 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иректор ГБОУ ЦПМСС «Личность» Жидкова Л.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едагог-психолог</a:t>
            </a:r>
            <a:r>
              <a:rPr b="0" i="1" lang="en-US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высшей категории Лисицына Е. 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Выставка детских работ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917720" y="1905120"/>
            <a:ext cx="5384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Программа для родителей «Воспитание детей раннего возраста»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грамм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рофилактика нарушений познавательного и личностного развития детей раннего возраста «группы рис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уровня психолого-педагогической  грамотности  родителей детей раннего возра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редставлений о гуманности и толерантности как основных методах эффективного воспитательн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педагогического репертуара родите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осознанного отношения родителей к целенаправленности и последовательности в воспит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отивации родителей для сотрудничества с различными  специалистами (воспитателями, педагогами, психологами) по вопросам воспитания и развития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Тематические (групповые) и индивидуальные консультации с родителями детей от 0 до 3 лет с ОВЗ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ые консультации родителей по логопедической реабилитации детей проводятся по темам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обенности развития детей, страдающих ранним детским аутизмом»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обенности речевого развития и основные направления  логопедической коррекции детей   с задержкой психического развития; с  синдромом Дауна»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ые консультации с психологами проводятся по тема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доление негативизма и капризов 2 и 3 год жиз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общения и речи 2  и 3 год жиз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ные особенности развития ребенка 2 и3  года жиз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редметной деятельности детей 2 и 3 года жиз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детей с РДА – поведенческий подход, развитие навыков самообслужи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редметной деятельности детей 1 года жизн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автономии у ребенка с ОВ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х консультаций проведен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Консультирование родителей детей дошкольного и школьного возраста с ОВЗ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96080" cy="40384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1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10"/>
          <p:cNvGraphicFramePr/>
          <p:nvPr/>
        </p:nvGraphicFramePr>
        <p:xfrm>
          <a:off x="457200" y="2058840"/>
          <a:ext cx="8153280" cy="3656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6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58840"/>
                    <a:ext cx="8153280" cy="36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Родительские собран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ое отдел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 такое ЗПР»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сихолого-педагогическое сопровождение детей с ОВЗ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ипы отношений подростков и родителе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сихологические особенности детей с ограниченными возможностями здоров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заимодействие семьи и школ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ско-родительские отнош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Родительские собран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ическое отделение: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еодоление нарушения чтения и письма у младших школьников путем развития зрительного восприятия»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странение недостатков в звукопроизношен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Формирование грамотного письма у школьник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чины возникновения и способы устранения нарушений письм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ые нарушения и причины их возникнов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Наглядно-информационные формы взаимодействия с родителями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пекты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к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стенды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леты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и и на сайте Центр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ы обратной связ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Система взаимодействия с родителями детей с ОВЗ в ППМС Центре «Личность»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66"/>
                </a:solidFill>
                <a:latin typeface="Arial Black"/>
              </a:rPr>
              <a:t>ГБОУ ЦПМСС г.о. Тольятти   как самостоятельная структура открыт в 199</a:t>
            </a:r>
            <a:r>
              <a:rPr b="0" lang="en-US" sz="2000" spc="-1" strike="noStrike">
                <a:solidFill>
                  <a:srgbClr val="336666"/>
                </a:solidFill>
                <a:latin typeface="Arial Black"/>
              </a:rPr>
              <a:t>9</a:t>
            </a:r>
            <a:r>
              <a:rPr b="0" lang="ru-RU" sz="2000" spc="-1" strike="noStrike">
                <a:solidFill>
                  <a:srgbClr val="336666"/>
                </a:solidFill>
                <a:latin typeface="Arial Black"/>
              </a:rPr>
              <a:t> году.</a:t>
            </a:r>
            <a:br>
              <a:rPr sz="3600"/>
            </a:b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762120" y="1752480"/>
            <a:ext cx="7924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нтре работают 40 специалист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, педагоги – психологи, клинические психологи, логопеды, дефектологи, социальные работн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ы осуществляют психологическую, логопедическую и социально-педагогическую помощь различным категориям детей (от 0 до 18 лет), родителям и педагогам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чреждении действуют 4 отделения: психологическое, логопедическое, социально-педагогическое, служба ранне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02 года работает подростковый телефон доверия «Сверстниковая ли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4d4d"/>
                </a:solidFill>
                <a:latin typeface="Corbel"/>
              </a:rPr>
              <a:t>Клуб для родителей детей от 0 до 3 лет</a:t>
            </a:r>
            <a:br>
              <a:rPr sz="2800"/>
            </a:br>
            <a:r>
              <a:rPr b="0" lang="ru-RU" sz="2800" spc="-1" strike="noStrike">
                <a:solidFill>
                  <a:srgbClr val="264d4d"/>
                </a:solidFill>
                <a:latin typeface="Corbel"/>
              </a:rPr>
              <a:t> с ОВЗ «Академия воспитания»</a:t>
            </a:r>
            <a:br>
              <a:rPr sz="2800"/>
            </a:b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4440" indent="-2599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о - педагогическое просвещение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я семейного восп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осознаного отношения к процессу развития и воспитания детей с ОВ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ие в обмене опытом семейного восп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тика декомпенсаций личностного развития детей раннего возраста особыми потребно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монизация семейного взаимоде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-25992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4d4d"/>
                </a:solidFill>
                <a:latin typeface="Corbel"/>
              </a:rPr>
              <a:t>Клуб для родителей детей от 0 до 3 лет</a:t>
            </a:r>
            <a:br>
              <a:rPr sz="2400"/>
            </a:br>
            <a:r>
              <a:rPr b="0" lang="ru-RU" sz="2400" spc="-1" strike="noStrike">
                <a:solidFill>
                  <a:srgbClr val="264d4d"/>
                </a:solidFill>
                <a:latin typeface="Corbel"/>
              </a:rPr>
              <a:t> с </a:t>
            </a:r>
            <a:r>
              <a:rPr b="0" lang="ru-RU" sz="2800" spc="-1" strike="noStrike">
                <a:solidFill>
                  <a:srgbClr val="264d4d"/>
                </a:solidFill>
                <a:latin typeface="Corbel"/>
              </a:rPr>
              <a:t>ОВЗ</a:t>
            </a:r>
            <a:r>
              <a:rPr b="0" lang="ru-RU" sz="2400" spc="-1" strike="noStrike">
                <a:solidFill>
                  <a:srgbClr val="264d4d"/>
                </a:solidFill>
                <a:latin typeface="Corbel"/>
              </a:rPr>
              <a:t> «Академия воспитания»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Мастер – классы по темам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Работа с соленым тестом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Развитие продуктивной сферы ребенка раннего возраста с применением изобразительных технологий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Развитие  навыков звукоподражания у детей раннего возраста»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Развитие артикуляционной моторики у детей с задержкой речевого развит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Тематические семейные праздники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олотой листопад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стреча Нового года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мин праздник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аздник для папы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дравствуй, лето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Семинар-практикум</a:t>
            </a:r>
            <a:br>
              <a:rPr sz="3200"/>
            </a:br>
            <a:r>
              <a:rPr b="0" lang="ru-RU" sz="32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«Учимся вместе»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творчест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кам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ндашам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кам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Arial Black"/>
              </a:rPr>
              <a:t>Семинар-практикум</a:t>
            </a:r>
            <a:br>
              <a:rPr sz="2000"/>
            </a:br>
            <a:r>
              <a:rPr b="0" lang="ru-RU" sz="20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336666"/>
                </a:solidFill>
                <a:latin typeface="Arial Black"/>
              </a:rPr>
              <a:t>«Учимся вместе» практическая часть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917720" y="1905120"/>
            <a:ext cx="5384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Выставка детских работ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917720" y="1905120"/>
            <a:ext cx="5384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11-04T13:52:02Z</dcterms:modified>
  <cp:revision>1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