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AEF-6B01-4F3F-9C3D-D963E562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B10-A437-445B-B25F-1D0428B3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159-A623-41EE-A258-74BDB444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7B3-3801-43FC-BE29-7B65E8F6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1BC4-6992-4AB9-B1DD-BA4D16E9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BD53-141D-4240-8775-1240EDA4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7B17-F4C4-4F10-8679-DD7CE990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5B0F-276B-440A-A3F6-B0A3BEC9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2B1F-52A6-4D9D-B0C3-EC12089F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1591-EBC0-47D5-B860-CE38F760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193D-D3EA-41F2-B953-FB2743BB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2DD-FEDC-4266-ACFB-7F0F7213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2C57-A6DE-4D3A-A885-2F4E560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92A8-3BA4-440E-BC11-B74C4BEE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E3CB-D46D-44D0-AABC-3675E547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D09D-057D-4C7E-A082-4A714C4C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A7FA-EF0F-4A1D-9A29-96A079E4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DFF0-A85D-4F1C-88C5-DE9F24A2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CE188-19EE-42D2-BA3F-97EBE799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A37F-3EE6-4273-9198-E25A4D67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BCFA-1499-44C7-A8A1-55B769F4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8BA8-F263-49B4-A7AE-C9EC6167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C2F-923B-4B78-BF41-CF7AEFFD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3E46-9F05-47B9-80AB-059C21D8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3200-E1FA-4AD7-907D-F1A00FF3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DAB0-9291-4DE1-9350-E6D1119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14568-0022-4E0E-807F-26BCDF6C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B6F4E-BE32-4B87-AFB6-A139A042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DE1C3-0289-460F-BC12-6CBA5A7D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3763-F877-418A-83FA-49E6708D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FD14C-6F45-4083-84A8-86C9AF94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E0F8-C9AD-4CD3-BDC2-F726D091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8C12-6EA5-4BA6-AF7D-38B5857A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538-867F-484C-ACF7-9DBF0398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4A937-6E64-4501-B061-BC79F69D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DF1A-C198-425B-BFEF-BF70C326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D55F-0AB3-4932-9F8E-24A4F923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6ABCC-ECA8-4C84-A29B-823F6AD2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3754A-9574-46E6-8212-E0964A2E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7AE9-0E39-439D-B2A6-7656C813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1454-5A20-4EF6-B47C-89A7779D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CD06-EEF9-41E3-A988-55DC3074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D9748-C9C7-426D-8750-7FB22CB6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3EE9B-939C-47C6-95B5-5CD0FECD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5D6-1D6C-4A2E-B27F-0E0E4077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4BC4A-66AA-4F3B-91E9-D795E22E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A389-7DD3-4431-851A-31B9164F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3C4F6-5497-4A1F-AFAD-679480E0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BA039-7066-4F91-9598-C613E906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2300B-F649-457C-A0BF-A79DE9B0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0AD0D-CB1B-4819-BF63-550F8238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E4A6D-4272-4D96-983D-4EC04513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B0C22-2520-438D-94F7-A26496C0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4F9EB-0A1A-4756-8EF7-D85D6CEE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7B187-1118-410F-A493-A5249B81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5EC-8D5B-4639-BF84-8E6902D5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7812C-27F3-4714-A49F-1486CF8C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7CA-1AD4-48CC-B858-22F59210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2A7-334A-4DF1-B93C-E7488346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556-C697-4F78-ABD3-8094AF1C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8969-7617-412F-ADD5-DD1D6DE3B4A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4BAB-E74E-402F-80D3-8B29C9EA26D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710A-A14E-4D1D-B252-D69222D6B3C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1E74-5C8D-4B70-858C-0803A94F54F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A615-AA44-4CAF-AF28-F48A562EE54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2000160"/>
            <a:ext cx="8183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удрость родительской любв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1285920" y="714240"/>
            <a:ext cx="2500200" cy="1500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3786120" y="314316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642600"/>
            <a:ext cx="889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зусловная любовь не зависит:</a:t>
            </a:r>
            <a:br>
              <a:rPr sz="4000"/>
            </a:br>
            <a:r>
              <a:rPr b="0" lang="ru-RU" sz="4000" spc="-1" strike="noStrike">
                <a:solidFill>
                  <a:srgbClr val="f14c1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от внешности ребен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ни от его достоинств и недостатков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ни от способност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ни от сегодняшнего поведения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7720" y="5429160"/>
            <a:ext cx="8007480" cy="66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5214960" y="3857760"/>
            <a:ext cx="2428920" cy="1928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C:\Documents and Settings\админ\Рабочий стол\собрание конкурс\дев.jpeg"/>
          <p:cNvPicPr/>
          <p:nvPr/>
        </p:nvPicPr>
        <p:blipFill>
          <a:blip r:embed="rId2"/>
          <a:stretch/>
        </p:blipFill>
        <p:spPr>
          <a:xfrm>
            <a:off x="1357200" y="3857760"/>
            <a:ext cx="2571840" cy="1928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357440"/>
            <a:ext cx="81835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Я тебя люблю, мы рядом, мы вместе 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и мы все преодолеем»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C:\Documents and Settings\админ\Рабочий стол\собрание конкурс\052.jpg"/>
          <p:cNvPicPr/>
          <p:nvPr/>
        </p:nvPicPr>
        <p:blipFill>
          <a:blip r:embed="rId1"/>
          <a:stretch/>
        </p:blipFill>
        <p:spPr>
          <a:xfrm>
            <a:off x="1857240" y="714240"/>
            <a:ext cx="5286600" cy="3541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57160" y="836280"/>
            <a:ext cx="7500960" cy="39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ст «Какие мы родители»</a:t>
            </a:r>
            <a:br>
              <a:rPr sz="3600"/>
            </a:br>
            <a:br>
              <a:rPr sz="4000"/>
            </a:br>
            <a:r>
              <a:rPr b="1" lang="ru-RU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редлагается ответить на 14 вопросов. Отвечайте  быстро и откровенно. При ответе на вопрос вам надо записать одно из слов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»;  «ИНОГДА», «ОТЧАСТИ»;  «НЕТ»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водим итог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37720" y="1285560"/>
            <a:ext cx="8007480" cy="4809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 – ваши отношения с детьми в основном можно назвать благополучны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0 до 20 баллов – отношения можно оценить как удовлетворительные, но недостаточно многосторонние, вам следует подумать, как они должны быть улучшены и чем дополнен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баллов – ваши отношения с детьми явно недостаточны, необходимо принять срочные меры для  их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497196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юбовь родителей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довлетворять эмоциональные потребности ребенк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стая, дети задают один вопрос: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Вы любите меня?»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Picture 7" descr="C:\Users\123\Desktop\imagesCAA9P2S4.jpg"/>
          <p:cNvPicPr/>
          <p:nvPr/>
        </p:nvPicPr>
        <p:blipFill>
          <a:blip r:embed="rId1"/>
          <a:stretch/>
        </p:blipFill>
        <p:spPr>
          <a:xfrm>
            <a:off x="5715000" y="1857240"/>
            <a:ext cx="2638440" cy="2643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8183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юбовь умиления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стинктивная, неразумна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иногда наивная любовь.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Picture 5" descr="C:\Users\123\Desktop\imagesCA7EA4OF.jpg"/>
          <p:cNvPicPr/>
          <p:nvPr/>
        </p:nvPicPr>
        <p:blipFill>
          <a:blip r:embed="rId1"/>
          <a:stretch/>
        </p:blipFill>
        <p:spPr>
          <a:xfrm>
            <a:off x="2143080" y="3071880"/>
            <a:ext cx="4572000" cy="27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7320" y="714240"/>
            <a:ext cx="585756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спотическая любовь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бенка с малых лет извращается представление о добром начале в человеке, он перестает верить в человека и человечность.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Picture 4" descr="C:\Documents and Settings\админ\Рабочий стол\собрание конкурс\article-1165156-041D14F5000005DC-842_233x423(1).jpg"/>
          <p:cNvPicPr/>
          <p:nvPr/>
        </p:nvPicPr>
        <p:blipFill>
          <a:blip r:embed="rId1"/>
          <a:stretch/>
        </p:blipFill>
        <p:spPr>
          <a:xfrm>
            <a:off x="500040" y="1000080"/>
            <a:ext cx="2130480" cy="3867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3000240"/>
            <a:ext cx="818352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юбовь откуп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Родители видят свой долг  тольк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 обеспечении всех материальных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отребностей ребен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В семье царит атмосфера духовн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устоты, убожеств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4" descr="C:\Users\123\Desktop\imagesCAQ7WPZJ.jpg"/>
          <p:cNvPicPr/>
          <p:nvPr/>
        </p:nvPicPr>
        <p:blipFill>
          <a:blip r:embed="rId1"/>
          <a:stretch/>
        </p:blipFill>
        <p:spPr>
          <a:xfrm>
            <a:off x="3286080" y="10000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571320"/>
            <a:ext cx="81835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ой же должна быть подлинная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родительская любовь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?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4" descr="C:\Users\123\Desktop\imagesCA7NSKEY.jpg"/>
          <p:cNvPicPr/>
          <p:nvPr/>
        </p:nvPicPr>
        <p:blipFill>
          <a:blip r:embed="rId1"/>
          <a:stretch/>
        </p:blipFill>
        <p:spPr>
          <a:xfrm>
            <a:off x="6143760" y="10000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123\Desktop\untitled.png"/>
          <p:cNvPicPr/>
          <p:nvPr/>
        </p:nvPicPr>
        <p:blipFill>
          <a:blip r:embed="rId2"/>
          <a:stretch/>
        </p:blipFill>
        <p:spPr>
          <a:xfrm>
            <a:off x="785880" y="371484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5"/>
          <p:cNvSpPr/>
          <p:nvPr/>
        </p:nvSpPr>
        <p:spPr>
          <a:xfrm>
            <a:off x="714240" y="1643040"/>
            <a:ext cx="52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логи установили, что на воспитание детей у мамы и папы остается ежедне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лишь 17мину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3429000" y="3857760"/>
            <a:ext cx="5143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умайте, что вы можете  дать своему ребенку за это время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97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ем я согреваю своего ребенка, как я проявляю к нему свою любовь?»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3" descr="C:\Users\123\Desktop\imagesCAM4O0DZ.jpg"/>
          <p:cNvPicPr/>
          <p:nvPr/>
        </p:nvPicPr>
        <p:blipFill>
          <a:blip r:embed="rId1"/>
          <a:stretch/>
        </p:blipFill>
        <p:spPr>
          <a:xfrm>
            <a:off x="2786040" y="2286000"/>
            <a:ext cx="392904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3:02:25Z</dcterms:created>
  <dc:creator>зоя</dc:creator>
  <dc:description/>
  <dc:language>en-US</dc:language>
  <cp:lastModifiedBy>User</cp:lastModifiedBy>
  <dcterms:modified xsi:type="dcterms:W3CDTF">2014-10-16T08:44:59Z</dcterms:modified>
  <cp:revision>198</cp:revision>
  <dc:subject/>
  <dc:title>Слайд 1</dc:title>
</cp:coreProperties>
</file>