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2E85-E488-499A-BCBF-2C709F6FC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1A78-08EB-48E8-96AB-89D6335B6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913A-D900-43B4-A9C2-CA118B02A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99DF-06D1-4EF2-BDD4-D83607C00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E6098-85FD-415A-96B9-29E47551B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2CB7C-6E66-441A-8A16-6B359945F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E0806-8E9D-4025-ACAD-EFDB5628A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68D90-8B24-4AFE-B7A6-99DDF51E6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5C83D-CACB-4868-B470-1B8C08B5B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A2135-1B9A-4FD7-AF70-59D57DF38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B8843-4664-47E4-96A5-F3FD5FAD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E103-1A55-4B6D-A9CD-22FCCB9E3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E9C43-5F73-4F45-A094-DA861FE8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1BE0E-C087-41CB-A073-E228EA6E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2B92F-0F32-47A0-B180-DC70E70CB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883BF-418E-4068-A7D7-F52ED0771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A80A7-B593-4138-933E-919094BFE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CB26-4EDD-4BD0-BD02-82F88F382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2D5F-E4C7-4B61-8729-992493C37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2985-4B0E-42C1-8747-87631230D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DC1F-F1E8-4D75-89C9-38C62CDC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ED9E-1548-4D16-9F99-94EE5E66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CD05-01F6-44A1-B4A0-C09CE110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E047-010D-4673-B146-C252D5BB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E3521-C4B0-489F-B412-BD4BAFE23FC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2ED3C-1F60-47AF-9F2F-1F4EEA1D6BA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Школьный методический семинар как средство профессионального роста учител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3300480" y="4495680"/>
            <a:ext cx="57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кажи мне, и я забуду. Покажи мне, и я запомн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овлеки меня и я научус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Рефлексивный блок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ыявленные ошибки  при формулировании цели урок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295280" y="2666880"/>
          <a:ext cx="7315200" cy="4019400"/>
        </p:xfrm>
        <a:graphic>
          <a:graphicData uri="http://schemas.openxmlformats.org/drawingml/2006/table">
            <a:tbl>
              <a:tblPr/>
              <a:tblGrid>
                <a:gridCol w="3810240"/>
                <a:gridCol w="3504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уть ошиб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к нельзя формулирова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мена цели содержание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Познакомить учащихся с …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мена цели методом обуч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Рассказать учащимся о …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Показать учащимся…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мена цели  процессом деятельнос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Учащиеся решают задачи по теме…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Учащиеся выполняют работу…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Варианты формулировок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зда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формирова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ши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вести анализ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скрыть способ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явить закономерн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общи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спроизводить по предложенному алгоритм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амостоятельно выполнить зада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сследова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менить знания в  нестандартной (стандартной ) ситуац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тавить и разрещать проблем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сть много методов обучения кадров. Обучение в деятельности  приносит самые убедительные результа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Целеполагание  в обучающей деятельности учителя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362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то хочет достичь цели, должен знать е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eaeaea"/>
                </a:solidFill>
                <a:uFillTx/>
                <a:latin typeface="Tahoma"/>
              </a:rPr>
              <a:t>Целеполагание в обучающей деятельности учителя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частники: педагог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егламент: 1 час 40 мину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Форма проведения:  семинар – практикум с использованием групповой формы организации деятель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ЦЕЛЬ- ЭТО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ранее запланированный результат, который человек должен получить  в будущем в процессе осуществления той или иной деятель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Целеполагание- это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Процесс формулирования цели, процесс ее развертывания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Ю.А. Конаржевск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 аспек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знаватель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вивающ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спитывающ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Задание группам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спользуя информационно- методический материал выделить особенности познавательного, воспитательного и развивающего аспектов цели (презентация или стендовый доклад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Информационный блок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лгоритм анализа цели урока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пределить краткость, четкость и простоту формулировки цел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пределить, заложен ли  в формулировке конечный результат (диагностична  ли цель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пределить, чем вызвана постановка цели(требования учебной программы, интерес учащихся  и т.д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пределить связь цели урока с темой урока , перспективна ли цел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ыяснить реальность достижения цел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пределить как соотносится цель с  содержанием, с методами обучения, с формами организации  познавательной деятель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Задания группам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формулировать цель для разных типов урок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рок знакомства  с новым учебным материал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рок формирования новых умен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рок закрепления материал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рок систематизации  и обобщения материал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рок проверки и оценки знан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мц</cp:lastModifiedBy>
  <dcterms:modified xsi:type="dcterms:W3CDTF">2011-06-20T03:33:13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