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158413" cy="7621588"/>
  <p:notesSz cx="7621588" cy="10158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59240" y="1001520"/>
            <a:ext cx="5267520" cy="274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ем привлекали писателей сильные исторические лич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1625400" y="4454640"/>
            <a:ext cx="7492680" cy="1751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lnSpc>
                <a:spcPct val="10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Автор проект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9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Щербинина Маргарита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9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ченица 8 класс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" name="Shape 21" descr=""/>
          <p:cNvPicPr/>
          <p:nvPr/>
        </p:nvPicPr>
        <p:blipFill>
          <a:blip r:embed="rId2"/>
          <a:stretch/>
        </p:blipFill>
        <p:spPr>
          <a:xfrm>
            <a:off x="255600" y="857160"/>
            <a:ext cx="3841560" cy="57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hape 26" descr=""/>
          <p:cNvPicPr/>
          <p:nvPr/>
        </p:nvPicPr>
        <p:blipFill>
          <a:blip r:embed="rId2"/>
          <a:stretch/>
        </p:blipFill>
        <p:spPr>
          <a:xfrm>
            <a:off x="0" y="5386320"/>
            <a:ext cx="677880" cy="63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19240" y="425160"/>
            <a:ext cx="8577360" cy="163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01640" y="2179440"/>
            <a:ext cx="6353280" cy="277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80880" indent="0">
              <a:lnSpc>
                <a:spcPct val="12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Е.Пугачев – сильная историческая личность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hape 29" descr=""/>
          <p:cNvPicPr/>
          <p:nvPr/>
        </p:nvPicPr>
        <p:blipFill>
          <a:blip r:embed="rId3"/>
          <a:stretch/>
        </p:blipFill>
        <p:spPr>
          <a:xfrm>
            <a:off x="6375240" y="2081160"/>
            <a:ext cx="347220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hape 34" descr=""/>
          <p:cNvPicPr/>
          <p:nvPr/>
        </p:nvPicPr>
        <p:blipFill>
          <a:blip r:embed="rId2"/>
          <a:stretch/>
        </p:blipFill>
        <p:spPr>
          <a:xfrm>
            <a:off x="0" y="5386320"/>
            <a:ext cx="677880" cy="63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8520" y="569880"/>
            <a:ext cx="6111720" cy="3843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Цель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0033"/>
                </a:solidFill>
                <a:latin typeface="Arial"/>
              </a:rPr>
              <a:t>выяснить, в чем заключается противоречивость характера Пугач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Shape 45" descr=""/>
          <p:cNvPicPr/>
          <p:nvPr/>
        </p:nvPicPr>
        <p:blipFill>
          <a:blip r:embed="rId3"/>
          <a:stretch/>
        </p:blipFill>
        <p:spPr>
          <a:xfrm>
            <a:off x="6519960" y="1938240"/>
            <a:ext cx="313200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hape 42" descr=""/>
          <p:cNvPicPr/>
          <p:nvPr/>
        </p:nvPicPr>
        <p:blipFill>
          <a:blip r:embed="rId2"/>
          <a:stretch/>
        </p:blipFill>
        <p:spPr>
          <a:xfrm>
            <a:off x="0" y="5386320"/>
            <a:ext cx="677880" cy="63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0360" y="260280"/>
            <a:ext cx="8267760" cy="812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Емельян Пугачёв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7440" y="1828440"/>
            <a:ext cx="5778720" cy="50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водитель крестьянского восстания. Он – беглый донской казак “лет сорока”, выдающий себя за покойного царя Петра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был росту среднего, худощав и широкоплеч. В черной бороде его показывалась просед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ые большие глаза так и бегали. Лицо его имело выражение довольно приятное, но плутовское. Волосы были обстрижены в кружок; на нем был оборванный армяк и татарские шаровары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лантливый военачальник, хороший организатор, человек недюжинного ума, трезво оценивающий своих соратников, сильный и мужественный предводи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https://lh3.googleusercontent.com/-JWBYdjrOEqM1cwtmJTUXVTLAsJeuTmgt3gUTEbVVRaTKC6FKG9EtC3X_a_RB1hZM0_VDIke4OY2GOlk6UQgnJUaFI50UWS2otOGktG4ZbSG0KoW1892lKi9C6Fi"/>
          <p:cNvPicPr/>
          <p:nvPr/>
        </p:nvPicPr>
        <p:blipFill>
          <a:blip r:embed="rId3"/>
          <a:stretch/>
        </p:blipFill>
        <p:spPr>
          <a:xfrm>
            <a:off x="7024680" y="138240"/>
            <a:ext cx="2952720" cy="38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hape 50" descr=""/>
          <p:cNvPicPr/>
          <p:nvPr/>
        </p:nvPicPr>
        <p:blipFill>
          <a:blip r:embed="rId2"/>
          <a:stretch/>
        </p:blipFill>
        <p:spPr>
          <a:xfrm>
            <a:off x="0" y="5386320"/>
            <a:ext cx="677880" cy="63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080" y="360000"/>
            <a:ext cx="8509320" cy="124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20960" y="1781280"/>
            <a:ext cx="5513400" cy="50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80880" indent="0" algn="ctr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2416320" y="1938240"/>
            <a:ext cx="691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Емельяна Пугачёва действительно бы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ильной исторической лич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то мужественный, талантливый, сильный предводитель, умеющий оценить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угачёв – это человек-легенда. Много споров ходит вокруг его имени до сих пор, и немаловажную роль играет в этом противоречивый нрав бунтар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0000</cp:lastModifiedBy>
  <dcterms:modified xsi:type="dcterms:W3CDTF">2014-06-20T12:46:26Z</dcterms:modified>
  <cp:revision>5</cp:revision>
  <dc:subject/>
  <dc:title>А.С. Пушкин «Капитанская дочка»</dc:title>
</cp:coreProperties>
</file>