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coin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48920" y="639360"/>
            <a:ext cx="5069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904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201680" y="4784400"/>
            <a:ext cx="537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01680" y="4784400"/>
            <a:ext cx="537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201680" y="4784400"/>
            <a:ext cx="537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01680" y="4784400"/>
            <a:ext cx="537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201680" y="4784400"/>
            <a:ext cx="537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201680" y="4784400"/>
            <a:ext cx="537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349280" y="965160"/>
            <a:ext cx="5072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201680" y="4784400"/>
            <a:ext cx="537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602240"/>
            <a:ext cx="860436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60224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60224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20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040" y="2101680"/>
            <a:ext cx="277020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680"/>
            <a:ext cx="277020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602240"/>
            <a:ext cx="277020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040" y="4602240"/>
            <a:ext cx="277020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602240"/>
            <a:ext cx="277020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154080"/>
            <a:ext cx="8604360" cy="9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60224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60224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602240"/>
            <a:ext cx="8604360" cy="22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marL="312840" indent="-236520">
              <a:lnSpc>
                <a:spcPct val="19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7840" indent="-208440">
              <a:lnSpc>
                <a:spcPct val="19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3200" indent="-156600">
              <a:lnSpc>
                <a:spcPct val="1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58200" indent="-155160">
              <a:lnSpc>
                <a:spcPct val="19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73560" indent="-156240">
              <a:lnSpc>
                <a:spcPct val="1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73560" indent="-156240">
              <a:lnSpc>
                <a:spcPct val="1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73560" indent="-156240">
              <a:lnSpc>
                <a:spcPct val="1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4760"/>
            <a:ext cx="8609040" cy="8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роект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2560" y="2866320"/>
            <a:ext cx="8609040" cy="15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Учимся мысли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008000" y="5230440"/>
            <a:ext cx="860904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6000"/>
              </a:lnSpc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едагог-психолог 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116000"/>
              </a:lnSpc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Э.Р. Зайдуллина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transition>
    <p:cover dir="u"/>
    <p:sndAc>
      <p:stSnd>
        <p:snd r:embed="rId1" name="co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53720"/>
            <a:ext cx="854712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Игры на развитие психических процессов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G_4397"/>
          <p:cNvPicPr/>
          <p:nvPr/>
        </p:nvPicPr>
        <p:blipFill>
          <a:blip r:embed="rId1"/>
          <a:stretch/>
        </p:blipFill>
        <p:spPr>
          <a:xfrm>
            <a:off x="503280" y="2195640"/>
            <a:ext cx="4444920" cy="3333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IMG_4398"/>
          <p:cNvPicPr/>
          <p:nvPr/>
        </p:nvPicPr>
        <p:blipFill>
          <a:blip r:embed="rId2"/>
          <a:stretch/>
        </p:blipFill>
        <p:spPr>
          <a:xfrm>
            <a:off x="5040360" y="3492360"/>
            <a:ext cx="4616280" cy="346104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coi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0880" y="153720"/>
            <a:ext cx="860436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Кинезиологические упражнения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741240" y="2101680"/>
            <a:ext cx="8604360" cy="478656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coi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MG_4391"/>
          <p:cNvPicPr/>
          <p:nvPr/>
        </p:nvPicPr>
        <p:blipFill>
          <a:blip r:embed="rId1"/>
          <a:stretch/>
        </p:blipFill>
        <p:spPr>
          <a:xfrm>
            <a:off x="719280" y="755640"/>
            <a:ext cx="8731080" cy="655020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coi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153720"/>
            <a:ext cx="86043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«Ухо-нос на занятии»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MG_4395"/>
          <p:cNvPicPr/>
          <p:nvPr/>
        </p:nvPicPr>
        <p:blipFill>
          <a:blip r:embed="rId1"/>
          <a:stretch/>
        </p:blipFill>
        <p:spPr>
          <a:xfrm>
            <a:off x="1511280" y="1835280"/>
            <a:ext cx="6905520" cy="518004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coi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153720"/>
            <a:ext cx="860436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Лезгинк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G_4392"/>
          <p:cNvPicPr/>
          <p:nvPr/>
        </p:nvPicPr>
        <p:blipFill>
          <a:blip r:embed="rId1"/>
          <a:stretch/>
        </p:blipFill>
        <p:spPr>
          <a:xfrm>
            <a:off x="1295280" y="1763640"/>
            <a:ext cx="7383600" cy="553716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153720"/>
            <a:ext cx="860436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Сочиняем сказки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MG_4377"/>
          <p:cNvPicPr/>
          <p:nvPr/>
        </p:nvPicPr>
        <p:blipFill>
          <a:blip r:embed="rId1"/>
          <a:stretch/>
        </p:blipFill>
        <p:spPr>
          <a:xfrm>
            <a:off x="576360" y="1908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MG_4378"/>
          <p:cNvPicPr/>
          <p:nvPr/>
        </p:nvPicPr>
        <p:blipFill>
          <a:blip r:embed="rId2"/>
          <a:stretch/>
        </p:blipFill>
        <p:spPr>
          <a:xfrm>
            <a:off x="5278320" y="3560760"/>
            <a:ext cx="4299120" cy="322416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coi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40880" y="2101680"/>
            <a:ext cx="8604360" cy="51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ши эмоции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Picture 5" descr="IMG_4407"/>
          <p:cNvPicPr/>
          <p:nvPr/>
        </p:nvPicPr>
        <p:blipFill>
          <a:blip r:embed="rId1"/>
          <a:stretch/>
        </p:blipFill>
        <p:spPr>
          <a:xfrm>
            <a:off x="4896000" y="1476360"/>
            <a:ext cx="4854600" cy="3382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G_4406"/>
          <p:cNvPicPr/>
          <p:nvPr/>
        </p:nvPicPr>
        <p:blipFill>
          <a:blip r:embed="rId2"/>
          <a:stretch/>
        </p:blipFill>
        <p:spPr>
          <a:xfrm>
            <a:off x="719280" y="1476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G_4384"/>
          <p:cNvPicPr/>
          <p:nvPr/>
        </p:nvPicPr>
        <p:blipFill>
          <a:blip r:embed="rId3"/>
          <a:stretch/>
        </p:blipFill>
        <p:spPr>
          <a:xfrm>
            <a:off x="3024360" y="4284720"/>
            <a:ext cx="4365360" cy="327492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4" name="coi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548280"/>
            <a:ext cx="86090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154080"/>
            <a:ext cx="86043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ч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0">
              <a:lnSpc>
                <a:spcPct val="1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4586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004586"/>
                </a:solidFill>
                <a:latin typeface="Arial"/>
              </a:rPr>
              <a:t>Развитие у детей наглядно-образн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0">
              <a:lnSpc>
                <a:spcPct val="1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4586"/>
                </a:solidFill>
                <a:latin typeface="Arial"/>
              </a:rPr>
              <a:t>2.Развитие у детей наглядно-дей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0">
              <a:lnSpc>
                <a:spcPct val="1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4586"/>
                </a:solidFill>
                <a:latin typeface="Arial"/>
              </a:rPr>
              <a:t>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0">
              <a:lnSpc>
                <a:spcPct val="1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4586"/>
                </a:solidFill>
                <a:latin typeface="Arial"/>
              </a:rPr>
              <a:t>3. Развитие умения устанавливать причинно-следственны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0">
              <a:lnSpc>
                <a:spcPct val="1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4586"/>
                </a:solidFill>
                <a:latin typeface="Arial"/>
              </a:rPr>
              <a:t>4.Развитие умение</a:t>
            </a:r>
            <a:r>
              <a:rPr b="0" i="1" lang="ru-RU" sz="2800" spc="-1" strike="noStrike">
                <a:solidFill>
                  <a:srgbClr val="00458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4586"/>
                </a:solidFill>
                <a:latin typeface="Arial"/>
              </a:rPr>
              <a:t>классифицировать, сравн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0">
              <a:lnSpc>
                <a:spcPct val="1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4586"/>
                </a:solidFill>
                <a:latin typeface="Arial"/>
              </a:rPr>
              <a:t>5.Развитие словесно-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0">
              <a:lnSpc>
                <a:spcPct val="1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295280" y="2195640"/>
            <a:ext cx="79218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Bitstream Vera Sans"/>
              </a:rPr>
              <a:t>«Умного пошли - одно слово скажи,</a:t>
            </a:r>
            <a:br>
              <a:rPr sz="5400"/>
            </a:br>
            <a:r>
              <a:rPr b="1" lang="en-GB" sz="5400" spc="-1" strike="noStrike">
                <a:solidFill>
                  <a:srgbClr val="333333"/>
                </a:solidFill>
                <a:latin typeface="Bitstream Vera Sans"/>
              </a:rPr>
              <a:t>дурака пошли – три слова скажи, да и сам поди».</a:t>
            </a:r>
            <a:br>
              <a:rPr sz="5400"/>
            </a:br>
            <a:r>
              <a:rPr b="1" lang="en-GB" sz="5400" spc="-1" strike="noStrike">
                <a:solidFill>
                  <a:srgbClr val="333333"/>
                </a:solidFill>
                <a:latin typeface="Bitstream Vera Sans"/>
              </a:rPr>
              <a:t>(Народная мудрость)</a:t>
            </a:r>
            <a:endParaRPr b="0" lang="en-US" sz="5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transition>
    <p:cover dir="u"/>
    <p:sndAc>
      <p:stSnd>
        <p:snd r:embed="rId1" name="co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900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Актуальность проблем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779400"/>
            <a:ext cx="8609040" cy="66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2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2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Современная школа требует от детей поступающих в первый класс, не столько каких-либо специальных знаний, сколько сложных форм умственной аналитико-синтатическ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24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8720"/>
            <a:ext cx="8609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Алгоритм развития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мыслительной деятельности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детей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622520" y="2257560"/>
            <a:ext cx="7380360" cy="900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Формирование понятийного аппарата</a:t>
            </a: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604880" y="3543480"/>
            <a:ext cx="7380360" cy="900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Формирование умения строить суждения</a:t>
            </a: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589040" y="4786200"/>
            <a:ext cx="7380360" cy="90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Учить делать элементарные выводы и умозаключения</a:t>
            </a: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60600" y="6078600"/>
            <a:ext cx="7380360" cy="900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Формирование приемов рассуждения и умозаключения</a:t>
            </a: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cxnSp>
        <p:nvCxnSpPr>
          <p:cNvPr id="60" name="AutoShape 6"/>
          <p:cNvCxnSpPr>
            <a:stCxn id="56" idx="2"/>
            <a:endCxn id="57" idx="0"/>
          </p:cNvCxnSpPr>
          <p:nvPr/>
        </p:nvCxnSpPr>
        <p:spPr>
          <a:xfrm flipH="1">
            <a:off x="5293440" y="3157560"/>
            <a:ext cx="1836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7"/>
          <p:cNvCxnSpPr>
            <a:stCxn id="57" idx="2"/>
            <a:endCxn id="58" idx="0"/>
          </p:cNvCxnSpPr>
          <p:nvPr/>
        </p:nvCxnSpPr>
        <p:spPr>
          <a:xfrm flipH="1">
            <a:off x="5277960" y="4443480"/>
            <a:ext cx="1656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8"/>
          <p:cNvCxnSpPr>
            <a:stCxn id="58" idx="2"/>
            <a:endCxn id="59" idx="0"/>
          </p:cNvCxnSpPr>
          <p:nvPr/>
        </p:nvCxnSpPr>
        <p:spPr>
          <a:xfrm flipH="1">
            <a:off x="5249160" y="5686200"/>
            <a:ext cx="291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u"/>
    <p:sndAc>
      <p:stSnd>
        <p:snd r:embed="rId1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Ожидаемые результат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73320"/>
            <a:ext cx="860904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2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оставление системы использования игр, упражнений и занятий по развитию словесно-логического мышления до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2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Формирование у дошкольников всех форм мышления в результате использо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, упражнений, занятий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2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аботка методических рекомендаций воспитателям детских садов, родителям по развитию логического мышления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323640"/>
            <a:ext cx="8607600" cy="10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Учимся думать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6" name="Picture 6" descr="IMG_4380"/>
          <p:cNvPicPr/>
          <p:nvPr/>
        </p:nvPicPr>
        <p:blipFill>
          <a:blip r:embed="rId1"/>
          <a:stretch/>
        </p:blipFill>
        <p:spPr>
          <a:xfrm>
            <a:off x="431640" y="1908000"/>
            <a:ext cx="5042160" cy="378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G_4411"/>
          <p:cNvPicPr/>
          <p:nvPr/>
        </p:nvPicPr>
        <p:blipFill>
          <a:blip r:embed="rId2"/>
          <a:stretch/>
        </p:blipFill>
        <p:spPr>
          <a:xfrm>
            <a:off x="5472000" y="410364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84360"/>
            <a:ext cx="85471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Игры для развития логического мышления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9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G_4387"/>
          <p:cNvPicPr/>
          <p:nvPr/>
        </p:nvPicPr>
        <p:blipFill>
          <a:blip r:embed="rId1"/>
          <a:stretch/>
        </p:blipFill>
        <p:spPr>
          <a:xfrm>
            <a:off x="503280" y="2124000"/>
            <a:ext cx="4921200" cy="369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G_4388"/>
          <p:cNvPicPr/>
          <p:nvPr/>
        </p:nvPicPr>
        <p:blipFill>
          <a:blip r:embed="rId2"/>
          <a:stretch/>
        </p:blipFill>
        <p:spPr>
          <a:xfrm>
            <a:off x="5400720" y="3780000"/>
            <a:ext cx="4219560" cy="3163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153720"/>
            <a:ext cx="860436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Игры для развития мелкой</a:t>
            </a:r>
            <a:br>
              <a:rPr sz="3600"/>
            </a:b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моторик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741240" y="2101680"/>
            <a:ext cx="8604360" cy="478656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co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Владимировна</cp:lastModifiedBy>
  <dcterms:modified xsi:type="dcterms:W3CDTF">2014-04-10T07:02:49Z</dcterms:modified>
  <cp:revision>24</cp:revision>
  <dc:subject/>
  <dc:title>Научно-исследовательский проект</dc:title>
</cp:coreProperties>
</file>