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C23-59A4-4A0A-BD24-A24DBB49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4E1-3D08-4300-9922-7C00507F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D35-46BD-40B4-BC1A-8543481E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F18-2DC1-4E0B-866F-751F0FC1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714-0558-4FAA-A49F-31B8D9E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56E-2CD9-4BB2-8A0D-A779ACC8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28A-33A0-4D10-A8AD-7696BB7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B27-6894-4FDC-87E1-23FB1C85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7D8-0CA8-4203-AAE3-38C288DE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086-A591-44C3-AD68-2F33176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507-7C1B-480F-AC82-03526CE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1B4-CA66-4266-8818-5768D9A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2167-E8F2-4E6C-977E-D1C2727D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чимся строить векторные диаграмм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2852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Однофазные неразветвленные цепи переменн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72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Часть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цепь неразветвленная, строим векторную диаграмму напряжений. Ток одинаков на всех элементах, начинаем построение с вектора 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/>
          <p:nvPr/>
        </p:nvCxnSpPr>
        <p:spPr>
          <a:xfrm>
            <a:off x="3058920" y="5589360"/>
            <a:ext cx="1369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6" name=""/>
          <p:cNvCxnSpPr/>
          <p:nvPr/>
        </p:nvCxnSpPr>
        <p:spPr>
          <a:xfrm>
            <a:off x="3058920" y="5589360"/>
            <a:ext cx="1369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oval" w="med"/>
          </a:ln>
        </p:spPr>
      </p:cxn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48360" cy="161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436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/>
          <p:nvPr/>
        </p:nvCxnSpPr>
        <p:spPr>
          <a:xfrm flipH="1">
            <a:off x="3276360" y="2420640"/>
            <a:ext cx="50400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85128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41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50289E-006 L 0.14947 1.50289E-006 E">
                                      <p:cBhvr>
                                        <p:cTn id="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54480" cy="162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ащаем вектора против часовой стр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3059280" y="5589360"/>
            <a:ext cx="2737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oval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flipH="1">
            <a:off x="5363280" y="5157720"/>
            <a:ext cx="792360" cy="7192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4198" y="20360"/>
                </a:moveTo>
                <a:arcTo wR="-10146" hR="-10146" stAng="4226081" swAng="-4209337"/>
                <a:lnTo>
                  <a:pt x="0" y="10747"/>
                </a:lnTo>
                <a:arcTo wR="10800" hR="10800" stAng="-10783257" swAng="4209337"/>
                <a:lnTo>
                  <a:pt x="6279" y="-1921"/>
                </a:lnTo>
                <a:lnTo>
                  <a:pt x="10145" y="-82"/>
                </a:lnTo>
                <a:lnTo>
                  <a:pt x="8306" y="378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/>
          <p:nvPr/>
        </p:nvCxnSpPr>
        <p:spPr>
          <a:xfrm flipH="1">
            <a:off x="3276360" y="2420640"/>
            <a:ext cx="50400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378000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141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46560" cy="161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напряжения на активном сопротивлении совпадает с вектором 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59280" y="5589360"/>
            <a:ext cx="2737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oval" w="med"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 flipH="1">
            <a:off x="5363280" y="5157720"/>
            <a:ext cx="792360" cy="7192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4198" y="20360"/>
                </a:moveTo>
                <a:arcTo wR="-10146" hR="-10146" stAng="4226081" swAng="-4209337"/>
                <a:lnTo>
                  <a:pt x="0" y="10747"/>
                </a:lnTo>
                <a:arcTo wR="10800" hR="10800" stAng="-10783257" swAng="4209337"/>
                <a:lnTo>
                  <a:pt x="6279" y="-1921"/>
                </a:lnTo>
                <a:lnTo>
                  <a:pt x="10145" y="-82"/>
                </a:lnTo>
                <a:lnTo>
                  <a:pt x="8306" y="378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3203640" y="5648040"/>
            <a:ext cx="937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>
            <a:off x="3059280" y="5648400"/>
            <a:ext cx="79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4572000" y="5661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/>
          <p:nvPr/>
        </p:nvCxnSpPr>
        <p:spPr>
          <a:xfrm flipH="1">
            <a:off x="3276360" y="2420640"/>
            <a:ext cx="50400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85128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692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141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8.67052E-007 L 0.06302 8.67052E-007 E">
                                      <p:cBhvr>
                                        <p:cTn id="2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54480" cy="1622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напряжения на индуктивности опережает вектор тока на 9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оим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ика в хвост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3059280" y="5589360"/>
            <a:ext cx="2737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oval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 flipH="1">
            <a:off x="5363280" y="5157720"/>
            <a:ext cx="792360" cy="7192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4198" y="20360"/>
                </a:moveTo>
                <a:arcTo wR="-10146" hR="-10146" stAng="4226081" swAng="-4209337"/>
                <a:lnTo>
                  <a:pt x="0" y="10747"/>
                </a:lnTo>
                <a:arcTo wR="10800" hR="10800" stAng="-10783257" swAng="4209337"/>
                <a:lnTo>
                  <a:pt x="6279" y="-1921"/>
                </a:lnTo>
                <a:lnTo>
                  <a:pt x="10145" y="-82"/>
                </a:lnTo>
                <a:lnTo>
                  <a:pt x="8306" y="378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/>
          <p:nvPr/>
        </p:nvCxnSpPr>
        <p:spPr>
          <a:xfrm>
            <a:off x="3203640" y="5648040"/>
            <a:ext cx="1513440" cy="1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3059280" y="5648400"/>
            <a:ext cx="79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4572000" y="5661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/>
          <p:nvPr/>
        </p:nvCxnSpPr>
        <p:spPr>
          <a:xfrm flipV="1">
            <a:off x="4716000" y="5013000"/>
            <a:ext cx="2520" cy="504000"/>
          </a:xfrm>
          <a:prstGeom prst="straightConnector1">
            <a:avLst/>
          </a:prstGeom>
          <a:ln w="9360">
            <a:solidFill>
              <a:srgbClr val="009999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 flipV="1">
            <a:off x="4716000" y="4581000"/>
            <a:ext cx="1080" cy="72000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788000" y="4221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/>
          <p:nvPr/>
        </p:nvCxnSpPr>
        <p:spPr>
          <a:xfrm flipH="1">
            <a:off x="3276360" y="2420640"/>
            <a:ext cx="50400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85128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692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141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692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5896E-006 L 1.38889E-006 -0.04185 E">
                                      <p:cBhvr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54480" cy="162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яжения приложенного к це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г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угол между током и напряже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3059280" y="5589360"/>
            <a:ext cx="2737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oval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5363280" y="5157720"/>
            <a:ext cx="792360" cy="7192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4198" y="20360"/>
                </a:moveTo>
                <a:arcTo wR="-10146" hR="-10146" stAng="4226081" swAng="-4209337"/>
                <a:lnTo>
                  <a:pt x="0" y="10747"/>
                </a:lnTo>
                <a:arcTo wR="10800" hR="10800" stAng="-10783257" swAng="4209337"/>
                <a:lnTo>
                  <a:pt x="6279" y="-1921"/>
                </a:lnTo>
                <a:lnTo>
                  <a:pt x="10145" y="-82"/>
                </a:lnTo>
                <a:lnTo>
                  <a:pt x="8306" y="378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3203640" y="5648040"/>
            <a:ext cx="1513440" cy="1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3059280" y="5648400"/>
            <a:ext cx="79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4572000" y="5661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V="1">
            <a:off x="4716000" y="5013000"/>
            <a:ext cx="2520" cy="504000"/>
          </a:xfrm>
          <a:prstGeom prst="straightConnector1">
            <a:avLst/>
          </a:prstGeom>
          <a:ln w="9360">
            <a:solidFill>
              <a:srgbClr val="009999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 flipV="1">
            <a:off x="4716000" y="4292280"/>
            <a:ext cx="1080" cy="100872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788000" y="4221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3058920" y="4291920"/>
            <a:ext cx="1657800" cy="1297800"/>
          </a:xfrm>
          <a:prstGeom prst="straightConnector1">
            <a:avLst/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85128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 flipH="1">
            <a:off x="3276360" y="2420640"/>
            <a:ext cx="50400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85128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692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41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692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155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2:25:23Z</dcterms:created>
  <dc:creator>San</dc:creator>
  <dc:description/>
  <dc:language>en-US</dc:language>
  <cp:lastModifiedBy>Саша</cp:lastModifiedBy>
  <dcterms:modified xsi:type="dcterms:W3CDTF">2003-09-06T02:42:45Z</dcterms:modified>
  <cp:revision>58</cp:revision>
  <dc:subject/>
  <dc:title>Слайд 1</dc:title>
</cp:coreProperties>
</file>