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99E-AA08-4E93-A43E-245A12BB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5EC-2301-4B9E-9264-16DCB93F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958-FBE4-4C15-8CFB-D205FDAE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4F6-7EB8-475A-A170-41251C65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21FB-4BB7-45DD-A482-F0269A93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C249-DE61-4BC7-A15E-8A5A3F3B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14C4-5CE7-468D-9030-D8A2A0FF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2EC5-C009-4B3E-93C5-2A5A2B5F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E903-87CF-44F1-9AA2-BF9A929D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90CD-4861-456F-93EE-300AF701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D99D-BC29-40A5-889E-4FEE7B7D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D5D-C4BD-4CB5-8C28-1797A3A7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CA84-01CF-4E5D-94E8-943A8541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0095-5576-4D17-90F6-2D7995B8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9629-6267-48B7-81F8-E8A82D73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0F98-1C23-43C3-8A97-499B691A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C9A2-3292-418B-9198-B94759B8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E7B-D1BD-4AB7-A55D-1CE5ACEE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9B3-63E7-4D7D-9995-11E29CC2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988-F373-44D1-AE1D-A1BF4D36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864-730D-4FC8-86D0-77019551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22B-1D66-4D7E-AA8F-46B69877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D48-3582-4019-8DAE-EB2811A1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82E-2715-46AF-A896-91ED044E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FFBF-39EF-42BB-B7F2-DD53B3FC601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FE52-9B7C-4FB7-B74F-0F479608F15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18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Географический диктант:</a:t>
            </a:r>
            <a:br>
              <a:rPr sz="36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29600" cy="63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етер, дующий днем с моря на сушу, ночью, с суши на мор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2. Слой атмосферы, расположенный над тропосферой, высотой до 50к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3. Движение воздуха в горизонтальном направлен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4. Прибор для измерения атмосферного давлен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5. Сезонные ветр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6. Нижний слой атмосфер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7. Разность между наибольшим и наименьшим значениями температуры воздуха в течении определенного времен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8. Воздушная оболочка Земл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9. Прибор для измерении температур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0. Сухой горячий ветер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" descr="Слайд 8"/>
          <p:cNvPicPr/>
          <p:nvPr/>
        </p:nvPicPr>
        <p:blipFill>
          <a:blip r:embed="rId1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Слайд 9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" descr="Слайд 10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" descr="Слайд 11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" descr="Слайд 12"/>
          <p:cNvPicPr/>
          <p:nvPr/>
        </p:nvPicPr>
        <p:blipFill>
          <a:blip r:embed="rId1"/>
          <a:stretch/>
        </p:blipFill>
        <p:spPr>
          <a:xfrm>
            <a:off x="0" y="-71280"/>
            <a:ext cx="929952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" descr="Слайд 13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685800"/>
            <a:ext cx="3684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адание на дом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п.29 стр.119 -121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76320"/>
            <a:ext cx="1236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88640"/>
            <a:ext cx="8226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Ответы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Бриз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Стратосфер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Ветер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Барометр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Муссон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Тропосфера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Амплитуда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Атмосфера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Термометр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Фён</a:t>
            </a: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Слайд 1"/>
          <p:cNvPicPr/>
          <p:nvPr/>
        </p:nvPicPr>
        <p:blipFill>
          <a:blip r:embed="rId1"/>
          <a:srcRect l="0" t="0" r="0" b="201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Слайд 2"/>
          <p:cNvPicPr/>
          <p:nvPr/>
        </p:nvPicPr>
        <p:blipFill>
          <a:blip r:embed="rId1"/>
          <a:stretch/>
        </p:blipFill>
        <p:spPr>
          <a:xfrm>
            <a:off x="0" y="-71280"/>
            <a:ext cx="929952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Слайд 3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Слайд 4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Слайд 5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Слайд 6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" descr="Слайд 7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8:43:02Z</dcterms:created>
  <dc:creator>Мзоков</dc:creator>
  <dc:description/>
  <dc:language>en-US</dc:language>
  <cp:lastModifiedBy>Мзоков</cp:lastModifiedBy>
  <dcterms:modified xsi:type="dcterms:W3CDTF">2014-03-28T17:54:53Z</dcterms:modified>
  <cp:revision>6</cp:revision>
  <dc:subject/>
  <dc:title>Слайд 1</dc:title>
</cp:coreProperties>
</file>