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80B-F850-4688-85B0-7194357F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88F-3A3D-40D9-B217-DA62B1A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3CC-A95E-4C38-B385-4CAE33D1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E90-517E-4C43-A5C8-CD91AC34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AF7-2402-49E8-ABB3-1050070E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AE5-E592-4E94-A6C2-3CF112E7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11A-432A-4A25-A7FE-0BDBF4DA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C3F-CF6A-43FF-8227-49AED6F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916-4E49-471E-A219-562A120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301-EB06-41A0-BC5C-D6CA29A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6A2-BA67-48EF-8AED-71D9807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404-1760-43CB-BB39-A74CB0E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561-3B98-4B8B-A45B-06C0C593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Русские природные заповед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Для посетителей здесь разработаны довольно увлекательные маршруты: «Хутуда-Би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Лапландский заповедник Самая крупная из охраняемых в Европе заповедных территор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На его территории удалось сберечь девственные старовозрастные леса, общий возра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Нижнесвирский заповедник Территория данного объекта, а конкретно его водно-боло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Территория достопримечательности вместе с ее окрестностями рассматривается как 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Приокско-Террасный заповедник Единственный заповедник в Московской области, а 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стати сказать, именно посещение зубрового питомника – неотъемлемая составляющ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Заповедник — охраняемая природная территория, на которой под охраной находится в"/>
          <p:cNvPicPr/>
          <p:nvPr/>
        </p:nvPicPr>
        <p:blipFill>
          <a:blip r:embed="rId1"/>
          <a:stretch/>
        </p:blipFill>
        <p:spPr>
          <a:xfrm>
            <a:off x="0" y="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Заповедная земля – неприкосновенная земля НЕЛЬЗЯ охотиться на птицу и зверя, лов"/>
          <p:cNvPicPr/>
          <p:nvPr/>
        </p:nvPicPr>
        <p:blipFill>
          <a:blip r:embed="rId1"/>
          <a:stretch/>
        </p:blipFill>
        <p:spPr>
          <a:xfrm>
            <a:off x="0" y="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Только ступив на заповедные земли, можно вдохнуть чистейший воздух, насладить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Ильменский заповедник Создан в 1920 году.Расположен на Урале.Территория заповедн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Создан для охраны минеральных богатств УралаОбнаружено более 200 разновиднос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Животные 48 видов млекопитающих163 вида птиц6 видов пресмыкающихся3 вида земно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Дальневосточный морской заповедник Находится на Дальнем востоке в Японском море,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Создан в 1978 годуРыбы – более 100 видов. Моллюски, иглокожие, ракообразные б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Заповедник «Остров Врангеля» Арктический остров расположен между Восточно-Сибирс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Заповедник на острове ВрангеляОснован в 1976 году, площадь 795 тысяч га.Обитают"/>
          <p:cNvPicPr/>
          <p:nvPr/>
        </p:nvPicPr>
        <p:blipFill>
          <a:blip r:embed="rId1"/>
          <a:stretch/>
        </p:blipFill>
        <p:spPr>
          <a:xfrm>
            <a:off x="0" y="0"/>
            <a:ext cx="5076720" cy="379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Остров Врангеля – «родимый дом» белых медведей.На острове до 250 берлог."/>
          <p:cNvPicPr/>
          <p:nvPr/>
        </p:nvPicPr>
        <p:blipFill>
          <a:blip r:embed="rId2"/>
          <a:stretch/>
        </p:blipFill>
        <p:spPr>
          <a:xfrm>
            <a:off x="468360" y="4076640"/>
            <a:ext cx="3384360" cy="2533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Овцебык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Таймырский заповедник Расположен в Тундре на Таймырском полуострове."/>
          <p:cNvPicPr/>
          <p:nvPr/>
        </p:nvPicPr>
        <p:blipFill>
          <a:blip r:embed="rId1"/>
          <a:stretch/>
        </p:blipFill>
        <p:spPr>
          <a:xfrm>
            <a:off x="155520" y="46080"/>
            <a:ext cx="4703760" cy="3519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Дикий северный оленьОвцебыкКраснозобая казаркаСокол-сапсан"/>
          <p:cNvPicPr/>
          <p:nvPr/>
        </p:nvPicPr>
        <p:blipFill>
          <a:blip r:embed="rId2"/>
          <a:stretch/>
        </p:blipFill>
        <p:spPr>
          <a:xfrm>
            <a:off x="3492360" y="2997360"/>
            <a:ext cx="50389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Приокско-Террасный заповедник Находится на юге Московской области, на берегу Оки"/>
          <p:cNvPicPr/>
          <p:nvPr/>
        </p:nvPicPr>
        <p:blipFill>
          <a:blip r:embed="rId1"/>
          <a:stretch/>
        </p:blipFill>
        <p:spPr>
          <a:xfrm>
            <a:off x="0" y="0"/>
            <a:ext cx="5219640" cy="390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Всю территорию заповедника занимает лес.Разные типы лесов. Хвойный лесСмешанный"/>
          <p:cNvPicPr/>
          <p:nvPr/>
        </p:nvPicPr>
        <p:blipFill>
          <a:blip r:embed="rId2"/>
          <a:stretch/>
        </p:blipFill>
        <p:spPr>
          <a:xfrm>
            <a:off x="0" y="3678120"/>
            <a:ext cx="4248000" cy="317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Мелколиственные леса Березовый лесОсиновый лес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34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Широколиственные леса Дубовый лесЛиповый лес"/>
          <p:cNvPicPr/>
          <p:nvPr/>
        </p:nvPicPr>
        <p:blipFill>
          <a:blip r:embed="rId4"/>
          <a:stretch/>
        </p:blipFill>
        <p:spPr>
          <a:xfrm>
            <a:off x="6012000" y="2133720"/>
            <a:ext cx="295272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Животный мир Млекопитающие – 54 видаПтицы – 134 видаПресмыкающиеся – 5 видовЗемн"/>
          <p:cNvPicPr/>
          <p:nvPr/>
        </p:nvPicPr>
        <p:blipFill>
          <a:blip r:embed="rId5"/>
          <a:stretch/>
        </p:blipFill>
        <p:spPr>
          <a:xfrm>
            <a:off x="3995640" y="4110120"/>
            <a:ext cx="3672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Заповедник «Черные Земли» Расположен в районе Республики КалмыкияСоздан в 1990 г"/>
          <p:cNvPicPr/>
          <p:nvPr/>
        </p:nvPicPr>
        <p:blipFill>
          <a:blip r:embed="rId1"/>
          <a:stretch/>
        </p:blipFill>
        <p:spPr>
          <a:xfrm>
            <a:off x="0" y="0"/>
            <a:ext cx="5003640" cy="374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Охраняются участки полупустынь, пустынь.Озеро Маныч-Гудило.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Животные Журавль-красавкаЛиса-корсакДрофаСайгак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449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Ящерица-круглоголовкаПесчаный удавчикУшастый ежТушканчик"/>
          <p:cNvPicPr/>
          <p:nvPr/>
        </p:nvPicPr>
        <p:blipFill>
          <a:blip r:embed="rId4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Убсунурская котловина Попал в Список всемирного наследия ЮНЕСКО в 2003 году. П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Сочинский национальный парк Сам город Сочи и его окрестности, в основном горные"/>
          <p:cNvPicPr/>
          <p:nvPr/>
        </p:nvPicPr>
        <p:blipFill>
          <a:blip r:embed="rId1"/>
          <a:stretch/>
        </p:blipFill>
        <p:spPr>
          <a:xfrm>
            <a:off x="0" y="0"/>
            <a:ext cx="5796000" cy="4335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Водоплавающие птицы ЛебедиГусиУтки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3152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Тисо-самшитовая роща"/>
          <p:cNvPicPr/>
          <p:nvPr/>
        </p:nvPicPr>
        <p:blipFill>
          <a:blip r:embed="rId3"/>
          <a:stretch/>
        </p:blipFill>
        <p:spPr>
          <a:xfrm>
            <a:off x="0" y="3570120"/>
            <a:ext cx="5292720" cy="3287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Растения Тис ягодныйИглица колхидская Самшит колхидский"/>
          <p:cNvPicPr/>
          <p:nvPr/>
        </p:nvPicPr>
        <p:blipFill>
          <a:blip r:embed="rId4"/>
          <a:stretch/>
        </p:blipFill>
        <p:spPr>
          <a:xfrm>
            <a:off x="5796000" y="2781360"/>
            <a:ext cx="3348000" cy="231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Животные Дельфин черноморская афалина"/>
          <p:cNvPicPr/>
          <p:nvPr/>
        </p:nvPicPr>
        <p:blipFill>
          <a:blip r:embed="rId5"/>
          <a:stretch/>
        </p:blipFill>
        <p:spPr>
          <a:xfrm>
            <a:off x="3203640" y="437832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Жужелица кавказская"/>
          <p:cNvPicPr/>
          <p:nvPr/>
        </p:nvPicPr>
        <p:blipFill>
          <a:blip r:embed="rId6"/>
          <a:stretch/>
        </p:blipFill>
        <p:spPr>
          <a:xfrm>
            <a:off x="6516720" y="5160960"/>
            <a:ext cx="26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Центрально-Лесной заповедник государственный природный заповедник, расположе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Вторая по значимости ценность котловины – видовое разнообразие флоры и фауны. З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Магаданский заповедник Также включен в Список всемирного наследия ЮНЕСКО. Поск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Удивительной особенностью заповедной местности является то, что здесь в своем п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ивач Данный заповедник славен и одноименным водопадом. Находится он в краю, гд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А поскольку вокруг него располагались сосновые боры, то возникала необходимос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Большой Арктический заповедник Это самый большой по своей площади заповедник 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8:22:17Z</dcterms:created>
  <dc:creator>Мзоков</dc:creator>
  <dc:description/>
  <dc:language>en-US</dc:language>
  <cp:lastModifiedBy>Мзоков</cp:lastModifiedBy>
  <dcterms:modified xsi:type="dcterms:W3CDTF">2014-05-11T08:52:11Z</dcterms:modified>
  <cp:revision>2</cp:revision>
  <dc:subject/>
  <dc:title>Слайд 1</dc:title>
</cp:coreProperties>
</file>