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DE1-48C3-449A-B9BB-CBD0B030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475-3171-4C47-A3B9-8AD742A3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46F-8619-4E8F-8956-09C64F7D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3EA-A068-4972-9CD3-4E5862D1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D3D-8E37-4FD8-BF53-E3510ABC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37F-B67B-4E8A-9344-9FA36AA8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DBE-ED06-4D2E-81C6-1EB19972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719-F4B0-43E5-A3F4-6EC281B6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F8E-6E74-4565-A855-E7C7ABE4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59C-D70D-4845-96D5-28F6FA49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DDC-490B-4DB5-8827-3069640B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E94-F4F7-47FF-AF87-B6E092A1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3FAD-9D36-4547-AD78-7AFC956A4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российский интернет-конкурс педагогического творчеств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2013/14 учебный год)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минация конкурс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ррекционная и специальная педагогика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вание работы: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етодические рекомендации по организации дифференцированного обучения слабовидящих учащихся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р: Бурментьева Наталья Викторов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математики ГС(К)ОУ школы-интерната №4 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есто выполнения работы: г. Тольят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нутриклассная дифференци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Третий фактор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изучение и учёт типологических индивидуальных различий высшей нервной деятельности эти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Четвёртый фактор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уровень обучаемости. Здесь учитываются: работоспособность, индивидуальные особенности, темп продвижения, уровень умственного развития, самостоятельности, отношения к учению. Учёные выделяют три уровня: высокий, средний и низ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ифферециация уча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ифференциация учащихся в учебном процессе носит условный характер, она должна быть подвижной, гибкой, позволяющей учителю в процессе обучения подходить индивидуально к аждому ученику и способствовать общей активизации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существление дифференцированного подхода в процессе обучения предпола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нтроль за развитием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своением ими знаний, формированием умений 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еспечение оптимальных условий, способствующих максимальному усвоению программного материала данного класса каждым учащи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ьзование тифлоприборов и индивидуальных средств корр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ьзование специальной наглядности, дидактического материала и дидактических игр в соответствии со зрительными возможностями каждой группы (имеется в виду острота зрения, поле зрения, свето- и цветоразличение, приверженность к тому или иному шрифту, контрасту, цвету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екция дистанционных курсов повышения квалификации «Инновационные образовательные технологии обучения детей с ООП» «Дифференциация и индивидуализация обучения детей с особыми образовательными потребностям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ериалы Санкт-Петербургского государственного университета им.Герцена. Т.В.Бубнова, кафедра тифлопедагоги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38080" y="914400"/>
            <a:ext cx="74678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Спасибо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з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нимание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личие, с одной стороны, сложного характера патологических, психологических, физических особенностей детей с тяжёлыми нарушениями зрения, а с другой стороны, необходимость достижения уровня усвоения знаний, умений и навыков в объёме программы общеобразовательных школ этими детьми определяют необходимость осуществления дифференцированного подхода в процессе обучени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Что такое дифференци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ебно-воспитательный процесс, для которого характерен учёт типичных индивидуальных различий учащихся, принято называть дифференциацией, а обучение в условиях этого процесса – дифференцированным обучением. (Скатк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533520"/>
            <a:ext cx="7010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Виды дифференци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1219320"/>
            <a:ext cx="533160" cy="761760"/>
          </a:xfrm>
          <a:prstGeom prst="downArrow">
            <a:avLst>
              <a:gd name="adj1" fmla="val 50000"/>
              <a:gd name="adj2" fmla="val 357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1219320"/>
            <a:ext cx="533520" cy="761760"/>
          </a:xfrm>
          <a:prstGeom prst="downArrow">
            <a:avLst>
              <a:gd name="adj1" fmla="val 50000"/>
              <a:gd name="adj2" fmla="val 356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981080"/>
            <a:ext cx="4191120" cy="4419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981080"/>
            <a:ext cx="4343400" cy="4419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057400"/>
            <a:ext cx="403848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нутренняя дифференци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акая организация учебного процесса, при которой учёт индивидуальных особенностей учащихся производится в рамках их обучения в обычных группах. Все они работают по одинаковым программам и пособиям, но учитель использует индивидуальные методы работы, формы и средства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057400"/>
            <a:ext cx="419112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Внешняя дифференциац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такая организация учебного процесса, при которой учащиеся объединяются в группы в соответствии с их особенностями, способностями и склонностями. Обучение в этих группах осуществляется по особым программам и учебник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сихологические основы дифференцированного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нцип индивидуального подхода в дидактике предполагает учёт таких особенностей учащихся, которые влияют на его учебную деятельность и от которых зависят результаты учения. Таковыми могут быть различные физические и психические качества и состояния личности. Кроме того, на учебную деятельность ученика оказывают влияние различные социальные факт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сихологические основы дифференцированного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сгруппировать различные показатели, то полученная типология будет учитыв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спевае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йственность интереса к учению (устойчивость интереса плюс прилежани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ровень познавательной самостоятельности (темп продвижения плюс организованность в учен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ледует заметить, что здесь речь идёт об общих особенностях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ифференцированное обучение слабовидящих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нутри одной школы, внутри одного класса можно встретить детей с самыми разными характеристиками зрительной патологии: с разной этиологией заболевания и с разным состоянием зрительных функций – остроты утраченного зрения для дали и для близи, поля зрения, свето- и цветоразличения. А разные зрительные характеристики свидетельствую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о разных зрительных возможностях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учащихся одного класса школы для слабовидящи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нутриклассная дифференци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По аномальному факт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дагог должен выделить группы детей с одинаковыми зрительными возможностями и обеспечить им условия оптимального зрительного восприятия, определить пути и способы дифференциации наглядных методов и средств обучения, а также дифференциацию зрительной работы на у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нутриклассная дифференци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Второй важный факто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организации дифференцированного подхода в обучении слабовидящих детей – изучение психологических особенностей психического развития учащихся при  наличии тяжёлой зрительной пат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4-21T15:27:5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