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D73-552E-4414-85F8-69494B86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8CE-C5E6-445F-A670-97D47F5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DB7-B0EB-4FAD-9432-C8E9DCE4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C7B-9DC7-4D8C-BF62-4FBD7169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21C-5FD7-4D76-8B27-946AA752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2C1-B471-49A1-A71F-1B1DDB89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581-395B-499E-9936-D811D7D5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EBB-FC17-4ED8-87EB-14333FEB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5ED-1A20-40AC-9643-9D7243B9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EFA-D1CB-441A-951D-3E17298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217-0509-413C-82C1-FDA83E0A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002-16A5-42DB-B55C-924B4C3F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B1F4-7DEF-4550-8E2B-FCE3E68DC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8.png"/><Relationship Id="rId22" Type="http://schemas.openxmlformats.org/officeDocument/2006/relationships/image" Target="../media/image20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19.png"/><Relationship Id="rId28" Type="http://schemas.openxmlformats.org/officeDocument/2006/relationships/image" Target="../media/image22.png"/><Relationship Id="rId29" Type="http://schemas.openxmlformats.org/officeDocument/2006/relationships/image" Target="../media/image23.png"/><Relationship Id="rId30" Type="http://schemas.openxmlformats.org/officeDocument/2006/relationships/image" Target="../media/image24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презентации и видео\красивый фон\1 (17)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Прямоугольник 4"/>
          <p:cNvGrpSpPr/>
          <p:nvPr/>
        </p:nvGrpSpPr>
        <p:grpSpPr>
          <a:xfrm>
            <a:off x="622440" y="622440"/>
            <a:ext cx="8540640" cy="536400"/>
            <a:chOff x="622440" y="622440"/>
            <a:chExt cx="8540640" cy="536400"/>
          </a:xfrm>
        </p:grpSpPr>
        <p:pic>
          <p:nvPicPr>
            <p:cNvPr id="4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622440" y="622440"/>
              <a:ext cx="8540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42960" y="642960"/>
              <a:ext cx="8501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c742e"/>
                  </a:solidFill>
                  <a:latin typeface="Times New Roman"/>
                  <a:ea typeface="Times New Roman"/>
                </a:rPr>
                <a:t>СЛОЖ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Прямоугольник 5" descr=""/>
          <p:cNvPicPr/>
          <p:nvPr/>
        </p:nvPicPr>
        <p:blipFill>
          <a:blip r:embed="rId3"/>
          <a:stretch/>
        </p:blipFill>
        <p:spPr>
          <a:xfrm>
            <a:off x="622440" y="1122480"/>
            <a:ext cx="815760" cy="5321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4"/>
          <a:stretch/>
        </p:blipFill>
        <p:spPr>
          <a:xfrm>
            <a:off x="1407960" y="1122480"/>
            <a:ext cx="822600" cy="5327640"/>
          </a:xfrm>
          <a:prstGeom prst="rect">
            <a:avLst/>
          </a:prstGeom>
          <a:ln w="0">
            <a:noFill/>
          </a:ln>
        </p:spPr>
      </p:pic>
      <p:grpSp>
        <p:nvGrpSpPr>
          <p:cNvPr id="47" name="Прямоугольник 7"/>
          <p:cNvGrpSpPr/>
          <p:nvPr/>
        </p:nvGrpSpPr>
        <p:grpSpPr>
          <a:xfrm>
            <a:off x="2193840" y="1122480"/>
            <a:ext cx="3395880" cy="1255680"/>
            <a:chOff x="2193840" y="1122480"/>
            <a:chExt cx="3395880" cy="125568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2193840" y="1122480"/>
              <a:ext cx="33958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14720" y="1143000"/>
              <a:ext cx="335736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ЛОЖНОПОДЧИН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оугольник 8"/>
          <p:cNvSpPr/>
          <p:nvPr/>
        </p:nvSpPr>
        <p:spPr>
          <a:xfrm>
            <a:off x="5572080" y="1143000"/>
            <a:ext cx="3571920" cy="1214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ЖНАЯ СИНТАКСИЧЕСКАЯ КО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9" descr=""/>
          <p:cNvPicPr/>
          <p:nvPr/>
        </p:nvPicPr>
        <p:blipFill>
          <a:blip r:embed="rId6"/>
          <a:stretch/>
        </p:blipFill>
        <p:spPr>
          <a:xfrm>
            <a:off x="2193840" y="2341440"/>
            <a:ext cx="897120" cy="41086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0" descr=""/>
          <p:cNvPicPr/>
          <p:nvPr/>
        </p:nvPicPr>
        <p:blipFill>
          <a:blip r:embed="rId7"/>
          <a:stretch/>
        </p:blipFill>
        <p:spPr>
          <a:xfrm>
            <a:off x="8265960" y="2341440"/>
            <a:ext cx="897120" cy="410868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2"/>
          <p:cNvGrpSpPr/>
          <p:nvPr/>
        </p:nvGrpSpPr>
        <p:grpSpPr>
          <a:xfrm>
            <a:off x="3054240" y="2341440"/>
            <a:ext cx="2535480" cy="1249560"/>
            <a:chOff x="3054240" y="2341440"/>
            <a:chExt cx="2535480" cy="1249560"/>
          </a:xfrm>
        </p:grpSpPr>
        <p:pic>
          <p:nvPicPr>
            <p:cNvPr id="54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3054240" y="2341440"/>
              <a:ext cx="25354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071880" y="2357280"/>
              <a:ext cx="25002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 ДВУМЯ И БОЛЕЕ ПРИДАТОЧНЫ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13"/>
          <p:cNvGrpSpPr/>
          <p:nvPr/>
        </p:nvGrpSpPr>
        <p:grpSpPr>
          <a:xfrm>
            <a:off x="5553000" y="2341440"/>
            <a:ext cx="2749680" cy="1249560"/>
            <a:chOff x="5553000" y="2341440"/>
            <a:chExt cx="2749680" cy="1249560"/>
          </a:xfrm>
        </p:grpSpPr>
        <p:pic>
          <p:nvPicPr>
            <p:cNvPr id="57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553000" y="2341440"/>
              <a:ext cx="27496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572080" y="2357280"/>
              <a:ext cx="271476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С БЕССОЮЗНОЙ СВЯЗЬ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14"/>
          <p:cNvGrpSpPr/>
          <p:nvPr/>
        </p:nvGrpSpPr>
        <p:grpSpPr>
          <a:xfrm>
            <a:off x="3054240" y="3554280"/>
            <a:ext cx="1676520" cy="609840"/>
            <a:chOff x="3054240" y="3554280"/>
            <a:chExt cx="1676520" cy="609840"/>
          </a:xfrm>
        </p:grpSpPr>
        <p:pic>
          <p:nvPicPr>
            <p:cNvPr id="60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054240" y="3554280"/>
              <a:ext cx="16765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71880" y="3571920"/>
              <a:ext cx="1643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ДЧИ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Прямоугольник 15" descr=""/>
          <p:cNvPicPr/>
          <p:nvPr/>
        </p:nvPicPr>
        <p:blipFill>
          <a:blip r:embed="rId11"/>
          <a:stretch/>
        </p:blipFill>
        <p:spPr>
          <a:xfrm>
            <a:off x="3060720" y="4133880"/>
            <a:ext cx="809640" cy="23097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6" descr=""/>
          <p:cNvPicPr/>
          <p:nvPr/>
        </p:nvPicPr>
        <p:blipFill>
          <a:blip r:embed="rId12"/>
          <a:stretch/>
        </p:blipFill>
        <p:spPr>
          <a:xfrm>
            <a:off x="3846600" y="4133880"/>
            <a:ext cx="87768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7" descr=""/>
          <p:cNvPicPr/>
          <p:nvPr/>
        </p:nvPicPr>
        <p:blipFill>
          <a:blip r:embed="rId13"/>
          <a:stretch/>
        </p:blipFill>
        <p:spPr>
          <a:xfrm>
            <a:off x="4700520" y="3560760"/>
            <a:ext cx="882720" cy="28828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8" descr=""/>
          <p:cNvPicPr/>
          <p:nvPr/>
        </p:nvPicPr>
        <p:blipFill>
          <a:blip r:embed="rId14"/>
          <a:stretch/>
        </p:blipFill>
        <p:spPr>
          <a:xfrm>
            <a:off x="5553000" y="3554280"/>
            <a:ext cx="897120" cy="28958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9" descr=""/>
          <p:cNvPicPr/>
          <p:nvPr/>
        </p:nvPicPr>
        <p:blipFill>
          <a:blip r:embed="rId15"/>
          <a:stretch/>
        </p:blipFill>
        <p:spPr>
          <a:xfrm>
            <a:off x="6419880" y="3560760"/>
            <a:ext cx="876240" cy="28828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0" descr=""/>
          <p:cNvPicPr/>
          <p:nvPr/>
        </p:nvPicPr>
        <p:blipFill>
          <a:blip r:embed="rId16"/>
          <a:stretch/>
        </p:blipFill>
        <p:spPr>
          <a:xfrm>
            <a:off x="7265880" y="3554280"/>
            <a:ext cx="10368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68" name="Прямоугольник 21"/>
          <p:cNvGrpSpPr/>
          <p:nvPr/>
        </p:nvGrpSpPr>
        <p:grpSpPr>
          <a:xfrm>
            <a:off x="-19080" y="6413400"/>
            <a:ext cx="677880" cy="463680"/>
            <a:chOff x="-19080" y="6413400"/>
            <a:chExt cx="677880" cy="463680"/>
          </a:xfrm>
        </p:grpSpPr>
        <p:pic>
          <p:nvPicPr>
            <p:cNvPr id="69" name="Прямоугольник 21" descr=""/>
            <p:cNvPicPr/>
            <p:nvPr/>
          </p:nvPicPr>
          <p:blipFill>
            <a:blip r:embed="rId17"/>
            <a:stretch/>
          </p:blipFill>
          <p:spPr>
            <a:xfrm>
              <a:off x="-19080" y="6413400"/>
              <a:ext cx="6778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0" y="642924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Прямоугольник 22"/>
          <p:cNvGrpSpPr/>
          <p:nvPr/>
        </p:nvGrpSpPr>
        <p:grpSpPr>
          <a:xfrm>
            <a:off x="622440" y="6413400"/>
            <a:ext cx="822240" cy="463680"/>
            <a:chOff x="622440" y="6413400"/>
            <a:chExt cx="822240" cy="463680"/>
          </a:xfrm>
        </p:grpSpPr>
        <p:pic>
          <p:nvPicPr>
            <p:cNvPr id="72" name="Прямоугольник 22" descr=""/>
            <p:cNvPicPr/>
            <p:nvPr/>
          </p:nvPicPr>
          <p:blipFill>
            <a:blip r:embed="rId18"/>
            <a:stretch/>
          </p:blipFill>
          <p:spPr>
            <a:xfrm>
              <a:off x="622440" y="6413400"/>
              <a:ext cx="8222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2960" y="6429240"/>
              <a:ext cx="785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c742e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23"/>
          <p:cNvGrpSpPr/>
          <p:nvPr/>
        </p:nvGrpSpPr>
        <p:grpSpPr>
          <a:xfrm>
            <a:off x="1407960" y="6413400"/>
            <a:ext cx="822600" cy="463680"/>
            <a:chOff x="1407960" y="6413400"/>
            <a:chExt cx="822600" cy="463680"/>
          </a:xfrm>
        </p:grpSpPr>
        <p:pic>
          <p:nvPicPr>
            <p:cNvPr id="75" name="Прямоугольник 23" descr=""/>
            <p:cNvPicPr/>
            <p:nvPr/>
          </p:nvPicPr>
          <p:blipFill>
            <a:blip r:embed="rId19"/>
            <a:stretch/>
          </p:blipFill>
          <p:spPr>
            <a:xfrm>
              <a:off x="1407960" y="6413400"/>
              <a:ext cx="8226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428840" y="6429240"/>
              <a:ext cx="785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24"/>
          <p:cNvGrpSpPr/>
          <p:nvPr/>
        </p:nvGrpSpPr>
        <p:grpSpPr>
          <a:xfrm>
            <a:off x="2193840" y="6413400"/>
            <a:ext cx="897120" cy="463680"/>
            <a:chOff x="2193840" y="6413400"/>
            <a:chExt cx="897120" cy="463680"/>
          </a:xfrm>
        </p:grpSpPr>
        <p:pic>
          <p:nvPicPr>
            <p:cNvPr id="78" name="Прямоугольник 24" descr=""/>
            <p:cNvPicPr/>
            <p:nvPr/>
          </p:nvPicPr>
          <p:blipFill>
            <a:blip r:embed="rId20"/>
            <a:stretch/>
          </p:blipFill>
          <p:spPr>
            <a:xfrm>
              <a:off x="2193840" y="6413400"/>
              <a:ext cx="897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214720" y="6429240"/>
              <a:ext cx="857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Прямоугольник 25"/>
          <p:cNvGrpSpPr/>
          <p:nvPr/>
        </p:nvGrpSpPr>
        <p:grpSpPr>
          <a:xfrm>
            <a:off x="3054240" y="6413400"/>
            <a:ext cx="822600" cy="463680"/>
            <a:chOff x="3054240" y="6413400"/>
            <a:chExt cx="822600" cy="463680"/>
          </a:xfrm>
        </p:grpSpPr>
        <p:pic>
          <p:nvPicPr>
            <p:cNvPr id="81" name="Прямоугольник 25" descr=""/>
            <p:cNvPicPr/>
            <p:nvPr/>
          </p:nvPicPr>
          <p:blipFill>
            <a:blip r:embed="rId21"/>
            <a:stretch/>
          </p:blipFill>
          <p:spPr>
            <a:xfrm>
              <a:off x="3054240" y="6413400"/>
              <a:ext cx="8226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071880" y="6429240"/>
              <a:ext cx="785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c742e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Прямоугольник 26"/>
          <p:cNvGrpSpPr/>
          <p:nvPr/>
        </p:nvGrpSpPr>
        <p:grpSpPr>
          <a:xfrm>
            <a:off x="3840120" y="6413400"/>
            <a:ext cx="890640" cy="463680"/>
            <a:chOff x="3840120" y="6413400"/>
            <a:chExt cx="890640" cy="463680"/>
          </a:xfrm>
        </p:grpSpPr>
        <p:pic>
          <p:nvPicPr>
            <p:cNvPr id="84" name="Прямоугольник 26" descr=""/>
            <p:cNvPicPr/>
            <p:nvPr/>
          </p:nvPicPr>
          <p:blipFill>
            <a:blip r:embed="rId22"/>
            <a:stretch/>
          </p:blipFill>
          <p:spPr>
            <a:xfrm>
              <a:off x="3840120" y="6413400"/>
              <a:ext cx="8906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857760" y="6429240"/>
              <a:ext cx="857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рямоугольник 27"/>
          <p:cNvGrpSpPr/>
          <p:nvPr/>
        </p:nvGrpSpPr>
        <p:grpSpPr>
          <a:xfrm>
            <a:off x="4694400" y="6413400"/>
            <a:ext cx="895320" cy="463680"/>
            <a:chOff x="4694400" y="6413400"/>
            <a:chExt cx="895320" cy="463680"/>
          </a:xfrm>
        </p:grpSpPr>
        <p:pic>
          <p:nvPicPr>
            <p:cNvPr id="87" name="Прямоугольник 27" descr=""/>
            <p:cNvPicPr/>
            <p:nvPr/>
          </p:nvPicPr>
          <p:blipFill>
            <a:blip r:embed="rId23"/>
            <a:stretch/>
          </p:blipFill>
          <p:spPr>
            <a:xfrm>
              <a:off x="4694400" y="6413400"/>
              <a:ext cx="895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714920" y="6429240"/>
              <a:ext cx="857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c742e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Прямоугольник 28"/>
          <p:cNvGrpSpPr/>
          <p:nvPr/>
        </p:nvGrpSpPr>
        <p:grpSpPr>
          <a:xfrm>
            <a:off x="5553000" y="6413400"/>
            <a:ext cx="897120" cy="463680"/>
            <a:chOff x="5553000" y="6413400"/>
            <a:chExt cx="897120" cy="463680"/>
          </a:xfrm>
        </p:grpSpPr>
        <p:pic>
          <p:nvPicPr>
            <p:cNvPr id="90" name="Прямоугольник 28" descr=""/>
            <p:cNvPicPr/>
            <p:nvPr/>
          </p:nvPicPr>
          <p:blipFill>
            <a:blip r:embed="rId24"/>
            <a:stretch/>
          </p:blipFill>
          <p:spPr>
            <a:xfrm>
              <a:off x="5553000" y="6413400"/>
              <a:ext cx="897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572080" y="6429240"/>
              <a:ext cx="857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Прямоугольник 29"/>
          <p:cNvGrpSpPr/>
          <p:nvPr/>
        </p:nvGrpSpPr>
        <p:grpSpPr>
          <a:xfrm>
            <a:off x="6413400" y="6413400"/>
            <a:ext cx="889200" cy="463680"/>
            <a:chOff x="6413400" y="6413400"/>
            <a:chExt cx="889200" cy="463680"/>
          </a:xfrm>
        </p:grpSpPr>
        <p:pic>
          <p:nvPicPr>
            <p:cNvPr id="93" name="Прямоугольник 29" descr=""/>
            <p:cNvPicPr/>
            <p:nvPr/>
          </p:nvPicPr>
          <p:blipFill>
            <a:blip r:embed="rId25"/>
            <a:stretch/>
          </p:blipFill>
          <p:spPr>
            <a:xfrm>
              <a:off x="6413400" y="6413400"/>
              <a:ext cx="8892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429240" y="642924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c742e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Прямоугольник 30"/>
          <p:cNvGrpSpPr/>
          <p:nvPr/>
        </p:nvGrpSpPr>
        <p:grpSpPr>
          <a:xfrm>
            <a:off x="7265880" y="6413400"/>
            <a:ext cx="1036800" cy="463680"/>
            <a:chOff x="7265880" y="6413400"/>
            <a:chExt cx="1036800" cy="463680"/>
          </a:xfrm>
        </p:grpSpPr>
        <p:pic>
          <p:nvPicPr>
            <p:cNvPr id="96" name="Прямоугольник 30" descr=""/>
            <p:cNvPicPr/>
            <p:nvPr/>
          </p:nvPicPr>
          <p:blipFill>
            <a:blip r:embed="rId26"/>
            <a:stretch/>
          </p:blipFill>
          <p:spPr>
            <a:xfrm>
              <a:off x="7265880" y="6413400"/>
              <a:ext cx="10368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286760" y="6429240"/>
              <a:ext cx="1000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Прямоугольник 31"/>
          <p:cNvGrpSpPr/>
          <p:nvPr/>
        </p:nvGrpSpPr>
        <p:grpSpPr>
          <a:xfrm>
            <a:off x="8265960" y="6413400"/>
            <a:ext cx="897120" cy="463680"/>
            <a:chOff x="8265960" y="6413400"/>
            <a:chExt cx="897120" cy="463680"/>
          </a:xfrm>
        </p:grpSpPr>
        <p:pic>
          <p:nvPicPr>
            <p:cNvPr id="99" name="Прямоугольник 31" descr=""/>
            <p:cNvPicPr/>
            <p:nvPr/>
          </p:nvPicPr>
          <p:blipFill>
            <a:blip r:embed="rId27"/>
            <a:stretch/>
          </p:blipFill>
          <p:spPr>
            <a:xfrm>
              <a:off x="8265960" y="6413400"/>
              <a:ext cx="897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286840" y="6429240"/>
              <a:ext cx="857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c742e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оугольник 32" descr=""/>
          <p:cNvPicPr/>
          <p:nvPr/>
        </p:nvPicPr>
        <p:blipFill>
          <a:blip r:embed="rId28"/>
          <a:stretch/>
        </p:blipFill>
        <p:spPr>
          <a:xfrm>
            <a:off x="426960" y="152280"/>
            <a:ext cx="8435880" cy="530280"/>
          </a:xfrm>
          <a:prstGeom prst="rect">
            <a:avLst/>
          </a:prstGeom>
          <a:ln w="0">
            <a:noFill/>
          </a:ln>
        </p:spPr>
      </p:pic>
      <p:grpSp>
        <p:nvGrpSpPr>
          <p:cNvPr id="102" name="Прямоугольник 33"/>
          <p:cNvGrpSpPr/>
          <p:nvPr/>
        </p:nvGrpSpPr>
        <p:grpSpPr>
          <a:xfrm>
            <a:off x="-19080" y="-19080"/>
            <a:ext cx="9182160" cy="677880"/>
            <a:chOff x="-19080" y="-19080"/>
            <a:chExt cx="9182160" cy="677880"/>
          </a:xfrm>
        </p:grpSpPr>
        <p:pic>
          <p:nvPicPr>
            <p:cNvPr id="103" name="Прямоугольник 33" descr=""/>
            <p:cNvPicPr/>
            <p:nvPr/>
          </p:nvPicPr>
          <p:blipFill>
            <a:blip r:embed="rId29"/>
            <a:stretch/>
          </p:blipFill>
          <p:spPr>
            <a:xfrm>
              <a:off x="-19080" y="-19080"/>
              <a:ext cx="9182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c742e"/>
                  </a:solidFill>
                  <a:latin typeface="Times New Roman"/>
                  <a:ea typeface="Times New Roman"/>
                </a:rPr>
                <a:t>ПРЕДЛОЖ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Прямоугольник 3"/>
          <p:cNvGrpSpPr/>
          <p:nvPr/>
        </p:nvGrpSpPr>
        <p:grpSpPr>
          <a:xfrm>
            <a:off x="-19080" y="622440"/>
            <a:ext cx="677880" cy="5827680"/>
            <a:chOff x="-19080" y="622440"/>
            <a:chExt cx="677880" cy="5827680"/>
          </a:xfrm>
        </p:grpSpPr>
        <p:pic>
          <p:nvPicPr>
            <p:cNvPr id="106" name="Прямоугольник 3" descr=""/>
            <p:cNvPicPr/>
            <p:nvPr/>
          </p:nvPicPr>
          <p:blipFill>
            <a:blip r:embed="rId30"/>
            <a:stretch/>
          </p:blipFill>
          <p:spPr>
            <a:xfrm>
              <a:off x="-19080" y="622440"/>
              <a:ext cx="67788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0800000">
              <a:off x="0" y="642600"/>
              <a:ext cx="642960" cy="57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c742e"/>
                  </a:solidFill>
                  <a:latin typeface="Times New Roman"/>
                  <a:ea typeface="Times New Roman"/>
                </a:rPr>
                <a:t>ПРОСТ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оугольник 36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чего не сказала рыбка, лишь хвостом по воде плеснула и ушла себе в синее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м на неведомых дорожках следы невиданных зверей; избушка там на курьих ножках стоит без окон, без двере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8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ушкин ласково глядит, и ночь прошла, и гаснут свечи, и нежный вкус родимой речи так чисто губы холоди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9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жизнь тебя обманет, не печалься, не сердись!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0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бы слушал, как вершина ивы дремлющей шумит, как на темном дне оврага по камням родник журч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1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т пес без хвоста, который пугает и ловит синицу, которая часто ворует пшеницу, которая в черном чулане хранится в доме , который построил Джек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2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ядька не расслышал, как его назвали, только понял, что по имени и от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3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болоте крякнет цапля, четко хлюпает вода, а из туч глядит, как капля, одинокая звез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4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лицу Анны Сергеевны трудно было догадаться, какие она испытывала впечатления: оно сохраняло одно и то же выражение, приветливое, тонко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5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Феничке, которой тогда минул уже семнадцатый год, никто не говорил, и редкий её видел: она жила тихонько, скромненько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6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м известно, что письма бывают веселые или печальные, и поэтому, пока мать читала, Чук и Гек внимательно следили за её лиц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8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4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6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6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0-04-05T14:18:54Z</dcterms:modified>
  <cp:revision>22</cp:revision>
  <dc:subject/>
  <dc:title>Слайд 1</dc:title>
</cp:coreProperties>
</file>