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BDFD-A81B-47B9-B3D8-7F06F537C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A082-B368-4989-863A-EE200DCED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33D3-7854-4049-BA12-ECE40A10C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D5C8-0958-414E-AA72-AE3307557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3BF6C-DBF7-493C-81EA-7C8748186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4EF8D-3099-44A4-AAC0-381FEF741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F0148-E3D1-4F50-A682-57961E2FB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79046-20C2-4E70-8ED2-67A47F0DF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592BE-0676-46DC-89DD-AE53E5BE5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65240-7680-429A-B721-1467AC661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3D5F2-CB72-4555-957F-97AE8EEA5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D261-4702-4B1B-9A35-379FBAE10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FF4DE-E1E8-4099-B599-3847D7FE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CCA99-5F16-4195-B68D-06A67C2E0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C1717-E2F2-48BC-8E12-873BC7C47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E67F0-F73C-445E-865A-1E6784676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0865D-4C3B-450C-9056-90ADACAC5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889C-E9DE-4B9C-8C02-6AD1DB66A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2598-7858-4007-8484-019029CA9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076B-E38E-48AA-8D4F-BBC1C5C59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27ED-7B23-4FC4-B32F-05D86DFE1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1E4D-58B1-4E0B-B923-9FEAEBFF0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2B3B-287E-4BB9-8FA5-B09D31D5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B421-D308-4586-A155-A2B28464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270A9-41FA-4A87-9D6C-47488030696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75E8F-032A-40DE-A7D0-0FE69A8EC0B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Поиграем в "Третий лишний":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один, одиночка, одиночеств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пятёрка, пятерня, пя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 четырёхугольник, четыре, четвёр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вет: один, пять, четы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Отгадайте загадки, в которых есть числительные: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. Есть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семер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братьев: годами равные, именами разны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.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Четыр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брата бегут, друг друга не догоня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. Тридцать два молотят, один поворачивае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). Два брата купаются, а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третий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смехается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изведите морфологический разбор числитель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вариант- четы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вариант  - трет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Если возникли затруднения, смотри памятку в приложении к учебнику на стр. 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Проверь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914400" y="1599840"/>
            <a:ext cx="3813120" cy="45306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873680" y="1599840"/>
            <a:ext cx="3813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Третий- числ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Н.ф.- тре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Пост.пр.: порядковое, прост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Непост.пр.: в И.п., ед.ч., м.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Опред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Четыре(брата) –чис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Н.ф.- четы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Пост.пр.: количественно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ое, прост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Непост.пр.: в Им.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Подлежащ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Склонение числительных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считайте результат и прочитайте примеры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7 + 15 =… (К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9 – 33 =…(От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20 : 12 =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2+4,5 =…(К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Проверь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 сорок</a:t>
            </a: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сем</a:t>
            </a: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прибавить пятнадцат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получится шест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есят два. От ст</a:t>
            </a: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восьм</a:t>
            </a: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есят</a:t>
            </a: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девят</a:t>
            </a: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отнять тридцать три – получится сто пят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есят шест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Сем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т двадцать разделить на двенадцат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будет шест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есят. К одной целой дв</a:t>
            </a: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ум</a:t>
            </a: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т</a:t>
            </a: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ы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прибавить четыре целых пять сот</a:t>
            </a: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ы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получится пят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целых семь сот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группируйте числительные, пользуясь п.2 шпаргал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Физминутк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станьте. Я буду называть числительные: если мягкий знак сто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в середи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числительного –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руки вперё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в конц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присядьт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сли его в слове 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не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66ff33"/>
                </a:solidFill>
                <a:latin typeface="Arial"/>
              </a:rPr>
              <a:t>попрыгай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Полтора и полторы…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слушайте и исправь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924680" y="4724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990720" y="2362320"/>
            <a:ext cx="5067360" cy="37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8055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Тест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14040" y="1599840"/>
            <a:ext cx="3809880" cy="45306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итерии  оцен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5» - 10 б-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4» - 9-8  б-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3» - 7-6  б-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2» - 0-5 б-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352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ве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В  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В   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Б   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В   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Б   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Б   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 В   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А   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. Б  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. А   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3T10:03:06Z</dcterms:created>
  <dc:creator>27</dc:creator>
  <dc:description/>
  <dc:language>en-US</dc:language>
  <cp:lastModifiedBy>27</cp:lastModifiedBy>
  <dcterms:modified xsi:type="dcterms:W3CDTF">2014-04-13T18:50:30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