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244-CB49-4AD2-8533-9E8159AA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3FE-0A0D-46F0-9E50-FD51E28E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65B-F317-491D-97C9-9455A2CB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64C-1955-40D1-82FE-891A2EA8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12F-751F-4424-B04A-8C0B8961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47C-BEA9-481D-8029-94475463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19B-5320-47DE-A945-C505035A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155-A240-4AD3-9B51-31D936D4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4E3-455E-4FAE-B76B-A0C1DD34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634-7EAD-4504-AAF5-A7B64BF0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DDC-3670-4114-BAEB-6804278C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76D-D990-4527-B100-AD2137D1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2427-E413-4773-B73C-9749CD8D83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omnite-nas.ru/img/71/200710071624440.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tape"/>
          <p:cNvPicPr/>
          <p:nvPr/>
        </p:nvPicPr>
        <p:blipFill>
          <a:blip r:embed="rId1"/>
          <a:stretch/>
        </p:blipFill>
        <p:spPr>
          <a:xfrm>
            <a:off x="0" y="2997360"/>
            <a:ext cx="9144000" cy="3490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16560" y="1492200"/>
            <a:ext cx="910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Monotype Corsiva"/>
              </a:rPr>
              <a:t>УЛИЦЫ ТУЛЫ 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Monotype Corsiva"/>
              </a:rPr>
              <a:t>СТРАНИЦЫ ВОИНСКОЙ СЛ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4 - Nothing Else Matters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Vasin_na"/>
          <p:cNvPicPr/>
          <p:nvPr/>
        </p:nvPicPr>
        <p:blipFill>
          <a:blip r:embed="rId1"/>
          <a:stretch/>
        </p:blipFill>
        <p:spPr>
          <a:xfrm>
            <a:off x="1258920" y="260280"/>
            <a:ext cx="2023920" cy="28814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5253120" y="907920"/>
            <a:ext cx="34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Monotype Corsiva"/>
              </a:rPr>
              <a:t>Ул. Вас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335448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Васин Николай Алексеевич — лётчик-штурмов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Во время Великой Отечественной войны соверш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117 боевых вылетов. 15 октября 1944 г. при штурмовке танковой колонны противника его Ил-2 был подбит зенитным огнём. Горящий самолет он направил в скопление вражеских  танков и артиллерии. Посмертно ему присвоили звание Героя Советского Сою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наташа\Рабочий стол\Улицы Тулы\Волнянский.files\T_200710071624440.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3745080" cy="2933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4221000" y="260280"/>
            <a:ext cx="511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Monotype Corsiva"/>
              </a:rPr>
              <a:t>Ул. Волнянск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922920" y="1146240"/>
            <a:ext cx="5816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Утром 30 октября батаре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Волнянского встретила огн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колонну из 40 вражески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танков, двигающуюся п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Орловскому шоссе к Тул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521160"/>
            <a:ext cx="914400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Ни один танк в город не прошел. Двумя оруд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прямой наводкой в упор разбито 14 танков противни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Остальные повернули обратно. Все бойцы подраздел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и двадцатилетний командир погибли, но противник в горо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не прошел. Лейтенант Григорий Волнянский посмерт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награжден орденом Ленина и навечно занесен в спис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первого дивизион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5724360" y="2205000"/>
            <a:ext cx="341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На фотографии Горшков 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подбитого немецкого та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который пытался войти в Т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Горшков А"/>
          <p:cNvPicPr/>
          <p:nvPr/>
        </p:nvPicPr>
        <p:blipFill>
          <a:blip r:embed="rId1"/>
          <a:stretch/>
        </p:blipFill>
        <p:spPr>
          <a:xfrm>
            <a:off x="324000" y="333360"/>
            <a:ext cx="4859280" cy="27129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5347080" y="260280"/>
            <a:ext cx="43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Monotype Corsiva"/>
              </a:rPr>
              <a:t>Ул. Горшкова</a:t>
            </a: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-1379880" y="3341520"/>
            <a:ext cx="118836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45 дней длилась осада Тулы. Тульский рабочий полк во глав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с капитаном А. П. Горшковым и комиссаром Г. А. Агеевы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проявил особое упорство и мужество. Этот полк  принял н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себя всю тяжесть первого удара бронированной танково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армады Гудериана. Шесть раз Тульский рабочий полк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пополнялся новыми людьми. Они вставали в строй на мест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убитых и тяжелораненых, но боевые позиции полк не сда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865480" y="1268280"/>
            <a:ext cx="33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Monotype Corsiva"/>
              </a:rPr>
              <a:t>Ул. Агеева</a:t>
            </a: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743640" y="189000"/>
            <a:ext cx="426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Monotype Corsiva"/>
              </a:rPr>
              <a:t>Ул. Сафонова</a:t>
            </a: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afonov"/>
          <p:cNvPicPr/>
          <p:nvPr/>
        </p:nvPicPr>
        <p:blipFill>
          <a:blip r:embed="rId1"/>
          <a:stretch/>
        </p:blipFill>
        <p:spPr>
          <a:xfrm>
            <a:off x="250920" y="260280"/>
            <a:ext cx="2342880" cy="3168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0" y="1279440"/>
            <a:ext cx="9144000" cy="74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Ходят легенды, что немцы передава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специальное сообщение: «Сафонов в воздухе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Это означало, что немецким самолета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надлежало вернуться на баз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30 мая 1942 г. Борис Сафонов вылетел во главе зве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истребителей на прикрытие каравана судов. Ведя бой с превосходящими силами противника, Сафонов сбил три фашистских самолета, но погиб сам. Всего за время боевых действий он сбил лично 25 вражеских самолё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14 июня 1942 года отважный лётчик был посмертно награждён второй медалью «Золотая Звезда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281320" cy="3240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943520" y="1125360"/>
            <a:ext cx="39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Monotype Corsiva"/>
              </a:rPr>
              <a:t>Ул. Болд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81080" y="3860640"/>
            <a:ext cx="9144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Служба в Красной Армии Болдина И.В. тесно связана с Тулой. 21 ноября 1941 г.он был назначен командующим войсками 50-й армии, оборонявшей Тулу. Под руководством И.В. Болдина 50-я армия разгромила немецко-фашистские войска на территории Тульской обла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350px-ChekalinStamp"/>
          <p:cNvPicPr/>
          <p:nvPr/>
        </p:nvPicPr>
        <p:blipFill>
          <a:blip r:embed="rId1"/>
          <a:stretch/>
        </p:blipFill>
        <p:spPr>
          <a:xfrm>
            <a:off x="6084720" y="4581360"/>
            <a:ext cx="2916360" cy="2116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Documents and Settings\наташа\Рабочий стол\Улицы Тулы\Чекалин Александр Павлович, партизан.files\chekalin.jpg"/>
          <p:cNvPicPr/>
          <p:nvPr/>
        </p:nvPicPr>
        <p:blipFill>
          <a:blip r:embed="rId2"/>
          <a:stretch/>
        </p:blipFill>
        <p:spPr>
          <a:xfrm>
            <a:off x="179280" y="189000"/>
            <a:ext cx="1795680" cy="2808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4935960" y="692280"/>
            <a:ext cx="41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Monotype Corsiva"/>
              </a:rPr>
              <a:t>Ул. Чека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2205000"/>
            <a:ext cx="9144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В июле 1941 Александр Чекалин, урожене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Суворовского района Тульской области,           вступил добровольцем в истребительный отряд, затем в партизанский отряд «Передовой». По доносу предателя был схвачен фашистами и после пыток повеше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00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4818600" y="1125360"/>
            <a:ext cx="408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Monotype Corsiva"/>
              </a:rPr>
              <a:t>Ул. Токаре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tokarev_na"/>
          <p:cNvPicPr/>
          <p:nvPr/>
        </p:nvPicPr>
        <p:blipFill>
          <a:blip r:embed="rId1"/>
          <a:stretch/>
        </p:blipFill>
        <p:spPr>
          <a:xfrm>
            <a:off x="468360" y="189000"/>
            <a:ext cx="2187360" cy="3240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324000" y="3789360"/>
            <a:ext cx="8820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Токарев Николай Александрович (1907-1944), Герой Советского Союза, генерал-майор, туляк , сражался с немецко-фашистскими захватчиками в составе ВВС Черноморского флота. Геройски погиб в бою в районе г. Евпатор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157320" y="2852640"/>
            <a:ext cx="88293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Кобзев Анатолий Михайлович (1923-1944), туляк, Герой Советского Союза, летчик. Совершил 120 боевых вылетов, уничтожил и повредил 13 танков и БТР, 37 автомашин, 23 повозки, подавил огонь 3 батарей полевой артиллерии и 2 батарей зенитной артиллерии, взорвал 3 склада с боеприпасами, 2 склада с ГСМ противни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Геройски погиб при выполнении боевого задания 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территории Польш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Kobzev_am"/>
          <p:cNvPicPr/>
          <p:nvPr/>
        </p:nvPicPr>
        <p:blipFill>
          <a:blip r:embed="rId1"/>
          <a:stretch/>
        </p:blipFill>
        <p:spPr>
          <a:xfrm>
            <a:off x="324000" y="189000"/>
            <a:ext cx="1757160" cy="2492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5131080" y="981000"/>
            <a:ext cx="36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Monotype Corsiva"/>
              </a:rPr>
              <a:t>Ул. Кобз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-184320" y="4149720"/>
            <a:ext cx="1516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371808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Никогда враг не покорял наш горо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271 туляк стал Героем Совет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оюза, 41 человек является пол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кавалером ордена Славы, семер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рисвоено звание Героев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1193427913"/>
          <p:cNvPicPr/>
          <p:nvPr/>
        </p:nvPicPr>
        <p:blipFill>
          <a:blip r:embed="rId1"/>
          <a:stretch/>
        </p:blipFill>
        <p:spPr>
          <a:xfrm>
            <a:off x="1990800" y="262080"/>
            <a:ext cx="516240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90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Герои - это не только прошл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реди наших современников-туля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оже есть геро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 Афганистане погибли 89 туля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 Чечне - 76, 4 пропали без ве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 других странах погибли 8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ак, при исполнении воинского долга в Афганистане погиб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оины-интернационалисты, кавалеры ордена Красной Звез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Олег Михайленко и Андрей Наза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 1999 году в бою с чеченскими боевиками  погиб, вынося с п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боя раненого товарища, лейтенант милиции Дмитрий Горш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Указом Президента Российской Федерации ему было присво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звание Героя России посмер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851280" cy="2897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-184320" y="4149720"/>
            <a:ext cx="1516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-920880" y="189000"/>
            <a:ext cx="1098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Так выглядит мой город из космо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-1092960" y="5229360"/>
            <a:ext cx="1133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Это славная вековая история и люд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участвовавшие в этой истор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25280" y="2276640"/>
            <a:ext cx="88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Это не просто точка на карт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не просто населенный пунк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682560" y="4221000"/>
            <a:ext cx="777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И, может быть, однажды улицы новых районов нашего растущ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города назовут их именам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anorama_namostu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15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lightray-1146924260_i_4234_full"/>
          <p:cNvPicPr/>
          <p:nvPr/>
        </p:nvPicPr>
        <p:blipFill>
          <a:blip r:embed="rId1"/>
          <a:stretch/>
        </p:blipFill>
        <p:spPr>
          <a:xfrm>
            <a:off x="1549440" y="0"/>
            <a:ext cx="6043680" cy="3900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-160200" y="2867040"/>
            <a:ext cx="9464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мена наиболее выдающихся горож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вековечены в названиях улиц Ту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 среди них много тех, к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е боясь смерти, сражался за свою Род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 свою малую Родину, Ту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 Родину большую — Росси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 Родину всех людей —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ди мира для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-1648440" y="4149720"/>
            <a:ext cx="12441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Совсем по-другому выглядели улицы Ту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в дни тяжелых боев с немецко-фашистски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захватчиками. Город будто ощетинил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не желая впускать вра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2"/>
          <p:cNvPicPr/>
          <p:nvPr/>
        </p:nvPicPr>
        <p:blipFill>
          <a:blip r:embed="rId1"/>
          <a:stretch/>
        </p:blipFill>
        <p:spPr>
          <a:xfrm>
            <a:off x="2033640" y="0"/>
            <a:ext cx="5076720" cy="412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штаб Тульского рабочего полка мех инст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4400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-809640" y="4581360"/>
            <a:ext cx="1076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 здании механического институ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разместился шта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Тульского рабочего пол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В этой старообрядческой церкви находился штаб городского комитета обороны (на ул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38386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493920" y="3860640"/>
            <a:ext cx="8481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 старообрядческой церк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на ул. Володар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находился штаб город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комитета оборо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стро укреплений"/>
          <p:cNvPicPr/>
          <p:nvPr/>
        </p:nvPicPr>
        <p:blipFill>
          <a:blip r:embed="rId1"/>
          <a:stretch/>
        </p:blipFill>
        <p:spPr>
          <a:xfrm>
            <a:off x="1484280" y="1916280"/>
            <a:ext cx="6175440" cy="4451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25560" y="189000"/>
            <a:ext cx="909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На улицах возводил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оборонительные соору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-1013760" y="4756320"/>
            <a:ext cx="714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Это баррика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на улице Совет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и на проспекте Лен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баррикады на пр"/>
          <p:cNvPicPr/>
          <p:nvPr/>
        </p:nvPicPr>
        <p:blipFill>
          <a:blip r:embed="rId1"/>
          <a:stretch/>
        </p:blipFill>
        <p:spPr>
          <a:xfrm>
            <a:off x="4321080" y="2246400"/>
            <a:ext cx="4572000" cy="3414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баррикады на советской"/>
          <p:cNvPicPr/>
          <p:nvPr/>
        </p:nvPicPr>
        <p:blipFill>
          <a:blip r:embed="rId2"/>
          <a:stretch/>
        </p:blipFill>
        <p:spPr>
          <a:xfrm>
            <a:off x="324000" y="333360"/>
            <a:ext cx="457200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-1922040" y="1038240"/>
            <a:ext cx="129913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Кто-то сражался с оружием в руках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кто-то день и ночь стоял у стан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изготовляя это оруж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Город не забыл и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Сегодня многие улицы города носят им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туляков-героев и тех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кто защищал наш город от враг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7:25:27Z</dcterms:created>
  <dc:creator>наташа</dc:creator>
  <dc:description/>
  <dc:language>en-US</dc:language>
  <cp:lastModifiedBy>home_pc</cp:lastModifiedBy>
  <dcterms:modified xsi:type="dcterms:W3CDTF">2013-01-17T08:47:23Z</dcterms:modified>
  <cp:revision>20</cp:revision>
  <dc:subject/>
  <dc:title>Слайд 1</dc:title>
</cp:coreProperties>
</file>