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32F-B89E-4F04-8A3A-D4466EE5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214-755B-450A-B42F-8C38B56B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EE0-90F7-4510-ADA6-C58CE0C9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264-DEC4-4365-9581-CE469AFA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F7F1-3A69-4836-9AFC-3824B744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088A-0EE4-49F0-9FC8-A21C96CB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6E3D-6AB3-4F94-9293-EB8341A8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AF19-B792-4169-85C8-F065E15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AF9A-CA0B-4812-A5BF-62E1A180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4CD1-4E4D-4937-9FB0-B2D84C74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8F5F-67ED-4490-9101-173B3BCA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C50-70C0-41CB-B80A-4ABAFF01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4C76-AAD1-46C6-ACF2-CB10C031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84B2-AE6B-453C-B05A-EF19C525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DFBE-0EF0-4C8C-B670-C396EEA6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0ADE-4D30-49DD-85E9-0165F443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F33A-B155-4EC5-926D-230FDF89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508-97FE-4137-97A3-DF693AEE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1B4-78BC-40BA-A7CD-6629A288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642-C538-422E-A623-8FD6D249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5AE-EE7F-41BC-90BF-4611055D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ED3-4E18-4B3B-A863-36D80824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CBB-531A-4B4A-84C5-1908FE04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692-DAAF-4F0C-8E2D-B9B814D4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7F43-5271-422F-B86B-E6F5FBF0AB58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07CA-F28E-46A6-8DD5-CBE714105844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The Present Continuous Tense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not reading book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drinking te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59054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e is not reading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e is smiling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196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not diving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running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61596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y are smiling now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re they smiling now? Yes, they a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6360" y="1452600"/>
            <a:ext cx="5975280" cy="44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He is swimming at the moment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s he swimming at the moment? No, he is no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4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y are dancing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re they dancing? Yes, they a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826160" cy="4056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y are sleeping now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re they sleeping now? No, they are no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12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He is eating at the moment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s he eating at the moment. No, he is no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608360" cy="409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63280" y="2997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He </a:t>
            </a:r>
            <a:r>
              <a:rPr b="0" lang="en-US" sz="5400" spc="-1" strike="noStrike">
                <a:solidFill>
                  <a:srgbClr val="003399"/>
                </a:solidFill>
                <a:latin typeface="Times New Roman"/>
              </a:rPr>
              <a:t>is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play</a:t>
            </a:r>
            <a:r>
              <a:rPr b="0" lang="en-US" sz="5400" spc="-1" strike="noStrike">
                <a:solidFill>
                  <a:srgbClr val="003399"/>
                </a:solidFill>
                <a:latin typeface="Times New Roman"/>
              </a:rPr>
              <a:t>ing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tennis </a:t>
            </a:r>
            <a:r>
              <a:rPr b="0" lang="en-US" sz="5400" spc="-1" strike="noStrike">
                <a:solidFill>
                  <a:srgbClr val="5f5f5f"/>
                </a:solidFill>
                <a:latin typeface="Times New Roman"/>
              </a:rPr>
              <a:t>now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691920"/>
            <a:ext cx="7775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He plays tennis </a:t>
            </a:r>
            <a:r>
              <a:rPr b="0" lang="en-US" sz="5400" spc="-1" strike="noStrike">
                <a:solidFill>
                  <a:srgbClr val="5f5f5f"/>
                </a:solidFill>
                <a:latin typeface="Times New Roman"/>
              </a:rPr>
              <a:t>every day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48428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36572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541440" y="39337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esent Continuou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47280" y="981000"/>
            <a:ext cx="6696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9200" spc="-1" strike="noStrike">
                <a:solidFill>
                  <a:srgbClr val="003366"/>
                </a:solidFill>
                <a:latin typeface="Times New Roman"/>
              </a:rPr>
              <a:t>to be + Ving</a:t>
            </a:r>
            <a:endParaRPr b="0" lang="en-US" sz="9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1799640" y="3321000"/>
            <a:ext cx="2376360" cy="144360"/>
          </a:xfrm>
          <a:prstGeom prst="rightArrow">
            <a:avLst>
              <a:gd name="adj1" fmla="val 50000"/>
              <a:gd name="adj2" fmla="val 411534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6789600">
            <a:off x="613440" y="3139200"/>
            <a:ext cx="2160360" cy="149040"/>
          </a:xfrm>
          <a:prstGeom prst="rightArrow">
            <a:avLst>
              <a:gd name="adj1" fmla="val 50000"/>
              <a:gd name="adj2" fmla="val 362379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3908400">
            <a:off x="3240000" y="3105000"/>
            <a:ext cx="2158920" cy="216000"/>
          </a:xfrm>
          <a:prstGeom prst="rightArrow">
            <a:avLst>
              <a:gd name="adj1" fmla="val 33204"/>
              <a:gd name="adj2" fmla="val 182732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8360" y="3860640"/>
            <a:ext cx="18000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am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3860640"/>
            <a:ext cx="18000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ar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076640"/>
            <a:ext cx="165744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is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m</a:t>
            </a: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- I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- He, She, I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– You, We, They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71280" y="1125360"/>
            <a:ext cx="6119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sten  -    listen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   -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nc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-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nc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k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-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k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tch  -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tch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t      -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27160" y="4800600"/>
            <a:ext cx="350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316720" cy="4891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95640" y="1413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59240" y="366696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Pau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85264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unt Ja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3160" y="49388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ick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4360" y="220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Joh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1800" y="2781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7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y 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r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read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a book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4005360"/>
            <a:ext cx="763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r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they  read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a book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es, they are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, they are not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2565360"/>
            <a:ext cx="7632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y 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re not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read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a book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not drawing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singing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he is not eating breakfast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he is sleeping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83236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9:18:37Z</dcterms:created>
  <dc:creator>Юлия</dc:creator>
  <dc:description/>
  <dc:language>en-US</dc:language>
  <cp:lastModifiedBy>Admin</cp:lastModifiedBy>
  <dcterms:modified xsi:type="dcterms:W3CDTF">2011-03-08T11:10:35Z</dcterms:modified>
  <cp:revision>7</cp:revision>
  <dc:subject/>
  <dc:title>Слайд 1</dc:title>
</cp:coreProperties>
</file>