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693-DCD8-41B9-8B94-77FE1B62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F93-5A7D-4A44-B684-CF888CC6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22CD-0E49-454F-B6A4-330F4347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EC2-1638-4F3D-A544-E41D5233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942C-62FD-452F-A2B3-36232452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8D79-9DFF-4D3C-A892-C15CBD2E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B941-34FF-4271-9D04-7342D4B4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CE8E-6C43-46E4-802A-AB1E7F1A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69B3-7F49-406E-99CE-3600A224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F80D-B9B5-4EE8-9D47-221CA668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72A0-AF09-49B2-9423-9CF275D2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902-1FEF-49FE-8B07-CEC897F4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16AA-D983-4EDE-8E4C-AC75E1B2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A182-780D-420F-AC22-232E4166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D865-40B5-4DA8-A32D-D8630CD1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72E2-6C99-4491-92ED-6113B1BE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9E55-3190-439B-B904-3831AF44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711-363A-4091-919F-A7027C6C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EB8-8932-45BD-81BA-E60C4198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731-BD23-43F2-B1CC-834BB477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7AD-FC91-4D1D-9C95-543D8AD7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F6C-2250-4CFA-B951-F483A4D8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8B6-510B-495A-A9C1-BAF5B8F2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6D1-E823-414A-B250-757B075C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F5BF-FE59-4314-9292-1F3EBA154EA7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1D6B-EF8A-4676-8FC7-87CCB5DBD87C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The Present Continuous Tense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hey are not reading books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hey are drinking tea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59054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He is not reading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He is smiling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1196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hey are not diving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hey are running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61596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y are smiling now.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re they smiling now? Yes, they ar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76360" y="1452600"/>
            <a:ext cx="5975280" cy="44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He is swimming at the moment.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s he swimming at the moment? No, he is no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46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y are dancing.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re they dancing? Yes, they ar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4826160" cy="4056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y are sleeping now.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re they sleeping now? No, they are no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712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He is eating at the moment.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s he eating at the moment. No, he is no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608360" cy="409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63280" y="2997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He </a:t>
            </a:r>
            <a:r>
              <a:rPr b="0" lang="en-US" sz="5400" spc="-1" strike="noStrike">
                <a:solidFill>
                  <a:srgbClr val="003399"/>
                </a:solidFill>
                <a:latin typeface="Times New Roman"/>
              </a:rPr>
              <a:t>is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play</a:t>
            </a:r>
            <a:r>
              <a:rPr b="0" lang="en-US" sz="5400" spc="-1" strike="noStrike">
                <a:solidFill>
                  <a:srgbClr val="003399"/>
                </a:solidFill>
                <a:latin typeface="Times New Roman"/>
              </a:rPr>
              <a:t>ing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tennis </a:t>
            </a:r>
            <a:r>
              <a:rPr b="0" lang="en-US" sz="5400" spc="-1" strike="noStrike">
                <a:solidFill>
                  <a:srgbClr val="5f5f5f"/>
                </a:solidFill>
                <a:latin typeface="Times New Roman"/>
              </a:rPr>
              <a:t>now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280" y="691920"/>
            <a:ext cx="7775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He plays tennis </a:t>
            </a:r>
            <a:r>
              <a:rPr b="0" lang="en-US" sz="5400" spc="-1" strike="noStrike">
                <a:solidFill>
                  <a:srgbClr val="5f5f5f"/>
                </a:solidFill>
                <a:latin typeface="Times New Roman"/>
              </a:rPr>
              <a:t>every day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148428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365720"/>
            <a:ext cx="828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541440" y="393372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esent Continuou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47280" y="981000"/>
            <a:ext cx="6696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9200" spc="-1" strike="noStrike">
                <a:solidFill>
                  <a:srgbClr val="003366"/>
                </a:solidFill>
                <a:latin typeface="Times New Roman"/>
              </a:rPr>
              <a:t>to be + Ving</a:t>
            </a:r>
            <a:endParaRPr b="0" lang="en-US" sz="9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1799640" y="3321000"/>
            <a:ext cx="2376360" cy="144360"/>
          </a:xfrm>
          <a:prstGeom prst="rightArrow">
            <a:avLst>
              <a:gd name="adj1" fmla="val 50000"/>
              <a:gd name="adj2" fmla="val 411534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6789600">
            <a:off x="613440" y="3139200"/>
            <a:ext cx="2160360" cy="149040"/>
          </a:xfrm>
          <a:prstGeom prst="rightArrow">
            <a:avLst>
              <a:gd name="adj1" fmla="val 50000"/>
              <a:gd name="adj2" fmla="val 362379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3908400">
            <a:off x="3240000" y="3105000"/>
            <a:ext cx="2158920" cy="216000"/>
          </a:xfrm>
          <a:prstGeom prst="rightArrow">
            <a:avLst>
              <a:gd name="adj1" fmla="val 33204"/>
              <a:gd name="adj2" fmla="val 182732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68360" y="3860640"/>
            <a:ext cx="18000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am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3860640"/>
            <a:ext cx="180000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are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4076640"/>
            <a:ext cx="165744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is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m</a:t>
            </a: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- I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- He, She, I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– You, We, They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71280" y="1125360"/>
            <a:ext cx="6119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sten  -    listen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</a:t>
            </a: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   -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nc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-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nc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k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-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k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atch  -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atch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t      -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027160" y="4800600"/>
            <a:ext cx="3505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316720" cy="4891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95640" y="1413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59240" y="3666960"/>
            <a:ext cx="9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Pau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2852640"/>
            <a:ext cx="13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aunt Ja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4437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3160" y="49388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Vick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64360" y="220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Joh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1800" y="2781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7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y 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r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read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g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a book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4005360"/>
            <a:ext cx="763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r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they  read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g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a book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es, they are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, they are not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2565360"/>
            <a:ext cx="7632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y 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re not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read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g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a book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hey are not drawing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hey are singing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576108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he is not eating breakfast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he is sleeping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83236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9:18:37Z</dcterms:created>
  <dc:creator>Юлия</dc:creator>
  <dc:description/>
  <dc:language>en-US</dc:language>
  <cp:lastModifiedBy>Admin</cp:lastModifiedBy>
  <dcterms:modified xsi:type="dcterms:W3CDTF">2011-03-08T11:10:35Z</dcterms:modified>
  <cp:revision>7</cp:revision>
  <dc:subject/>
  <dc:title>Слайд 1</dc:title>
</cp:coreProperties>
</file>