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10.jpeg" ContentType="image/jpeg"/>
  <Override PartName="/ppt/media/image5.png" ContentType="image/png"/>
  <Override PartName="/ppt/media/image9.jpeg" ContentType="image/jpeg"/>
  <Override PartName="/ppt/media/image8.gif" ContentType="image/gif"/>
  <Override PartName="/ppt/media/image18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745-0D97-4740-A5B6-C123FB80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327-9ACB-4077-8426-F1A15D5B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BE3-BF98-4B7D-8B66-4AB06621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613-E75B-43FE-BBEA-70C94923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7D5-416E-4D9F-A443-211EBF93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60B-3675-43FD-AD5C-A48AA6E7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B0A-DFB7-4D43-81BA-810DDDA8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5CF-1D3D-4566-B8D4-71A6FF98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DDA-2A9B-4812-BAB4-538B415B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A34-2EFE-4EF8-86E9-51065C28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2CD-3ADA-4989-BF52-D06811AE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B9F-9C68-4F45-9368-C8BE7499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A48E-0E6E-47CE-A09D-458B8AE8C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9" descr="molniya_groza_foto_01-4.jpg"/>
          <p:cNvPicPr/>
          <p:nvPr/>
        </p:nvPicPr>
        <p:blipFill>
          <a:blip r:embed="rId1"/>
          <a:stretch/>
        </p:blipFill>
        <p:spPr>
          <a:xfrm>
            <a:off x="571680" y="2357280"/>
            <a:ext cx="4898880" cy="45007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8" descr="434529783.jpg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Заголовок 3" descr=""/>
          <p:cNvPicPr/>
          <p:nvPr/>
        </p:nvPicPr>
        <p:blipFill>
          <a:blip r:embed="rId3"/>
          <a:stretch/>
        </p:blipFill>
        <p:spPr>
          <a:xfrm>
            <a:off x="755640" y="0"/>
            <a:ext cx="11410920" cy="1798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33160" y="2933280"/>
            <a:ext cx="7854840" cy="1808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400"/>
            </a:b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0" descr="animated-lightning2.gif"/>
          <p:cNvPicPr/>
          <p:nvPr/>
        </p:nvPicPr>
        <p:blipFill>
          <a:blip r:embed="rId4"/>
          <a:stretch/>
        </p:blipFill>
        <p:spPr>
          <a:xfrm>
            <a:off x="4716360" y="1844640"/>
            <a:ext cx="3598920" cy="479736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11" descr=""/>
          <p:cNvPicPr/>
          <p:nvPr/>
        </p:nvPicPr>
        <p:blipFill>
          <a:blip r:embed="rId5"/>
          <a:stretch/>
        </p:blipFill>
        <p:spPr>
          <a:xfrm>
            <a:off x="179280" y="2421000"/>
            <a:ext cx="468792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13" descr=""/>
          <p:cNvPicPr/>
          <p:nvPr/>
        </p:nvPicPr>
        <p:blipFill>
          <a:blip r:embed="rId6"/>
          <a:stretch/>
        </p:blipFill>
        <p:spPr>
          <a:xfrm>
            <a:off x="1403280" y="5373720"/>
            <a:ext cx="1297080" cy="689040"/>
          </a:xfrm>
          <a:prstGeom prst="rect">
            <a:avLst/>
          </a:prstGeom>
          <a:ln w="0">
            <a:noFill/>
          </a:ln>
        </p:spPr>
      </p:pic>
    </p:spTree>
  </p:cSld>
  <p:transition advTm="9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мол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1357200"/>
            <a:ext cx="82868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ЛНИЯ – ЭТО ГИГАНСКИЙ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ЭЛЕКТРИЧЕСКИЙ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ИСКРОВОЙ ЗАРЯД В АТМОСФЕРЕ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ОЯВЛЯЮЩИЕСЯ ЯРКОЙ ВСПЫШКОЙ СВЕТА И СОПРАВОЖДАЕМЫМ ЕЁ ГРОМОМ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МОЛНИИ ТАКЖЕ БЫЛИ ЗАФИКСИРОВАННЫ НА ВЕНЕРЕ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ЮПИТЕРЕ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АТУРНЕ И УРАНЕ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ТОК МОЛНИИ ДОСТИГ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0-20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ЫСЯЧ АМПЕР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АК ЧТО  МАЛО КОМУ  ИЗ ЖЕРТВ МОЛНИИ УДАЁТСЯ ВЫЖИТЬ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0_9c53b_e18c86f5_XL.gif"/>
          <p:cNvPicPr/>
          <p:nvPr/>
        </p:nvPicPr>
        <p:blipFill>
          <a:blip r:embed="rId1"/>
          <a:stretch/>
        </p:blipFill>
        <p:spPr>
          <a:xfrm>
            <a:off x="2411280" y="2997360"/>
            <a:ext cx="4105440" cy="3644640"/>
          </a:xfrm>
          <a:prstGeom prst="rect">
            <a:avLst/>
          </a:prstGeom>
          <a:ln w="0">
            <a:noFill/>
          </a:ln>
        </p:spPr>
      </p:pic>
      <p:sp>
        <p:nvSpPr>
          <p:cNvPr id="51" name="Молния 7">
            <a:hlinkClick r:id="rId2" action="ppaction://hlinksldjump"/>
          </p:cNvPr>
          <p:cNvSpPr/>
          <p:nvPr/>
        </p:nvSpPr>
        <p:spPr>
          <a:xfrm rot="1131000">
            <a:off x="-102960" y="6246720"/>
            <a:ext cx="765360" cy="55260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strips dir="l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ЛИНЕЙНЫЕ МОЛНИИ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ФОРМА  ЛИНЕЙНОЙ МОЛНИИ НАПОМИНАЕТ РАЗВЕТВЛЕННЫЕ КОРНИ ДЕРЕВ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ДЛИНА ТАКОЙ МОЛНИИ ДОСТИГА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ИЛОМЕТРОВ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ДЛИТЕЛЬНОСТЬ ПРИБЫВАНИЯ ЕЁ НА НЕБОСВОДЕ НЕ ТАК УЖ И ВЕЛИКА: ДЕСЯТЫЕ ДОЛИ СЕКУНДЫ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РЕДНЯЯ СКОРОСТЬ МОЛНИИ В СРЕДНЕМ СОСТАВЛЯЕ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КМ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Lightnings.gif"/>
          <p:cNvPicPr/>
          <p:nvPr/>
        </p:nvPicPr>
        <p:blipFill>
          <a:blip r:embed="rId1"/>
          <a:stretch/>
        </p:blipFill>
        <p:spPr>
          <a:xfrm>
            <a:off x="2411280" y="3284640"/>
            <a:ext cx="3967200" cy="2990880"/>
          </a:xfrm>
          <a:prstGeom prst="rect">
            <a:avLst/>
          </a:prstGeom>
          <a:ln w="0">
            <a:noFill/>
          </a:ln>
        </p:spPr>
      </p:pic>
      <p:sp>
        <p:nvSpPr>
          <p:cNvPr id="55" name="Молния 6">
            <a:hlinkClick r:id="rId2" action="ppaction://hlinksldjump"/>
          </p:cNvPr>
          <p:cNvSpPr/>
          <p:nvPr/>
        </p:nvSpPr>
        <p:spPr>
          <a:xfrm rot="685200">
            <a:off x="-93240" y="6221160"/>
            <a:ext cx="714240" cy="57132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cover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ЖЕМЧУЖНЫЕ МОЛНИ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29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ЖЕМЧУЖНЫЕ ( ЧЕТОЧНЫЕ ) МОЛНИИ- ЭТО ОЧЕНЬ КРАСИВОЕ И РЕДКОЕ ЯВЛЕНИЕ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ОНА ПОЯВЛЯЕТСЯ СРАЗУ ПОСЛЕ ЛИНЕЙНОЙ И ИСЧЕЗАЕТ ПОСТЕПЕННО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ЧАЩЕ ВСЕГО РАЗРЯД ЖЕМЧУЖНОЙ МОЛНИИ ИДЕТ ПО ПУТИ ОБЫЧНОЙ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ЭТА МОЛНИЯ ИМЕЕТ ВИД СВЕТЯЩИХСЯ ШАРОВ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НАПОМИНАЮЩИХ ЖЕМЧУГ НАНИЗАННЫЙ НА НИТК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00_004.jpg"/>
          <p:cNvPicPr/>
          <p:nvPr/>
        </p:nvPicPr>
        <p:blipFill>
          <a:blip r:embed="rId1"/>
          <a:stretch/>
        </p:blipFill>
        <p:spPr>
          <a:xfrm>
            <a:off x="2268360" y="3475080"/>
            <a:ext cx="4104000" cy="3002040"/>
          </a:xfrm>
          <a:prstGeom prst="rect">
            <a:avLst/>
          </a:prstGeom>
          <a:ln w="0">
            <a:noFill/>
          </a:ln>
        </p:spPr>
      </p:pic>
      <p:sp>
        <p:nvSpPr>
          <p:cNvPr id="59" name="Молния 4">
            <a:hlinkClick r:id="rId2" action="ppaction://hlinksldjump"/>
          </p:cNvPr>
          <p:cNvSpPr/>
          <p:nvPr/>
        </p:nvSpPr>
        <p:spPr>
          <a:xfrm rot="1015200">
            <a:off x="-74160" y="6194520"/>
            <a:ext cx="714240" cy="57132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cover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ШАРОВАЯ МОЛН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ТО ФЕНОМЕН ПРИРОДНОГО ЭЛЕКТРИЧЕСТВ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МОЛНИЯ ИМЕЮЩАЯ ФОРМУ  ШАРА И НЕПРЕДСКАЗУЕМУЮ ТРАЕКТОРИЮ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О СЕЙ ДЕНЬ ШАРОВАЯ МОЛНИЯ ЯВЛЯЕТСЯ МАЛОИЗУЧЕННЫМ ФАКТОРОМ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НА ДАННЫЙ МОМЕНТ СУЩЕСТВУЕТ ОКОЛ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200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ВАРИАНТОВ ЕЁ ПРОИСХОЖДЕНИЯ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4" descr="h00.jpg"/>
          <p:cNvPicPr/>
          <p:nvPr/>
        </p:nvPicPr>
        <p:blipFill>
          <a:blip r:embed="rId1"/>
          <a:stretch/>
        </p:blipFill>
        <p:spPr>
          <a:xfrm>
            <a:off x="2340000" y="3429000"/>
            <a:ext cx="4152960" cy="3105000"/>
          </a:xfrm>
          <a:prstGeom prst="rect">
            <a:avLst/>
          </a:prstGeom>
          <a:ln w="0">
            <a:noFill/>
          </a:ln>
        </p:spPr>
      </p:pic>
      <p:sp>
        <p:nvSpPr>
          <p:cNvPr id="63" name="Молния 6"/>
          <p:cNvSpPr/>
          <p:nvPr/>
        </p:nvSpPr>
        <p:spPr>
          <a:xfrm rot="1085400">
            <a:off x="-71280" y="6189480"/>
            <a:ext cx="714240" cy="57132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cover dir="r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ческие свидетель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714240" y="1685520"/>
            <a:ext cx="3429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21 октября 1638 года молния появилась во время грозы в церкви деревушки  в Англии. Он выбил из стен церкви несколько больших камней и деревянных балок. Затем шар, якобы, сломал скамейки, разбил много окон и наполнил помещение густым тёмным дымом.Потом он разделился пополам; первый шар вылетел наружу, разбив ещё одно окно, второй исчез где-то внутри церкви. В результате 4 человека погибло, 60 получили ран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5" descr="Ball_lightning.png"/>
          <p:cNvPicPr/>
          <p:nvPr/>
        </p:nvPicPr>
        <p:blipFill>
          <a:blip r:embed="rId1"/>
          <a:stretch/>
        </p:blipFill>
        <p:spPr>
          <a:xfrm>
            <a:off x="4357800" y="2143080"/>
            <a:ext cx="4572000" cy="4500720"/>
          </a:xfrm>
          <a:prstGeom prst="rect">
            <a:avLst/>
          </a:prstGeom>
          <a:ln w="0">
            <a:noFill/>
          </a:ln>
        </p:spPr>
      </p:pic>
      <p:sp>
        <p:nvSpPr>
          <p:cNvPr id="68" name="Молния 6"/>
          <p:cNvSpPr/>
          <p:nvPr/>
        </p:nvSpPr>
        <p:spPr>
          <a:xfrm rot="1054800">
            <a:off x="-84240" y="6208200"/>
            <a:ext cx="714600" cy="57168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comb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"/>
          <p:cNvSpPr/>
          <p:nvPr/>
        </p:nvSpPr>
        <p:spPr>
          <a:xfrm>
            <a:off x="395280" y="2298600"/>
            <a:ext cx="15717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В июле 1907 года на западном побережье Австралии в м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Gulim"/>
              </a:rPr>
              <a:t>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ударила шаровая молния. Смотритель маяка Патрик Бэйрд лишился сознания, а явление описала его дочь Э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357120" y="1714680"/>
            <a:ext cx="41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2857680" y="1714680"/>
            <a:ext cx="46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о время Второй мировой войны пилоты сообщали о странных явлениях, которые могут быть истолкованы как шаровая молния. Они видели маленькие шары, двигающиеся по необычной траек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2500200" y="1714680"/>
            <a:ext cx="3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5" descr="lightning_ball_noaa-660x545.jpg"/>
          <p:cNvPicPr/>
          <p:nvPr/>
        </p:nvPicPr>
        <p:blipFill>
          <a:blip r:embed="rId2"/>
          <a:stretch/>
        </p:blipFill>
        <p:spPr>
          <a:xfrm>
            <a:off x="5429160" y="3430440"/>
            <a:ext cx="3714840" cy="34275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6" descr="1282621904-1-images457279_T17_may_bay.jpeg"/>
          <p:cNvPicPr/>
          <p:nvPr/>
        </p:nvPicPr>
        <p:blipFill>
          <a:blip r:embed="rId3"/>
          <a:stretch/>
        </p:blipFill>
        <p:spPr>
          <a:xfrm>
            <a:off x="2214720" y="3429000"/>
            <a:ext cx="3214440" cy="3214800"/>
          </a:xfrm>
          <a:prstGeom prst="rect">
            <a:avLst/>
          </a:prstGeom>
          <a:ln w="0">
            <a:noFill/>
          </a:ln>
        </p:spPr>
      </p:pic>
      <p:sp>
        <p:nvSpPr>
          <p:cNvPr id="76" name="Молния 8"/>
          <p:cNvSpPr/>
          <p:nvPr/>
        </p:nvSpPr>
        <p:spPr>
          <a:xfrm rot="903000">
            <a:off x="-81000" y="6203880"/>
            <a:ext cx="714240" cy="57168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0" y="18572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то безвредное холодное электричество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появляющееся на мачтах кораблей и шпилях зданий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Огоньки так названы из-за церкви святого Эльма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котором они часто появлялись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х видели Юлий Цезарь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ристофор Колумб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ернан Магеллан и 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гоньки Святого Эльма считались хорошей приметой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" descr="dbqCdEQMZcY.jpg"/>
          <p:cNvPicPr/>
          <p:nvPr/>
        </p:nvPicPr>
        <p:blipFill>
          <a:blip r:embed="rId2"/>
          <a:stretch/>
        </p:blipFill>
        <p:spPr>
          <a:xfrm>
            <a:off x="611280" y="3357720"/>
            <a:ext cx="2859120" cy="32842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fc6f38c2ba66.jpg"/>
          <p:cNvPicPr/>
          <p:nvPr/>
        </p:nvPicPr>
        <p:blipFill>
          <a:blip r:embed="rId3"/>
          <a:stretch/>
        </p:blipFill>
        <p:spPr>
          <a:xfrm>
            <a:off x="4211640" y="3429000"/>
            <a:ext cx="4427640" cy="3187800"/>
          </a:xfrm>
          <a:prstGeom prst="rect">
            <a:avLst/>
          </a:prstGeom>
          <a:ln w="0">
            <a:noFill/>
          </a:ln>
        </p:spPr>
      </p:pic>
      <p:sp>
        <p:nvSpPr>
          <p:cNvPr id="81" name="Молния 6"/>
          <p:cNvSpPr/>
          <p:nvPr/>
        </p:nvSpPr>
        <p:spPr>
          <a:xfrm rot="1029000">
            <a:off x="-74520" y="6194520"/>
            <a:ext cx="714240" cy="57132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fantasy-background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428760" y="1928880"/>
            <a:ext cx="871524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onstantia"/>
              </a:rPr>
              <a:t>Что такое мол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нейные молн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емчужные мол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Шаровая мол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5-7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торические сведе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гоньки Святого Эл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6" descr="1213982780_6.gif"/>
          <p:cNvPicPr/>
          <p:nvPr/>
        </p:nvPicPr>
        <p:blipFill>
          <a:blip r:embed="rId3"/>
          <a:stretch/>
        </p:blipFill>
        <p:spPr>
          <a:xfrm flipH="1" rot="10800000">
            <a:off x="4284720" y="734400"/>
            <a:ext cx="4174920" cy="158436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3" descr=""/>
          <p:cNvPicPr/>
          <p:nvPr/>
        </p:nvPicPr>
        <p:blipFill>
          <a:blip r:embed="rId4"/>
          <a:stretch/>
        </p:blipFill>
        <p:spPr>
          <a:xfrm>
            <a:off x="4788000" y="4724280"/>
            <a:ext cx="3717720" cy="1744920"/>
          </a:xfrm>
          <a:prstGeom prst="rect">
            <a:avLst/>
          </a:prstGeom>
          <a:ln w="0">
            <a:noFill/>
          </a:ln>
        </p:spPr>
      </p:pic>
    </p:spTree>
  </p:cSld>
  <p:transition advTm="1000"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17:01:12Z</dcterms:created>
  <dc:creator>Соболев А. Д.</dc:creator>
  <dc:description/>
  <dc:language>en-US</dc:language>
  <cp:lastModifiedBy>Соболев А. Д.</cp:lastModifiedBy>
  <dcterms:modified xsi:type="dcterms:W3CDTF">2014-11-05T17:09:43Z</dcterms:modified>
  <cp:revision>5</cp:revision>
  <dc:subject/>
  <dc:title>Слайд 1</dc:title>
</cp:coreProperties>
</file>