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FCEC-1EA3-48AD-820C-FC556B451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A99B-C344-49A2-AAC8-38CE5656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A546-9054-4B9C-BB8F-3D7E130EA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1DF0-5EF9-4B90-95F3-E91D847FB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939A-CDEC-43ED-93EA-B946A7B83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F477-1FA0-4665-BF68-48F1DB92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37B2D-A0E1-4D4A-B2C9-1208312C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589B-8060-4377-81B1-B27573EC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8D38E-C60F-451F-8988-32E1664D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B206-9594-4FAC-882D-5B2A8B36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12DB-1F49-452D-8DD7-9A058072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50F4-7FA6-40A8-807D-C3680369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AE993-07F7-4F98-8383-12C09BEF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01FAC-99C0-4E1F-A6EA-3780A60E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B351-2E66-4122-ABE2-4D2CE3E4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9761-D150-42BF-A24D-0D135FCA9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86C5-2E3E-4F6E-83B6-BFE249522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48C26C-09C8-4C5E-9E09-7A6C30985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E66343-096F-44DF-B8F8-0CAB39FF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69F3F4-390B-4C20-8035-AAA1624F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6C1D3E-272A-4D21-A8B1-F9071C3B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89A356-D56C-4D1D-A6EF-EF15E69E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B62F-3E9E-4B6F-8509-E4C836EB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468A33-7344-4311-B37B-F01B5AF0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DD5606-12C8-492F-8971-E397709E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E77AC0-1A43-4370-9AAB-E997406D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28E959-6001-4273-B911-7625579D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7E4469-6AC1-456D-AC3D-CA8B23A9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4ABBBD-931A-4372-82C4-22571737C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738035-9133-424D-8780-ED59EB6BD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36595-6F69-4F2F-9B11-A1ED8B76A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017E0-5934-4E60-9DBC-9ACAF7C9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48326-07C2-4E93-A182-4ADD8F35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F700-CA06-418A-B4F2-F49F8602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0F227-FCCC-4BC5-AD01-CA2151FD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877AC-73CD-454B-B49F-6EC55541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FB0DA-E81E-4725-89E8-22D8E71C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B4BEB-1A17-417B-8633-BB152F64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4B54D-C82F-4511-8EDA-0C4744B3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3F15F-C6C0-400D-8CFB-7AFE027A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4D0ED-B2F2-4FED-AB65-2C2A2B31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BAAE1-5E30-4168-AAEC-CB08CDC9F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A5D56-8B95-450B-BAA9-731AC1E73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34F159-F529-49F7-BCD6-D54B2A6B3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1DC5-ECF2-433D-93BA-253E59CD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02E23A-788A-4E61-AE74-0708FB3D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290E56-4B01-4E23-8F96-678084DC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6B56DB-B98E-4CFC-9AD4-B0464958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1787A1-2AB7-4971-8D56-F5031BF8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92CD88-4F38-42A3-AAA8-B9E84E1D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6283E4-A43B-4070-93B9-28EE0423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5185E1-2873-4A5E-BB09-1A327DC1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382F33-2752-4B63-B11F-9EF5AB26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53886E-151D-48FD-9A81-48E1F594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81FA28-8BF0-41D9-8F92-E4F18EF2D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A21C-1923-4EAD-8383-7D7EE889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80E685-95DA-44F8-809F-35C2BCAAA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1C83E2-C3ED-4FDA-8D11-C26309765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C3E92C-A279-4965-BE74-8F3CD344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B9F64E-F9B1-42D3-B681-07B46298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A1963D-58AC-4A3C-BBA5-A380E3B9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E6967F-B770-45E4-8307-7CFB5283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F62664-8619-4EAF-A7D7-47223E3C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332391-3A24-41F1-BEDD-6666C6BC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FD015D-38D7-4410-A286-B0899F68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2BA14C-938E-4152-BA65-D568CEB6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0CCD-159D-4451-A4B3-2109960B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AC2A9E-1291-4006-B58D-ABE16409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95FA33-7974-4047-B1FE-5D5D61F27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45EE67-8D31-494D-91D5-7E3005EBE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0C17B9-3259-435B-B9EE-EAAE35C8D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CA318D-077C-4B35-9956-F0322972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D87A8C-AD17-4669-BAD5-05321F50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827F74-8B11-4355-AA3B-08269EB0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CAB0F7-2893-4C21-8B3D-73453A5F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ADF9B6-83E2-434E-9AE7-9FC691D6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CD6EF2-0A89-4A19-8FD3-EBB903A2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3BEE-5875-4308-969A-8A14DB14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0C1F9F-E85B-40B9-AB5E-1B9A4681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AC6B62-674D-442C-B9D2-E2F51B89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5FE8C8-C331-4895-B1E8-9594E299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079CF1-4664-4254-A0B1-0EAF80BB0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85560F-D70E-44BF-BE20-D2499EFA8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183A-9E32-4D6D-AAED-41DC4598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A4DC-99BA-4B12-B711-ABDF0705F93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5A9E-B5E9-4E90-B9F0-245804B2637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C57B-BC38-4FBE-9930-B3CE3F15AA0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0148-E9ED-43C7-BBC4-C5C7360FA32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27B1-774C-4E74-B265-122B938225D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A408-4B94-473A-A3DA-A14D7EFFE61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E47D-4658-4751-9CCC-C176B6730D0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08000" y="1341000"/>
            <a:ext cx="72360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br>
              <a:rPr sz="6000"/>
            </a:b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РОДНАЯ </a:t>
            </a:r>
            <a:br>
              <a:rPr sz="6000"/>
            </a:b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КЛА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0" y="4149720"/>
            <a:ext cx="91440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дашова Ирина Анатольевна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даватель изобразительного искусства и технологи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СПО «Лукояновский педагогический колледж им. А.М. Горького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Рисунок 53" descr="Кукла из ткани. Мастер класс"/>
          <p:cNvPicPr/>
          <p:nvPr/>
        </p:nvPicPr>
        <p:blipFill>
          <a:blip r:embed="rId1"/>
          <a:srcRect l="15867" t="5281" r="14589" b="14080"/>
          <a:stretch/>
        </p:blipFill>
        <p:spPr>
          <a:xfrm>
            <a:off x="324000" y="0"/>
            <a:ext cx="1955520" cy="1700280"/>
          </a:xfrm>
          <a:prstGeom prst="rect">
            <a:avLst/>
          </a:prstGeom>
          <a:ln w="0">
            <a:noFill/>
          </a:ln>
        </p:spPr>
      </p:pic>
      <p:sp>
        <p:nvSpPr>
          <p:cNvPr id="374" name="Прямоугольник 2"/>
          <p:cNvSpPr/>
          <p:nvPr/>
        </p:nvSpPr>
        <p:spPr>
          <a:xfrm>
            <a:off x="2916360" y="18900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озьмите круг большего диаметра, положите в центр вату, завяжите нит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3"/>
          <p:cNvSpPr/>
          <p:nvPr/>
        </p:nvSpPr>
        <p:spPr>
          <a:xfrm>
            <a:off x="2916360" y="1268280"/>
            <a:ext cx="58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озьмите круг среднего диаметра, расправьте аккуратно все складки, завяжите нит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Рисунок 54" descr="Кукла из ткани. Мастер класс"/>
          <p:cNvPicPr/>
          <p:nvPr/>
        </p:nvPicPr>
        <p:blipFill>
          <a:blip r:embed="rId2"/>
          <a:srcRect l="0" t="12306" r="0" b="25709"/>
          <a:stretch/>
        </p:blipFill>
        <p:spPr>
          <a:xfrm>
            <a:off x="684360" y="1700280"/>
            <a:ext cx="1942920" cy="1606320"/>
          </a:xfrm>
          <a:prstGeom prst="rect">
            <a:avLst/>
          </a:prstGeom>
          <a:ln w="0">
            <a:noFill/>
          </a:ln>
        </p:spPr>
      </p:pic>
      <p:sp>
        <p:nvSpPr>
          <p:cNvPr id="377" name="Прямоугольник 6"/>
          <p:cNvSpPr/>
          <p:nvPr/>
        </p:nvSpPr>
        <p:spPr>
          <a:xfrm>
            <a:off x="2843280" y="263700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озьмите круг меньшего диаметра, завяжите нитку. Получается три юбки кук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Рисунок 55" descr="Русская народная кукла своими руками"/>
          <p:cNvPicPr/>
          <p:nvPr/>
        </p:nvPicPr>
        <p:blipFill>
          <a:blip r:embed="rId3"/>
          <a:srcRect l="0" t="7022" r="4001" b="35520"/>
          <a:stretch/>
        </p:blipFill>
        <p:spPr>
          <a:xfrm>
            <a:off x="324000" y="3284640"/>
            <a:ext cx="1944360" cy="1552320"/>
          </a:xfrm>
          <a:prstGeom prst="rect">
            <a:avLst/>
          </a:prstGeom>
          <a:ln w="0">
            <a:noFill/>
          </a:ln>
        </p:spPr>
      </p:pic>
      <p:pic>
        <p:nvPicPr>
          <p:cNvPr id="379" name="Рисунок 10" descr="Кукла-колокольчик"/>
          <p:cNvPicPr/>
          <p:nvPr/>
        </p:nvPicPr>
        <p:blipFill>
          <a:blip r:embed="rId4"/>
          <a:srcRect l="17378" t="8841" r="19117" b="10774"/>
          <a:stretch/>
        </p:blipFill>
        <p:spPr>
          <a:xfrm>
            <a:off x="2700360" y="4946760"/>
            <a:ext cx="2016000" cy="1911240"/>
          </a:xfrm>
          <a:prstGeom prst="rect">
            <a:avLst/>
          </a:prstGeom>
          <a:ln w="0">
            <a:noFill/>
          </a:ln>
        </p:spPr>
      </p:pic>
      <p:pic>
        <p:nvPicPr>
          <p:cNvPr id="380" name="Рисунок 56" descr="Русская народная кукла своими руками"/>
          <p:cNvPicPr/>
          <p:nvPr/>
        </p:nvPicPr>
        <p:blipFill>
          <a:blip r:embed="rId5"/>
          <a:srcRect l="10799" t="29205" r="7127" b="23755"/>
          <a:stretch/>
        </p:blipFill>
        <p:spPr>
          <a:xfrm>
            <a:off x="684360" y="4869000"/>
            <a:ext cx="1979640" cy="1655640"/>
          </a:xfrm>
          <a:prstGeom prst="rect">
            <a:avLst/>
          </a:prstGeom>
          <a:ln w="0">
            <a:noFill/>
          </a:ln>
        </p:spPr>
      </p:pic>
      <p:sp>
        <p:nvSpPr>
          <p:cNvPr id="381" name="Прямоугольник 10"/>
          <p:cNvSpPr/>
          <p:nvPr/>
        </p:nvSpPr>
        <p:spPr>
          <a:xfrm>
            <a:off x="2843280" y="378936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озьмите квадратный лоскут белого цвета, сложите его по диагонали. Затем сформируйте голову, завяжите нит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11"/>
          <p:cNvSpPr/>
          <p:nvPr/>
        </p:nvSpPr>
        <p:spPr>
          <a:xfrm>
            <a:off x="4788000" y="4941720"/>
            <a:ext cx="388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озьмите треугольник цветной ткани и завяжите платок сзади, на спине. Кукла «Колокольчик» - готов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Прямоугольник 1"/>
          <p:cNvSpPr/>
          <p:nvPr/>
        </p:nvSpPr>
        <p:spPr>
          <a:xfrm>
            <a:off x="250920" y="26028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2"/>
          <p:cNvSpPr/>
          <p:nvPr/>
        </p:nvSpPr>
        <p:spPr>
          <a:xfrm>
            <a:off x="250920" y="189000"/>
            <a:ext cx="842472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ПОЛЬЗУЕМАЯ ЛИТЕРАТУ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христюк И. А. Кукла, школа материнства. – М.: Красота, 1993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йн Г. Л.  Русская тряпичная кукла. – Тверь: Культура и традиции, 2007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ина З. И.  Текстильные обрядовые куклы. – М.: Ладога-100, 2007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ва И. Н.  Русские обряды и традиции. Народная кукла. – СПб.: Паритет, 2003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ыкова И. А.   Бабушкины куколки. –М.: Цветной мир, 201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ыкова И. А.   Куколки из сундучка. Любимые игрушки своими руками. –М.: Цветной мир, 201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ачук Т. М.  Тряпичные куклы. М.: АСТ, 2008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Прямоугольник 6"/>
          <p:cNvSpPr/>
          <p:nvPr/>
        </p:nvSpPr>
        <p:spPr>
          <a:xfrm>
            <a:off x="900000" y="981000"/>
            <a:ext cx="755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м добрых и приятных новостей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Прямоугольник 1"/>
          <p:cNvSpPr/>
          <p:nvPr/>
        </p:nvSpPr>
        <p:spPr>
          <a:xfrm>
            <a:off x="324000" y="260280"/>
            <a:ext cx="8351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ая распространенная в мире игрушка – это кукла – знак человека, его игровой образ-симво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то в куклы не играет, тот счастья не знает» – гласит русская поговорка. Издавна игра в куклы поощрялась взрослыми, поскольку, играя в них ребенок познавал мир, учился вести хозяйство, обретал образ семьи. Кукла была не просто игрушкой, она была знаком продолжения рода, залогом семейного счастья и благополуч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и предки верили, что рукотворные куклы могут отвести злые силы и беду, избавить от болезни и бессонницы, защитить от врага, помочь вырастить богатый урожай, привлечь в дом счастье, богатство, мир и л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Прямоугольник 1"/>
          <p:cNvSpPr/>
          <p:nvPr/>
        </p:nvSpPr>
        <p:spPr>
          <a:xfrm>
            <a:off x="179280" y="0"/>
            <a:ext cx="856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изготовления народных кукол можно использовать различные материалы: солому, ветки, бересту, нитки и веревки, лоскутки тка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ные куклы делятся на игровые, обрядовые и обереги. Игровые могут быть как в виде людей, так и в виде фигур живот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4" descr="http://www.pribaikal.ru/fileadmin/Images/Unions/FolkMasters/Kukla/folk-doll-041.jpg"/>
          <p:cNvPicPr/>
          <p:nvPr/>
        </p:nvPicPr>
        <p:blipFill>
          <a:blip r:embed="rId1"/>
          <a:stretch/>
        </p:blipFill>
        <p:spPr>
          <a:xfrm>
            <a:off x="395280" y="2349360"/>
            <a:ext cx="2016000" cy="23907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http://www.ozedu.ru/files/u2353/32.jpg"/>
          <p:cNvPicPr/>
          <p:nvPr/>
        </p:nvPicPr>
        <p:blipFill>
          <a:blip r:embed="rId2"/>
          <a:stretch/>
        </p:blipFill>
        <p:spPr>
          <a:xfrm>
            <a:off x="5867280" y="4370400"/>
            <a:ext cx="2089440" cy="24876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http://data14.gallery.ru/albums/gallery/213290-0bd26-41173676-m750x740-uf67b6.jpg"/>
          <p:cNvPicPr/>
          <p:nvPr/>
        </p:nvPicPr>
        <p:blipFill>
          <a:blip r:embed="rId3"/>
          <a:srcRect l="4394" t="4586" r="7881" b="8301"/>
          <a:stretch/>
        </p:blipFill>
        <p:spPr>
          <a:xfrm>
            <a:off x="2843280" y="4487760"/>
            <a:ext cx="2555640" cy="23702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0" descr="http://gorodigrushek.ru/wp-content/uploads/2011/09/1loshad.jpg"/>
          <p:cNvPicPr/>
          <p:nvPr/>
        </p:nvPicPr>
        <p:blipFill>
          <a:blip r:embed="rId4"/>
          <a:stretch/>
        </p:blipFill>
        <p:spPr>
          <a:xfrm>
            <a:off x="826920" y="4292640"/>
            <a:ext cx="2102040" cy="25653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6" descr="http://gorodigrushek.ru/wp-content/uploads/2011/09/1d1.jpg"/>
          <p:cNvPicPr/>
          <p:nvPr/>
        </p:nvPicPr>
        <p:blipFill>
          <a:blip r:embed="rId5"/>
          <a:srcRect l="3772" t="5971" r="3999" b="4454"/>
          <a:stretch/>
        </p:blipFill>
        <p:spPr>
          <a:xfrm>
            <a:off x="4500720" y="2421000"/>
            <a:ext cx="1655640" cy="20368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8" descr="http://img-fotki.yandex.ru/get/6435/125705038.26/0_a5b5b_ef8e4ad_XL.jpg"/>
          <p:cNvPicPr/>
          <p:nvPr/>
        </p:nvPicPr>
        <p:blipFill>
          <a:blip r:embed="rId6"/>
          <a:stretch/>
        </p:blipFill>
        <p:spPr>
          <a:xfrm>
            <a:off x="2700360" y="2349360"/>
            <a:ext cx="1913040" cy="23749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9" descr="C:\Users\Ирина\Documents\технология\куклы\из ткани птичка.jpg"/>
          <p:cNvPicPr/>
          <p:nvPr/>
        </p:nvPicPr>
        <p:blipFill>
          <a:blip r:embed="rId7"/>
          <a:stretch/>
        </p:blipFill>
        <p:spPr>
          <a:xfrm>
            <a:off x="5940360" y="2492280"/>
            <a:ext cx="2997360" cy="1800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0" y="-484560"/>
            <a:ext cx="65880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ыми распространенными были куклы, оберегавшие здоровье и спокойный сон всех домочадцев – это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куклы-травниц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 которые по поверьям, изгоняли из дома злых духов болез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авницы, как говорит само название, наполнялись душистыми травами. Если такую куклу помять в руках или просто пошевелить, то по дому распространится целебный травяной аромат. Это эфирные масла, которыми так богаты лекарственные трав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убышку-травницу, как её ещё называли, подвешивали над колыбелью младенца, давали играть детям и ставили у постели больного. Вдыхание эфирных масел способствовало профилактике детских простуд и ускоряло выздоровление в случае болез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" descr="C:\Users\Ирина\Documents\технология\куклы\кубышка кукла.jpg"/>
          <p:cNvPicPr/>
          <p:nvPr/>
        </p:nvPicPr>
        <p:blipFill>
          <a:blip r:embed="rId1"/>
          <a:stretch/>
        </p:blipFill>
        <p:spPr>
          <a:xfrm>
            <a:off x="6588000" y="2708280"/>
            <a:ext cx="2232000" cy="23954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5" descr="116546_medium"/>
          <p:cNvPicPr/>
          <p:nvPr/>
        </p:nvPicPr>
        <p:blipFill>
          <a:blip r:embed="rId2"/>
          <a:stretch/>
        </p:blipFill>
        <p:spPr>
          <a:xfrm>
            <a:off x="6084720" y="333360"/>
            <a:ext cx="3211560" cy="21589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оугольник 1"/>
          <p:cNvSpPr/>
          <p:nvPr/>
        </p:nvSpPr>
        <p:spPr>
          <a:xfrm>
            <a:off x="324000" y="47628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сиделки вместе с прялкой девочки-подростки брали корзинку со своими куклами. К ним относились бережно – кукол никогда не разбрасывали по избе и не оставляли на улице после игр, брали на жатву и посиделки, приносили с собой в гости. Кукол передавали от бабушки к внучке, от матери к доче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и изготовления тряпичных кукол на территории, где проживали славянские народы существовали вплоть до начала 20 века. Затем, в связи с появлением резиновых и пластмассовых фабричных игрушек, они были потеря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рямоугольник 1"/>
          <p:cNvSpPr/>
          <p:nvPr/>
        </p:nvSpPr>
        <p:spPr>
          <a:xfrm>
            <a:off x="250920" y="260280"/>
            <a:ext cx="8353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годняшний день известно множество способов изготовления народной кукл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ем Лукояновском педагогическом колледже мы изучаем эту тему, выполняем кукол на практических занятиях. Студентам очень нравится делать традиционных народных куко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ках технологии учащиеся начальных классов также знакомятся с традициями и приемами изготовления традиционной лоскутной кук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япичная кукла – игрушка с ценными воспитательными качествами, это великолепный образец для занятий по рукоделию, художественному труду и творчеству, декоративно-прикладному искусству и текстильному дизай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050560" y="1557360"/>
            <a:ext cx="709308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ЕР-КЛАСС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РОДНАЯ 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КЛА -«КОЛОКОЛЬЧИК»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Прямоугольник 1"/>
          <p:cNvSpPr/>
          <p:nvPr/>
        </p:nvSpPr>
        <p:spPr>
          <a:xfrm>
            <a:off x="250920" y="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кла «Колокольчик»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укла добрых вестей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2"/>
          <p:cNvSpPr/>
          <p:nvPr/>
        </p:nvSpPr>
        <p:spPr>
          <a:xfrm>
            <a:off x="324000" y="404640"/>
            <a:ext cx="61196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русская народная кукла родилась на Валдае – родине настоящих литых колоколов, и быстро распространилась по Руси. По традиции, куклу дарили тем, кто собирался в дальнюю дорогу, как пожелание доброго пути. Еще Колокольчик называют «куклой добрых вестей» потому что ее дарили с пожеланием получать только добрые ве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если сделать не одну, а несколько разноцветных куколок, связать их вместе, закрепить дома у входной или межкомнатной двери, у окна или у компьютера, в автомобиле или украсить мобильный телефон – можно ждать радостных весте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cover_img" descr="Набор для изготовления народной куклы &quot;Колокольчик&quot;"/>
          <p:cNvPicPr/>
          <p:nvPr/>
        </p:nvPicPr>
        <p:blipFill>
          <a:blip r:embed="rId1"/>
          <a:stretch/>
        </p:blipFill>
        <p:spPr>
          <a:xfrm>
            <a:off x="6516720" y="3284640"/>
            <a:ext cx="2236680" cy="2238120"/>
          </a:xfrm>
          <a:prstGeom prst="rect">
            <a:avLst/>
          </a:prstGeom>
          <a:ln w="0">
            <a:noFill/>
          </a:ln>
        </p:spPr>
      </p:pic>
      <p:pic>
        <p:nvPicPr>
          <p:cNvPr id="371" name="Рисунок 92" descr="http://cs3.livemaster.ru/zhurnalfoto/9/8/8/121212142631.jpg"/>
          <p:cNvPicPr/>
          <p:nvPr/>
        </p:nvPicPr>
        <p:blipFill>
          <a:blip r:embed="rId2"/>
          <a:srcRect l="3929" t="17268" r="4724" b="10677"/>
          <a:stretch/>
        </p:blipFill>
        <p:spPr>
          <a:xfrm>
            <a:off x="6516720" y="549360"/>
            <a:ext cx="2259000" cy="23749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Прямоугольник 1"/>
          <p:cNvSpPr/>
          <p:nvPr/>
        </p:nvSpPr>
        <p:spPr>
          <a:xfrm>
            <a:off x="179280" y="0"/>
            <a:ext cx="8640720" cy="68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75c01"/>
                </a:solidFill>
                <a:latin typeface="Times New Roman"/>
              </a:rPr>
              <a:t>«Скажи мн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75c01"/>
                </a:solidFill>
                <a:latin typeface="Times New Roman"/>
              </a:rPr>
              <a:t>                    </a:t>
            </a:r>
            <a:r>
              <a:rPr b="1" lang="ru-RU" sz="2400" spc="-1" strike="noStrike">
                <a:solidFill>
                  <a:srgbClr val="e75c01"/>
                </a:solidFill>
                <a:latin typeface="Times New Roman"/>
              </a:rPr>
              <a:t>и я забу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75c01"/>
                </a:solidFill>
                <a:latin typeface="Times New Roman"/>
              </a:rPr>
              <a:t>Покажи мне, –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75c01"/>
                </a:solidFill>
                <a:latin typeface="Times New Roman"/>
              </a:rPr>
              <a:t>                  </a:t>
            </a:r>
            <a:r>
              <a:rPr b="1" lang="ru-RU" sz="2400" spc="-1" strike="noStrike">
                <a:solidFill>
                  <a:srgbClr val="e75c01"/>
                </a:solidFill>
                <a:latin typeface="Times New Roman"/>
              </a:rPr>
              <a:t>я смогу запомн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75c01"/>
                </a:solidFill>
                <a:latin typeface="Times New Roman"/>
              </a:rPr>
              <a:t>Позволь мне это сделать самом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75c01"/>
                </a:solidFill>
                <a:latin typeface="Times New Roman"/>
              </a:rPr>
              <a:t>И это станет моим навсег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i="1" lang="ru-RU" sz="2400" spc="-1" strike="noStrike">
                <a:solidFill>
                  <a:srgbClr val="9a3d01"/>
                </a:solidFill>
                <a:latin typeface="Times New Roman"/>
              </a:rPr>
              <a:t>Древняя мудр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ыполнения куклы «Колокольчик»  нужны следующие материалы (берутся только натуральные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та (или ветошь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ный лоскут белой ткан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круглых лоскута разноцветной ткани разного диаметра - для ю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 цветной ткани – для плат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тки красного ц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 ПОЗИТИВНОЕ НАСТРОЕ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6T12:22:51Z</dcterms:created>
  <dc:creator>Ирина</dc:creator>
  <dc:description/>
  <dc:language>en-US</dc:language>
  <cp:lastModifiedBy>Ирина</cp:lastModifiedBy>
  <dcterms:modified xsi:type="dcterms:W3CDTF">2014-11-05T15:49:01Z</dcterms:modified>
  <cp:revision>39</cp:revision>
  <dc:subject/>
  <dc:title>Мастер-класс ИЗГОТОВЛЕНИЕ  НАРОДНОЙ КУКЛЫ</dc:title>
</cp:coreProperties>
</file>