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A79-7940-414C-BF8A-935107DD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725-0524-407F-87D2-1D60115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05F-BF64-41F9-BD10-F58D5612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AEB-EC49-439B-A476-0F9B4BEE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9BDD-CAEA-44A6-B6F8-EA100079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E605-428F-4E25-83AF-C38C83B2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CBA1-F26A-445A-AAF4-CCCCA97F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E433-F011-4D60-B43E-88A07526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0224-6B13-4DF6-84CE-AA607D55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7129-652F-47C5-A20C-C3B56078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6A5C-E8E5-489F-839A-462B419C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311-54DE-4CCA-A810-2500E065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7760-3473-487C-8C2A-F9FA1C1B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C61E-5CA0-4E48-8F0C-E9C8A86F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BCFB-555A-4BFD-95EB-9987C8A2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0DA6-557B-4639-9817-09E4487F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FFFD-B686-49DA-A6C4-86B5BCA2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6716-F252-45DA-B0D0-A3DFE0DB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A5A5-89FA-4F44-AACB-8374F542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1F72D-5154-4D09-9424-9818D73C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5A45-3A52-4982-BCB7-F5570A53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8E0E-29AB-4096-969D-5AB317FA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B11-EA1F-41E5-B686-F6FB5BDE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8B2F-740B-49D1-A1FC-E9417D56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E2602-B87A-4D6C-9ABA-1707E753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57EB-0572-4143-B010-22B1D917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5794-ADD5-459F-93FE-2585D8E8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262C5-614E-466B-8D61-19F302D0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4F6B6-C2BB-4F13-8933-974D10FC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F6C0-F3E5-4E38-B34F-387789B8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E6B-32FC-49D8-A1C9-F486A37A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D6B-BDFC-40F0-91CC-DFF42943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888-FC38-4A05-910B-BDD29003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A83-3778-435D-92D9-9830F502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A5B-32DF-4F38-86DA-447E7E02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C5F-1E44-41CC-B9A5-C1FCCD71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645B-EAD9-43E3-B135-4F06B3703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FCD-0A2B-4B97-B3D3-C7CB091B3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694E-B835-4CD1-B92E-AB2ACE3AD8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Cloud"/>
          <p:cNvSpPr/>
          <p:nvPr/>
        </p:nvSpPr>
        <p:spPr>
          <a:xfrm>
            <a:off x="304920" y="609480"/>
            <a:ext cx="2819160" cy="1371600"/>
          </a:xfrm>
          <a:custGeom>
            <a:avLst/>
            <a:gdLst>
              <a:gd name="textAreaLeft" fmla="*/ 388440 w 2819160"/>
              <a:gd name="textAreaRight" fmla="*/ 2230200 w 2819160"/>
              <a:gd name="textAreaTop" fmla="*/ 207000 h 1371600"/>
              <a:gd name="textAreaBottom" fmla="*/ 1100880 h 1371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Cloud"/>
          <p:cNvSpPr/>
          <p:nvPr/>
        </p:nvSpPr>
        <p:spPr>
          <a:xfrm>
            <a:off x="5867280" y="228600"/>
            <a:ext cx="2971800" cy="1447920"/>
          </a:xfrm>
          <a:custGeom>
            <a:avLst/>
            <a:gdLst>
              <a:gd name="textAreaLeft" fmla="*/ 409320 w 2971800"/>
              <a:gd name="textAreaRight" fmla="*/ 2351160 w 2971800"/>
              <a:gd name="textAreaTop" fmla="*/ 218520 h 1447920"/>
              <a:gd name="textAreaBottom" fmla="*/ 1162440 h 1447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1" descr="tu4a"/>
          <p:cNvPicPr/>
          <p:nvPr/>
        </p:nvPicPr>
        <p:blipFill>
          <a:blip r:embed="rId1"/>
          <a:stretch/>
        </p:blipFill>
        <p:spPr>
          <a:xfrm>
            <a:off x="6553080" y="4038480"/>
            <a:ext cx="2362320" cy="2210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5905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Виды облаков и осадки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формировать представление о видах облаков и осадков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484360" y="6021360"/>
            <a:ext cx="46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ова В.М., учитель геогра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КОУ БИРЮЧЕНСКОЙ ООШ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ды облаков и их характеристик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371600"/>
          <a:ext cx="8458200" cy="51055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УЧЕВ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ЛОИСТ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ЕРИСТ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4d4d4d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поминают интересные формы животных и человека, сооружений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4d4d4d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едвестники хорошей погод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4d4d4d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крывают все небо, через них даже солнца не видно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4d4d4d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ычно приносят дожди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4d4d4d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ходятся выше всех. Похожи на перья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4d4d4d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адков не принося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1332000" y="836640"/>
            <a:ext cx="6696000" cy="5299200"/>
            <a:chOff x="1332000" y="836640"/>
            <a:chExt cx="6696000" cy="5299200"/>
          </a:xfrm>
        </p:grpSpPr>
        <p:sp>
          <p:nvSpPr>
            <p:cNvPr id="131" name="Rectangle 3"/>
            <p:cNvSpPr/>
            <p:nvPr/>
          </p:nvSpPr>
          <p:spPr>
            <a:xfrm>
              <a:off x="2729880" y="836640"/>
              <a:ext cx="4137480" cy="635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1d2c"/>
                  </a:solidFill>
                  <a:latin typeface="Calibri"/>
                </a:rPr>
                <a:t>Виды осадков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" name="Rectangle 4" descr=""/>
            <p:cNvPicPr/>
            <p:nvPr/>
          </p:nvPicPr>
          <p:blipFill>
            <a:blip r:embed="rId1"/>
            <a:stretch/>
          </p:blipFill>
          <p:spPr>
            <a:xfrm>
              <a:off x="1332000" y="2908440"/>
              <a:ext cx="522000" cy="32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Rectangle 5" descr=""/>
            <p:cNvPicPr/>
            <p:nvPr/>
          </p:nvPicPr>
          <p:blipFill>
            <a:blip r:embed="rId2"/>
            <a:stretch/>
          </p:blipFill>
          <p:spPr>
            <a:xfrm>
              <a:off x="2145240" y="2908440"/>
              <a:ext cx="594720" cy="32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Rectangle 6" descr=""/>
            <p:cNvPicPr/>
            <p:nvPr/>
          </p:nvPicPr>
          <p:blipFill>
            <a:blip r:embed="rId3"/>
            <a:stretch/>
          </p:blipFill>
          <p:spPr>
            <a:xfrm>
              <a:off x="3030840" y="2908440"/>
              <a:ext cx="613080" cy="32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Rectangle 7" descr=""/>
            <p:cNvPicPr/>
            <p:nvPr/>
          </p:nvPicPr>
          <p:blipFill>
            <a:blip r:embed="rId4"/>
            <a:stretch/>
          </p:blipFill>
          <p:spPr>
            <a:xfrm>
              <a:off x="3839040" y="2908440"/>
              <a:ext cx="625320" cy="32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Rectangle 8" descr=""/>
            <p:cNvPicPr/>
            <p:nvPr/>
          </p:nvPicPr>
          <p:blipFill>
            <a:blip r:embed="rId5"/>
            <a:stretch/>
          </p:blipFill>
          <p:spPr>
            <a:xfrm>
              <a:off x="4712400" y="2908440"/>
              <a:ext cx="637560" cy="32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Rectangle 9" descr=""/>
            <p:cNvPicPr/>
            <p:nvPr/>
          </p:nvPicPr>
          <p:blipFill>
            <a:blip r:embed="rId6"/>
            <a:stretch/>
          </p:blipFill>
          <p:spPr>
            <a:xfrm>
              <a:off x="7390440" y="2908440"/>
              <a:ext cx="637560" cy="32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Rectangle 10" descr=""/>
            <p:cNvPicPr/>
            <p:nvPr/>
          </p:nvPicPr>
          <p:blipFill>
            <a:blip r:embed="rId7"/>
            <a:stretch/>
          </p:blipFill>
          <p:spPr>
            <a:xfrm>
              <a:off x="6461280" y="2908440"/>
              <a:ext cx="625320" cy="32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Rectangle 11" descr=""/>
            <p:cNvPicPr/>
            <p:nvPr/>
          </p:nvPicPr>
          <p:blipFill>
            <a:blip r:embed="rId8"/>
            <a:stretch/>
          </p:blipFill>
          <p:spPr>
            <a:xfrm>
              <a:off x="5629680" y="2908440"/>
              <a:ext cx="582480" cy="3227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0" name="AutoShape 12"/>
            <p:cNvCxnSpPr/>
            <p:nvPr/>
          </p:nvCxnSpPr>
          <p:spPr>
            <a:xfrm flipH="1">
              <a:off x="1607040" y="1471680"/>
              <a:ext cx="1122840" cy="144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AutoShape 13"/>
            <p:cNvCxnSpPr/>
            <p:nvPr/>
          </p:nvCxnSpPr>
          <p:spPr>
            <a:xfrm flipH="1">
              <a:off x="2559240" y="1471680"/>
              <a:ext cx="767880" cy="144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AutoShape 14"/>
            <p:cNvCxnSpPr/>
            <p:nvPr/>
          </p:nvCxnSpPr>
          <p:spPr>
            <a:xfrm flipH="1">
              <a:off x="3326760" y="1471680"/>
              <a:ext cx="809640" cy="144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AutoShape 15"/>
            <p:cNvCxnSpPr/>
            <p:nvPr/>
          </p:nvCxnSpPr>
          <p:spPr>
            <a:xfrm>
              <a:off x="4204440" y="1471680"/>
              <a:ext cx="13680" cy="144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AutoShape 16"/>
            <p:cNvCxnSpPr/>
            <p:nvPr/>
          </p:nvCxnSpPr>
          <p:spPr>
            <a:xfrm>
              <a:off x="5026680" y="1471680"/>
              <a:ext cx="26640" cy="144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AutoShape 17"/>
            <p:cNvCxnSpPr/>
            <p:nvPr/>
          </p:nvCxnSpPr>
          <p:spPr>
            <a:xfrm>
              <a:off x="5219640" y="1471680"/>
              <a:ext cx="615960" cy="144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AutoShape 18"/>
            <p:cNvCxnSpPr/>
            <p:nvPr/>
          </p:nvCxnSpPr>
          <p:spPr>
            <a:xfrm>
              <a:off x="6279480" y="1471680"/>
              <a:ext cx="431280" cy="144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AutoShape 19"/>
            <p:cNvCxnSpPr/>
            <p:nvPr/>
          </p:nvCxnSpPr>
          <p:spPr>
            <a:xfrm>
              <a:off x="6866280" y="1471680"/>
              <a:ext cx="783720" cy="144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иды осадк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адки теплого времени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адки холодного времени г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оро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Годовое количество осадк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94000" cy="44226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осадков, выпадающих за г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яц, за который выпадает больше всего осад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яц с самым маленьким количеством осад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Диаграмма 6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3974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облака указывают на установление хорошей погоды. Они белые и пушисты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облака представляют собой тонкий бледно-серый слой, который закрывает все небо. Они несут мелкий моросящий дож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облака тоненькие, почти прозрачные. Они являются признаком ветреной погоды, плывут высоко в неб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ует ли связь между видами облаков и осадк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тветы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че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ис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ис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2468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Cloud"/>
          <p:cNvSpPr/>
          <p:nvPr/>
        </p:nvSpPr>
        <p:spPr>
          <a:xfrm rot="20524200">
            <a:off x="539640" y="2565360"/>
            <a:ext cx="3030480" cy="1509840"/>
          </a:xfrm>
          <a:custGeom>
            <a:avLst/>
            <a:gdLst>
              <a:gd name="textAreaLeft" fmla="*/ 417600 w 3030480"/>
              <a:gd name="textAreaRight" fmla="*/ 2397240 w 3030480"/>
              <a:gd name="textAreaTop" fmla="*/ 227880 h 1509840"/>
              <a:gd name="textAreaBottom" fmla="*/ 1212120 h 15098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Cloud"/>
          <p:cNvSpPr/>
          <p:nvPr/>
        </p:nvSpPr>
        <p:spPr>
          <a:xfrm rot="1206000">
            <a:off x="5866920" y="2349000"/>
            <a:ext cx="2971800" cy="1447920"/>
          </a:xfrm>
          <a:custGeom>
            <a:avLst/>
            <a:gdLst>
              <a:gd name="textAreaLeft" fmla="*/ 409320 w 2971800"/>
              <a:gd name="textAreaRight" fmla="*/ 2351160 w 2971800"/>
              <a:gd name="textAreaTop" fmla="*/ 218520 h 1447920"/>
              <a:gd name="textAreaBottom" fmla="*/ 1162440 h 1447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21" descr="tu4a"/>
          <p:cNvPicPr/>
          <p:nvPr/>
        </p:nvPicPr>
        <p:blipFill>
          <a:blip r:embed="rId1"/>
          <a:stretch/>
        </p:blipFill>
        <p:spPr>
          <a:xfrm>
            <a:off x="3564000" y="3068640"/>
            <a:ext cx="2361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8:40Z</dcterms:created>
  <dc:creator>Customer</dc:creator>
  <dc:description/>
  <dc:language>en-US</dc:language>
  <cp:lastModifiedBy>Долгова</cp:lastModifiedBy>
  <dcterms:modified xsi:type="dcterms:W3CDTF">2014-11-05T08:41:24Z</dcterms:modified>
  <cp:revision>13</cp:revision>
  <dc:subject/>
  <dc:title>Облака </dc:title>
</cp:coreProperties>
</file>