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A7E-8916-4B4E-961C-5E673EC4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B19-ACE5-451F-948D-FBABFDC9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242-6303-4501-8067-22E999BE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10B-A3A3-4C6E-99DE-139763AA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99FC-CCBD-422B-B431-1CFE0B64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27A5-9821-4A5E-96B5-12244FC8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E4D1-CB06-4311-9B7C-E006D5E5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A1FC-F491-4312-9EA9-5E5719EE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2B8B-49DB-4EF6-8F68-B9E09529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11AC-C1AB-48B1-8262-19B51456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B996-E090-4552-9096-80BEE88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868-0CD8-48EC-B70F-962D88FF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4B69-6C6F-4D9A-9561-748C4F4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5D9E-3F11-49BD-8415-41E6231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B618-4CD6-4141-AA3D-7AA51707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5C86-46AE-48DB-9F5F-B8135CD2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9A1D-316A-40F6-80BC-602D9B77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B282-EC83-45BC-8DA8-245F0C82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4928-DBAA-402E-98FA-C42DFCA3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EA99-F565-4EFE-A3CA-2F0C7C6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69B8-32A4-4BD6-8129-9F411CAA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F19E-427D-42C0-8A32-FD8A45CB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756-C6BC-4A83-89DE-35B62112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6967-37A9-4454-907B-EF4D0E5B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EDD9-64BE-4DAF-B37B-AC445C12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AB8A-D208-424F-A2A3-3C099DF9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288C-51AA-4E83-8066-66DB337A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82E6-E16A-4EAE-AA33-3396A9A7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5AA9-EF2E-4901-9C53-9C56237A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4C92-008F-466B-88AE-FE340EEE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8C57-BEDD-43C6-AEA7-269125F5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94C6-D6F3-41BC-9282-EC335DDF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B3436-4D2C-4CA3-9B00-04737755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C62-118A-4EFD-9137-43FF10F1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7F24-6BD2-4997-BA60-5415B2E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F245-0A48-4238-8A59-8CAA56D3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E1F2-A8C8-44FD-98FD-C5AE6DA3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DC6A-7D63-4803-BC51-88F612E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F34B-0C9C-461A-9947-DE02C717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AAD27-16D7-422F-9C88-71511E17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C912-E422-4F1D-92AB-D7333FB0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22EFA-E195-4A05-BF92-03288558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A91E4-8976-4AC9-8973-C0D71D31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F4344-9CAC-4F88-BF1C-79943837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941-C869-442B-A3E3-988B0194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5679-CEA0-4119-B281-48C766C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3680-3627-4CA0-8064-9E9F8EE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667A-59FF-454E-AAA7-1A7BCF83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5EBDA-8D41-4FA5-AA7A-486DA0F6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3BAF-D2B6-4E2B-96CE-8D301A1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7B346-6DE8-4497-9E7C-77E34A4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6F28-3E82-4979-8BA2-E8493DCE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E0D1-2BA0-4B52-9DF5-DFB17B31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950D-CFEA-43FC-8A44-9FFE8479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99641-9F82-4821-9CB4-5C97B6B9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E6F-E728-4121-AAD0-112B8DD9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123C-A26C-452F-B7F6-6868B12F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613-EA0A-4318-8164-580E93D2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FED-A4D4-41F4-B800-940827D8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8E5-7E47-40F3-B91A-855B253A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C2B5-92C4-44A9-9CF9-E698389D075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63FC-C8E7-4EEB-9A13-C384D9509D6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31E6-3B49-4D0E-8588-10F5897B339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1C4F-DBB1-4769-83FF-86C64A981D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82F2-8F23-40A5-8149-F87A3CF8D20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4" descr=""/>
          <p:cNvPicPr/>
          <p:nvPr/>
        </p:nvPicPr>
        <p:blipFill>
          <a:blip r:embed="rId1"/>
          <a:stretch/>
        </p:blipFill>
        <p:spPr>
          <a:xfrm>
            <a:off x="274680" y="426960"/>
            <a:ext cx="6248520" cy="318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6175440" y="208080"/>
            <a:ext cx="2425680" cy="30844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6"/>
          <p:cNvSpPr/>
          <p:nvPr/>
        </p:nvSpPr>
        <p:spPr>
          <a:xfrm>
            <a:off x="1357200" y="428616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bb59"/>
                </a:solidFill>
                <a:latin typeface="Cambria"/>
              </a:rPr>
              <a:t>Портнова Татьяна Александров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bb59"/>
                </a:solidFill>
                <a:latin typeface="Cambria"/>
              </a:rPr>
              <a:t>Учитель физики и матема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bb59"/>
                </a:solidFill>
                <a:latin typeface="Cambria"/>
              </a:rPr>
              <a:t>Панинской средне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357120" y="1244520"/>
          <a:ext cx="8358120" cy="5059440"/>
        </p:xfrm>
        <a:graphic>
          <a:graphicData uri="http://schemas.openxmlformats.org/drawingml/2006/table">
            <a:tbl>
              <a:tblPr/>
              <a:tblGrid>
                <a:gridCol w="357120"/>
                <a:gridCol w="1928880"/>
                <a:gridCol w="785880"/>
                <a:gridCol w="2571840"/>
                <a:gridCol w="2714400"/>
              </a:tblGrid>
              <a:tr h="8233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Название используемой технолог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Обоснование  применения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Имеющийся или прогнозируемый результат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Применение 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-9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1. Легко достигается уровневая дифференциация обуч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. Повышение мотивации учащихс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3. Наглядность учебного материал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повышается интерес к предмету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повышается самостоятель-ность при выполнении тестовых заданий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возможность самопроверки.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рольно-корректирующей технологии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учения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КТО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-9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1. Использование опорных дидактических материалов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. Системная самостоятельная рабо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оптимальный темп работы каждого ученик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формирование адекватной самооценки у уче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2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нтеграц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школьны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исципл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-9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1. Повышение учебной   мотивации с помощью заданий практико-ориентированного характе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амостоятельное приобретение новых знаний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активная взаимопомощь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формирование положительного отношения к учеб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Rectangle 1"/>
          <p:cNvSpPr/>
          <p:nvPr/>
        </p:nvSpPr>
        <p:spPr>
          <a:xfrm>
            <a:off x="919080" y="203760"/>
            <a:ext cx="821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 5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современных образовательных технолог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 том числе информационно-коммуникационных, в проце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бучения предмету и в воспитательной рабо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2"/>
          <p:cNvSpPr/>
          <p:nvPr/>
        </p:nvSpPr>
        <p:spPr>
          <a:xfrm>
            <a:off x="428760" y="214200"/>
            <a:ext cx="8072280" cy="1357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438840" y="290880"/>
            <a:ext cx="7988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спользование современных педагогических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нформационных технологий в образовательном процес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активизации математического мыш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 творческого потенциала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071880" y="2000160"/>
            <a:ext cx="22860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Педагогика 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071880" y="3005280"/>
            <a:ext cx="2428920" cy="131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Дидактический активизируюий и развивающий комплек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142920" y="2000160"/>
            <a:ext cx="2714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Информационнокоммуникативные техн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500800" y="2000160"/>
            <a:ext cx="328608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Здоровьесберега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техн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5" name="Прямая со стрелкой 11"/>
          <p:cNvCxnSpPr/>
          <p:nvPr/>
        </p:nvCxnSpPr>
        <p:spPr>
          <a:xfrm>
            <a:off x="5000400" y="1643040"/>
            <a:ext cx="1929240" cy="28656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56" name="Прямая со стрелкой 13"/>
          <p:cNvCxnSpPr/>
          <p:nvPr/>
        </p:nvCxnSpPr>
        <p:spPr>
          <a:xfrm flipH="1">
            <a:off x="1356480" y="1571760"/>
            <a:ext cx="1786680" cy="35784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57" name="Прямая со стрелкой 15"/>
          <p:cNvCxnSpPr/>
          <p:nvPr/>
        </p:nvCxnSpPr>
        <p:spPr>
          <a:xfrm flipH="1">
            <a:off x="4071600" y="1643040"/>
            <a:ext cx="72000" cy="35784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58" name="Прямая со стрелкой 17"/>
          <p:cNvCxnSpPr/>
          <p:nvPr/>
        </p:nvCxnSpPr>
        <p:spPr>
          <a:xfrm flipH="1">
            <a:off x="4070160" y="2857680"/>
            <a:ext cx="2160" cy="14328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sp>
        <p:nvSpPr>
          <p:cNvPr id="259" name="Прямоугольник 18"/>
          <p:cNvSpPr/>
          <p:nvPr/>
        </p:nvSpPr>
        <p:spPr>
          <a:xfrm>
            <a:off x="1675800" y="4714920"/>
            <a:ext cx="215568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интегр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шко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дисцип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9"/>
          <p:cNvSpPr/>
          <p:nvPr/>
        </p:nvSpPr>
        <p:spPr>
          <a:xfrm>
            <a:off x="3917880" y="4929120"/>
            <a:ext cx="31114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дифференци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0"/>
          <p:cNvSpPr/>
          <p:nvPr/>
        </p:nvSpPr>
        <p:spPr>
          <a:xfrm>
            <a:off x="6235200" y="3429000"/>
            <a:ext cx="15966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Игров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фор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занятий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21"/>
          <p:cNvSpPr/>
          <p:nvPr/>
        </p:nvSpPr>
        <p:spPr>
          <a:xfrm>
            <a:off x="17280" y="3714840"/>
            <a:ext cx="28339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Метод проек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Прямая со стрелкой 23"/>
          <p:cNvCxnSpPr/>
          <p:nvPr/>
        </p:nvCxnSpPr>
        <p:spPr>
          <a:xfrm flipH="1">
            <a:off x="642600" y="3213720"/>
            <a:ext cx="714960" cy="50076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64" name="Прямая со стрелкой 25"/>
          <p:cNvCxnSpPr/>
          <p:nvPr/>
        </p:nvCxnSpPr>
        <p:spPr>
          <a:xfrm>
            <a:off x="1643040" y="3214440"/>
            <a:ext cx="714960" cy="150084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65" name="Прямая со стрелкой 27"/>
          <p:cNvCxnSpPr/>
          <p:nvPr/>
        </p:nvCxnSpPr>
        <p:spPr>
          <a:xfrm>
            <a:off x="1714680" y="3214800"/>
            <a:ext cx="3358080" cy="171504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66" name="Прямая со стрелкой 29"/>
          <p:cNvCxnSpPr/>
          <p:nvPr/>
        </p:nvCxnSpPr>
        <p:spPr>
          <a:xfrm flipH="1">
            <a:off x="5214240" y="2857680"/>
            <a:ext cx="1143720" cy="207180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67" name="Прямая со стрелкой 31"/>
          <p:cNvCxnSpPr/>
          <p:nvPr/>
        </p:nvCxnSpPr>
        <p:spPr>
          <a:xfrm>
            <a:off x="6356880" y="2857320"/>
            <a:ext cx="429480" cy="57204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68" name="Прямая со стрелкой 33"/>
          <p:cNvCxnSpPr/>
          <p:nvPr/>
        </p:nvCxnSpPr>
        <p:spPr>
          <a:xfrm flipH="1">
            <a:off x="2928240" y="4357800"/>
            <a:ext cx="786600" cy="35784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69" name="Прямая со стрелкой 35"/>
          <p:cNvCxnSpPr>
            <a:stCxn id="252" idx="2"/>
          </p:cNvCxnSpPr>
          <p:nvPr/>
        </p:nvCxnSpPr>
        <p:spPr>
          <a:xfrm>
            <a:off x="4286160" y="4324320"/>
            <a:ext cx="858240" cy="60552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270" name="Прямая со стрелкой 37"/>
          <p:cNvCxnSpPr>
            <a:endCxn id="261" idx="1"/>
          </p:cNvCxnSpPr>
          <p:nvPr/>
        </p:nvCxnSpPr>
        <p:spPr>
          <a:xfrm>
            <a:off x="5500440" y="3929040"/>
            <a:ext cx="857880" cy="10080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arrow" w="med"/>
          </a:ln>
        </p:spPr>
      </p:cxnSp>
      <p:grpSp>
        <p:nvGrpSpPr>
          <p:cNvPr id="271" name="Прямоугольник 38"/>
          <p:cNvGrpSpPr/>
          <p:nvPr/>
        </p:nvGrpSpPr>
        <p:grpSpPr>
          <a:xfrm>
            <a:off x="444600" y="5992920"/>
            <a:ext cx="8181720" cy="682560"/>
            <a:chOff x="444600" y="5992920"/>
            <a:chExt cx="8181720" cy="682560"/>
          </a:xfrm>
        </p:grpSpPr>
        <p:pic>
          <p:nvPicPr>
            <p:cNvPr id="272" name="Прямоугольник 38" descr=""/>
            <p:cNvPicPr/>
            <p:nvPr/>
          </p:nvPicPr>
          <p:blipFill>
            <a:blip r:embed="rId1"/>
            <a:stretch/>
          </p:blipFill>
          <p:spPr>
            <a:xfrm>
              <a:off x="444600" y="5992920"/>
              <a:ext cx="8181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00040" y="6072120"/>
              <a:ext cx="80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Развитие ученика, как субъекта деятельности</a:t>
              </a:r>
              <a:r>
                <a:rPr b="0" lang="ru-RU" sz="2800" spc="-1" strike="noStrike">
                  <a:solidFill>
                    <a:srgbClr val="ffffff"/>
                  </a:solidFill>
                  <a:latin typeface="Cambria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Стрелка вниз 39"/>
          <p:cNvSpPr/>
          <p:nvPr/>
        </p:nvSpPr>
        <p:spPr>
          <a:xfrm>
            <a:off x="857160" y="4214880"/>
            <a:ext cx="142920" cy="17859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трелка вниз 40"/>
          <p:cNvSpPr/>
          <p:nvPr/>
        </p:nvSpPr>
        <p:spPr>
          <a:xfrm>
            <a:off x="2714760" y="5929200"/>
            <a:ext cx="46080" cy="1429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трелка вниз 41"/>
          <p:cNvSpPr/>
          <p:nvPr/>
        </p:nvSpPr>
        <p:spPr>
          <a:xfrm>
            <a:off x="5357880" y="578628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Стрелка вниз 43"/>
          <p:cNvSpPr/>
          <p:nvPr/>
        </p:nvSpPr>
        <p:spPr>
          <a:xfrm>
            <a:off x="7215120" y="4643280"/>
            <a:ext cx="142920" cy="14288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Прямоугольник 2" descr=""/>
          <p:cNvPicPr/>
          <p:nvPr/>
        </p:nvPicPr>
        <p:blipFill>
          <a:blip r:embed="rId1"/>
          <a:stretch/>
        </p:blipFill>
        <p:spPr>
          <a:xfrm>
            <a:off x="96840" y="6480"/>
            <a:ext cx="8109000" cy="9144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500040" y="1285920"/>
            <a:ext cx="685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2006 год  -  Сумин Борис , «Задачи на построени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428840" y="2214720"/>
            <a:ext cx="6715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2007 год  -  Студенов Артем, «Загадка нейтрин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500040" y="3000240"/>
            <a:ext cx="67867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2008 год  -  Волков Сергей, «Симметрия вокруг нас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428760" y="3643200"/>
            <a:ext cx="792936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2009 го д  -  Буланова Алена, «Комплексные числа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уланова Ольга, «Солнечно-земные связ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85840" y="4786200"/>
            <a:ext cx="8715240" cy="161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2010 год  -   Буланова Алена, «Комплексные  числа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Аверин Сергей, «Физические величины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урдин Александр, «Мирный атом – Будущее мира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убнов Дмитрий, «Мирный атом  -  будущее человечества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4"/>
          <p:cNvSpPr txBox="1"/>
          <p:nvPr/>
        </p:nvSpPr>
        <p:spPr>
          <a:xfrm>
            <a:off x="179280" y="333360"/>
            <a:ext cx="8690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пользование педагогики сотрудничества во внеурочной деятельности</a:t>
            </a:r>
            <a:endParaRPr b="0" lang="en-US" sz="2800" spc="1" strike="noStrike">
              <a:ln w="158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79280" y="1096920"/>
          <a:ext cx="6408720" cy="535644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53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12"/>
          <p:cNvSpPr/>
          <p:nvPr/>
        </p:nvSpPr>
        <p:spPr>
          <a:xfrm>
            <a:off x="6659640" y="1557360"/>
            <a:ext cx="24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Участие в Международной игре «Кенгуру-2008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(10 учеников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4" descr="Фото-2 020"/>
          <p:cNvPicPr/>
          <p:nvPr/>
        </p:nvPicPr>
        <p:blipFill>
          <a:blip r:embed="rId1"/>
          <a:stretch/>
        </p:blipFill>
        <p:spPr>
          <a:xfrm>
            <a:off x="324000" y="1341360"/>
            <a:ext cx="6119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324000" y="333360"/>
            <a:ext cx="706896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ьзование педагогики сотрудничества во внеурочной деятельност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50920" y="1125360"/>
          <a:ext cx="6265800" cy="511200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51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Text Box 12"/>
          <p:cNvSpPr/>
          <p:nvPr/>
        </p:nvSpPr>
        <p:spPr>
          <a:xfrm>
            <a:off x="6659640" y="1185840"/>
            <a:ext cx="237636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частие в Межрегиона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ной заочной физико-математической олимпиаде школы «Авангард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2007г.-2 ученика, 2008г.-4 уче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 2009 года Зорина Маша - ученица заочного отделения  школы «Авангард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14" descr="Фото008"/>
          <p:cNvPicPr/>
          <p:nvPr/>
        </p:nvPicPr>
        <p:blipFill>
          <a:blip r:embed="rId1"/>
          <a:stretch/>
        </p:blipFill>
        <p:spPr>
          <a:xfrm>
            <a:off x="395280" y="1341360"/>
            <a:ext cx="597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-324000" y="189000"/>
            <a:ext cx="89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3"/>
          <p:cNvSpPr txBox="1"/>
          <p:nvPr/>
        </p:nvSpPr>
        <p:spPr>
          <a:xfrm>
            <a:off x="395280" y="260280"/>
            <a:ext cx="813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дметные нед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8000" y="765000"/>
          <a:ext cx="8928000" cy="5977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59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5" name="Picture 18" descr="Фото005"/>
          <p:cNvPicPr/>
          <p:nvPr/>
        </p:nvPicPr>
        <p:blipFill>
          <a:blip r:embed="rId1"/>
          <a:stretch/>
        </p:blipFill>
        <p:spPr>
          <a:xfrm>
            <a:off x="179280" y="90792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5"/>
          <p:cNvSpPr txBox="1"/>
          <p:nvPr/>
        </p:nvSpPr>
        <p:spPr>
          <a:xfrm>
            <a:off x="1116000" y="476280"/>
            <a:ext cx="54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Классные часы</a:t>
            </a:r>
            <a:endParaRPr b="0" lang="en-US" sz="2800" spc="1" strike="noStrike">
              <a:ln w="9360">
                <a:solidFill>
                  <a:srgbClr val="ff0066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297" name="Picture 22" descr="Фото006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34920" y="44280"/>
          <a:ext cx="9001080" cy="6697800"/>
        </p:xfrm>
        <a:graphic>
          <a:graphicData uri="http://schemas.openxmlformats.org/drawingml/2006/table">
            <a:tbl>
              <a:tblPr/>
              <a:tblGrid>
                <a:gridCol w="9001080"/>
              </a:tblGrid>
              <a:tr h="66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33ff"/>
                      </a:solidFill>
                    </a:lnL>
                    <a:lnR w="28080">
                      <a:solidFill>
                        <a:srgbClr val="9933ff"/>
                      </a:solidFill>
                    </a:lnR>
                    <a:lnT w="28080">
                      <a:solidFill>
                        <a:srgbClr val="9933ff"/>
                      </a:solidFill>
                    </a:lnT>
                    <a:lnB w="28080">
                      <a:solidFill>
                        <a:srgbClr val="99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13"/>
          <p:cNvSpPr/>
          <p:nvPr/>
        </p:nvSpPr>
        <p:spPr>
          <a:xfrm>
            <a:off x="376200" y="357120"/>
            <a:ext cx="83725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mbria"/>
              </a:rPr>
              <a:t>  </a:t>
            </a:r>
            <a:r>
              <a:rPr b="0" lang="ru-RU" sz="4400" spc="-1" strike="noStrike">
                <a:solidFill>
                  <a:srgbClr val="ff0066"/>
                </a:solidFill>
                <a:latin typeface="Cambria"/>
              </a:rPr>
              <a:t>Никогда не падайте духом; если вначале вам не удается ничего сделать с ребенком, старайтесь вновь и вновь, веря, что еще одно усилие может изменить в корне ситуац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ambria"/>
              </a:rPr>
              <a:t>                                  </a:t>
            </a:r>
            <a:r>
              <a:rPr b="0" lang="ru-RU" sz="4400" spc="-1" strike="noStrike">
                <a:solidFill>
                  <a:srgbClr val="ff0066"/>
                </a:solidFill>
                <a:latin typeface="Cambria"/>
              </a:rPr>
              <a:t>М. Коллин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571680" y="67032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Название образовательного учреж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МОУ Панинская средняя общеобразовательная шко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еподаваемый предм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атематика, физ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Стаж работы в данном образовательном учрежден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29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Квалификационная категор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1 категория, 13 квалификационный разря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Указание периода, за который представлены документы и материа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5 лет,  2006 - 2010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1" descr=""/>
          <p:cNvPicPr/>
          <p:nvPr/>
        </p:nvPicPr>
        <p:blipFill>
          <a:blip r:embed="rId1"/>
          <a:stretch/>
        </p:blipFill>
        <p:spPr>
          <a:xfrm>
            <a:off x="2535120" y="152280"/>
            <a:ext cx="3988080" cy="884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rcRect l="0" t="8000" r="1736" b="6251"/>
          <a:stretch/>
        </p:blipFill>
        <p:spPr>
          <a:xfrm>
            <a:off x="428760" y="1071720"/>
            <a:ext cx="4214520" cy="26431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3"/>
          <p:cNvSpPr/>
          <p:nvPr/>
        </p:nvSpPr>
        <p:spPr>
          <a:xfrm>
            <a:off x="4714920" y="1143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Горьковский государственный педагогический институт имени М. Горького закончи-ла по специальности физика и астрономия в 1980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3"/>
          <a:srcRect l="1530" t="4158" r="639" b="6513"/>
          <a:stretch/>
        </p:blipFill>
        <p:spPr>
          <a:xfrm>
            <a:off x="5000760" y="3714840"/>
            <a:ext cx="3929040" cy="27702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214200" y="41432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Арзамасский государственный педагогический институт имени А.П.Гайдара закончила в 1990 году по специальности матема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571680" y="785880"/>
          <a:ext cx="8096040" cy="6151320"/>
        </p:xfrm>
        <a:graphic>
          <a:graphicData uri="http://schemas.openxmlformats.org/drawingml/2006/table">
            <a:tbl>
              <a:tblPr/>
              <a:tblGrid>
                <a:gridCol w="487080"/>
                <a:gridCol w="1298520"/>
                <a:gridCol w="3071880"/>
                <a:gridCol w="1928880"/>
                <a:gridCol w="1309680"/>
              </a:tblGrid>
              <a:tr h="693720"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Название докуме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Кем выд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Когда выд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0"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Грам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Грам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Грам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Грам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За активное участие в методической рабо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За  долголетний добросовестный труд и высокое качество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За 3 место в районном конкурсе исследовательских рабо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За участие в районном конкурсе «Самый классный классны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основским РУ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Министерство образования Нижегородской обла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основским РУ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основским РУ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07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07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08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"/>
          <p:cNvSpPr/>
          <p:nvPr/>
        </p:nvSpPr>
        <p:spPr>
          <a:xfrm>
            <a:off x="1143000" y="335160"/>
            <a:ext cx="6512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 I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"Официальные документы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357120" y="1143000"/>
          <a:ext cx="8501040" cy="5443560"/>
        </p:xfrm>
        <a:graphic>
          <a:graphicData uri="http://schemas.openxmlformats.org/drawingml/2006/table">
            <a:tbl>
              <a:tblPr/>
              <a:tblGrid>
                <a:gridCol w="117360"/>
                <a:gridCol w="2319480"/>
                <a:gridCol w="2639880"/>
                <a:gridCol w="2568600"/>
                <a:gridCol w="855720"/>
              </a:tblGrid>
              <a:tr h="1371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333399"/>
                          </a:solidFill>
                          <a:latin typeface="Calibri"/>
                          <a:ea typeface="Arial Unicode MS"/>
                        </a:rPr>
                        <a:t>1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Название методического объединения , в котором работает учитель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Тема, над которой работает структур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Тема, над которой работает учитель в рамках этой структур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Сроки работ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Районное методическое объединение учителей математи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Пути повышения  успеваемости и качества знаний на уроках  математики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Дифференцированный подход на уроках математи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2 г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24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333399"/>
                          </a:solidFill>
                          <a:latin typeface="Calibri"/>
                          <a:ea typeface="Arial Unicode MS"/>
                        </a:rPr>
                        <a:t>2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Название творческой группы, в которой работает учитель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Тема, над которой работает групп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Т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ема, над которой работает учитель в рамках групп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Сроки работ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Педагогика Сотруднич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Педагогика Сотруднич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Интеграция и дифференциация в преподавании физики и математи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4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1"/>
          <p:cNvSpPr/>
          <p:nvPr/>
        </p:nvSpPr>
        <p:spPr>
          <a:xfrm>
            <a:off x="1104840" y="101520"/>
            <a:ext cx="66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 2. Данные о повышении квалифик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 профессиональной подготов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57120" y="428760"/>
          <a:ext cx="8394840" cy="5856120"/>
        </p:xfrm>
        <a:graphic>
          <a:graphicData uri="http://schemas.openxmlformats.org/drawingml/2006/table">
            <a:tbl>
              <a:tblPr/>
              <a:tblGrid>
                <a:gridCol w="2643120"/>
                <a:gridCol w="2244960"/>
                <a:gridCol w="1755720"/>
                <a:gridCol w="1751040"/>
              </a:tblGrid>
              <a:tr h="590400">
                <a:tc gridSpan="4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Систематичность повышения квалифика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87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Название курсов повышения квалифик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Количество часов аудиторных занят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Сро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Вид полученного докумен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урсы повышения квалификации для учителей математ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72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Удостоверение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урсы повышения квалификации для учителей физ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144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евраль, сентябрь 2010 г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64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Теоретические и практические вопросы подготовки учащихся к ЕГЭ (дистанционны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2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апрель – ма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0 г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428760" y="1000080"/>
          <a:ext cx="8501040" cy="5434200"/>
        </p:xfrm>
        <a:graphic>
          <a:graphicData uri="http://schemas.openxmlformats.org/drawingml/2006/table">
            <a:tbl>
              <a:tblPr/>
              <a:tblGrid>
                <a:gridCol w="279360"/>
                <a:gridCol w="2751120"/>
                <a:gridCol w="3225600"/>
                <a:gridCol w="2244960"/>
              </a:tblGrid>
              <a:tr h="54936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Наличие собственной системы методических разработо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Название рабо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Дата напис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Домашние лабораторные работы по физике в 7 класс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Механика, силы в природ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200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Опорные конспекты в обучении физике и математи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Многочлены, рациональные числа, формулы сокращенного умн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2006 – 2010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2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Участие в проведении мастер - классов, круглых столов, конференци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Название рабо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Место учас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Развитие математического мышления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Психологические аспекты в преподавании математ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Районная конферен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Формирование у учащихся навыков самоанализа и самоконтро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Повышение эффективности обу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Педсо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Rectangle 1"/>
          <p:cNvSpPr/>
          <p:nvPr/>
        </p:nvSpPr>
        <p:spPr>
          <a:xfrm>
            <a:off x="285840" y="147240"/>
            <a:ext cx="85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 3. Работа учителя по обобщению и распростра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бственного педагогического оп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85840" y="214200"/>
          <a:ext cx="8715240" cy="6309000"/>
        </p:xfrm>
        <a:graphic>
          <a:graphicData uri="http://schemas.openxmlformats.org/drawingml/2006/table">
            <a:tbl>
              <a:tblPr/>
              <a:tblGrid>
                <a:gridCol w="517320"/>
                <a:gridCol w="1911600"/>
                <a:gridCol w="3985920"/>
                <a:gridCol w="2300400"/>
              </a:tblGrid>
              <a:tr h="82332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Форма представления опы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  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Уровень (школьный, муниципальный, региональный..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Докл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«Повышение мыслительной деятельности через занимательные задания на уроках математики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Школь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2006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Докл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«Дифференцированный подход при обучении математике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Школь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Докл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роектная деятельность учащихс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Школь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Открытый ур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«Действия с алгебраическими дробями»  8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Школь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Этапы формирования компетентности уче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Школь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Презент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Удовлетворенность родителей и учащихся работой школы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Школь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Урок-конферен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Вселен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Совещание директор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Интегрированный урок Функциональная зависимость.           Районное М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Урок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Поклонимся великим тем год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Семинар завуч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Открытый ур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Отношения.     Здоровьесберегающие технолог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Педсо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428760" y="1500120"/>
          <a:ext cx="8429400" cy="4254480"/>
        </p:xfrm>
        <a:graphic>
          <a:graphicData uri="http://schemas.openxmlformats.org/drawingml/2006/table">
            <a:tbl>
              <a:tblPr/>
              <a:tblGrid>
                <a:gridCol w="500040"/>
                <a:gridCol w="4035240"/>
                <a:gridCol w="1847880"/>
                <a:gridCol w="2046240"/>
              </a:tblGrid>
              <a:tr h="6080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Название конкурс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Сро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Результ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Участие в профессиональных конкурсах в образовательном учрежден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0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мотр кабин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0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Призов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Участие в муниципальных  профессиональных конкурса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23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« Самый классный классны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« Учитель год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08 го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1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рамота за учас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Rectangle 1"/>
          <p:cNvSpPr/>
          <p:nvPr/>
        </p:nvSpPr>
        <p:spPr>
          <a:xfrm>
            <a:off x="828720" y="29016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 4. Участие в муниципальных, региона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 всероссийских профессиональных конкур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6:19:48Z</dcterms:created>
  <dc:creator>Портнова Т.А.</dc:creator>
  <dc:description/>
  <dc:language>en-US</dc:language>
  <cp:lastModifiedBy>Пользователь</cp:lastModifiedBy>
  <dcterms:modified xsi:type="dcterms:W3CDTF">2014-11-05T18:20:37Z</dcterms:modified>
  <cp:revision>17</cp:revision>
  <dc:subject/>
  <dc:title>Слайд 1</dc:title>
</cp:coreProperties>
</file>