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CC3-D97D-4CDD-B677-B3BFA96A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0C6-05B2-476A-8444-4CF8A675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C36-885E-46A9-9BE8-386204A7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B94-47D1-46D7-9FF1-38C4AA4F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A77B-BBA3-4A34-A24E-81C1E74F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1ED2-1EA6-436D-AACD-6268BDF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E0F3-582D-44D1-A98B-EDBC420D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104A-36A4-4489-8EEB-F102B6F9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1990-1F0C-4D33-9EDE-C436FF7D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338F-14B0-4701-8144-E2D25DD6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1FE8-7A56-4A8B-9D0C-662E81FE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217-6852-4AA1-A9B0-19B5C332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659F-3CDF-4EA0-9D6D-0F230E15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B431-91F7-4A22-BF83-D99B4ED6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F0E0-3F54-4274-BCF4-3A0DAFEA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1811-B35A-401F-A549-F4CB4E65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5F84-697B-4374-A5EB-51B0D698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28E-25F9-42A9-A985-284119FD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E11-183D-43E7-A599-25B9F4DF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81E-A7FE-4D27-92F7-6BF8DC22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748-4E31-423B-9038-A6C1C274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822-F048-4F02-9909-C5ED55A8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D86-9336-4B39-867E-DF660437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412-1CA5-401D-9876-2FAF2A96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ECC6-307F-46E1-BB86-A011C4DE2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9EED-950E-464F-A951-4F30B8686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В своих произведениях писатель раскрывает понятия нравственности, человечности…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640_DSC03891"/>
          <p:cNvPicPr/>
          <p:nvPr/>
        </p:nvPicPr>
        <p:blipFill>
          <a:blip r:embed="rId1"/>
          <a:stretch/>
        </p:blipFill>
        <p:spPr>
          <a:xfrm>
            <a:off x="1116000" y="1459080"/>
            <a:ext cx="734364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Boyarsky"/>
              </a:rPr>
              <a:t>А когда настала ночь и уснула Матёра, из-под берега вышел Хозяин острова. Трудная ему досталась доля: зная, что будет, он не может ничего изменить. Он последний хозяин…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4" descr="VB050804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Boyarsky"/>
              </a:rPr>
              <a:t>Без него нельзя было представить Матёру, с ним связана была вся жизнь Матёры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2679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Boyarsky"/>
              </a:rPr>
              <a:t>Серые лохмотья тумана становились всё больше…Они кричали, но Матёры не было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748446833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br>
              <a:rPr sz="6000"/>
            </a:br>
            <a:br>
              <a:rPr sz="32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писать эссе на одну из те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Ушла ли под воду Матера?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Как я понимаю традицию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Символы вечности в повести «Прощание с Матерой» В. Распутин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73803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eec94"/>
                </a:solidFill>
                <a:latin typeface="Boyarsky"/>
              </a:rPr>
              <a:t>У каждого человека есть своя маленькая родина, тот кусочек земли, который  останется на вечную память в сердце человек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angara"/>
          <p:cNvPicPr/>
          <p:nvPr/>
        </p:nvPicPr>
        <p:blipFill>
          <a:blip r:embed="rId1"/>
          <a:stretch/>
        </p:blipFill>
        <p:spPr>
          <a:xfrm>
            <a:off x="2340000" y="2638440"/>
            <a:ext cx="5238720" cy="3489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0c59b70b9fa8addb7b325c9cc4c5dc09"/>
          <p:cNvPicPr/>
          <p:nvPr/>
        </p:nvPicPr>
        <p:blipFill>
          <a:blip r:embed="rId2"/>
          <a:stretch/>
        </p:blipFill>
        <p:spPr>
          <a:xfrm>
            <a:off x="179280" y="3141720"/>
            <a:ext cx="2049480" cy="3124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1220511449_3-9"/>
          <p:cNvPicPr/>
          <p:nvPr/>
        </p:nvPicPr>
        <p:blipFill>
          <a:blip r:embed="rId3"/>
          <a:stretch/>
        </p:blipFill>
        <p:spPr>
          <a:xfrm>
            <a:off x="7164360" y="0"/>
            <a:ext cx="19796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Boyarsky"/>
              </a:rPr>
              <a:t>Повесть «Прощание с Матёрой» впервые появилась в журнале «Современник» №10,11 за 1976 год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4" descr="1287214740rasputin"/>
          <p:cNvPicPr/>
          <p:nvPr/>
        </p:nvPicPr>
        <p:blipFill>
          <a:blip r:embed="rId1"/>
          <a:stretch/>
        </p:blipFill>
        <p:spPr>
          <a:xfrm>
            <a:off x="179280" y="1844640"/>
            <a:ext cx="2303640" cy="2857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al_book_32186"/>
          <p:cNvPicPr/>
          <p:nvPr/>
        </p:nvPicPr>
        <p:blipFill>
          <a:blip r:embed="rId2"/>
          <a:stretch/>
        </p:blipFill>
        <p:spPr>
          <a:xfrm>
            <a:off x="2700360" y="2332080"/>
            <a:ext cx="644364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24674-285805-19-obl-l"/>
          <p:cNvPicPr/>
          <p:nvPr/>
        </p:nvPicPr>
        <p:blipFill>
          <a:blip r:embed="rId3"/>
          <a:stretch/>
        </p:blipFill>
        <p:spPr>
          <a:xfrm>
            <a:off x="6039000" y="1844640"/>
            <a:ext cx="3105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Boyarsky"/>
              </a:rPr>
              <a:t>Матёра… Это и остров, и деревня с таким же названием. Мать-зе</a:t>
            </a:r>
            <a:r>
              <a:rPr b="1" lang="en-US" sz="2400" spc="-1" strike="noStrike">
                <a:solidFill>
                  <a:srgbClr val="feec94"/>
                </a:solidFill>
                <a:latin typeface="Bodoni MT"/>
              </a:rPr>
              <a:t>м</a:t>
            </a:r>
            <a:r>
              <a:rPr b="1" lang="en-US" sz="2400" spc="-1" strike="noStrike">
                <a:solidFill>
                  <a:srgbClr val="feec94"/>
                </a:solidFill>
                <a:latin typeface="Boyarsky"/>
              </a:rPr>
              <a:t>ля, мать-родина, материк…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4" descr="picture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Boyarsky"/>
              </a:rPr>
              <a:t>Триста лет обживали этот уголок Земли русские крестьяне. Неторопливо,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1059725946-19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Boyarsky"/>
              </a:rPr>
              <a:t>без спешки идёт жизнь на этом острове, и за те триста лет многих людей сделала счастливыми Матёра. 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icture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50115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09960" y="1706400"/>
            <a:ext cx="9762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44928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овы мотивы поведения Дарь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44928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Чье поведение по отношени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 дому противопоставляетс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оведению Дарь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Boyarsky"/>
              </a:rPr>
              <a:t>Дарья белит избу, моет пол, подоконники. Окна. Всю ночь Дарья оплакивала свою избу, и изба словно понимала.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5" descr="090_2001-08-27"/>
          <p:cNvPicPr/>
          <p:nvPr/>
        </p:nvPicPr>
        <p:blipFill>
          <a:blip r:embed="rId1"/>
          <a:stretch/>
        </p:blipFill>
        <p:spPr>
          <a:xfrm>
            <a:off x="395280" y="1916280"/>
            <a:ext cx="8569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Boyarsky"/>
              </a:rPr>
              <a:t>Этот поступок вызвал уважение даже у пожёгщиков (дом собирались сжечь завтра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08000" y="1844280"/>
            <a:ext cx="4978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Boyarsky"/>
              </a:rPr>
              <a:t>Сама же Дарья, простясь с домом, помнила только, что шла и шла, сама не зная куда, до вечера старухи не могли найти её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original"/>
          <p:cNvPicPr/>
          <p:nvPr/>
        </p:nvPicPr>
        <p:blipFill>
          <a:blip r:embed="rId1"/>
          <a:stretch/>
        </p:blipFill>
        <p:spPr>
          <a:xfrm>
            <a:off x="0" y="1628640"/>
            <a:ext cx="3708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9:04:10Z</dcterms:created>
  <dc:creator>1</dc:creator>
  <dc:description/>
  <dc:language>en-US</dc:language>
  <cp:lastModifiedBy>1</cp:lastModifiedBy>
  <dcterms:modified xsi:type="dcterms:W3CDTF">2012-03-20T04:37:26Z</dcterms:modified>
  <cp:revision>3</cp:revision>
  <dc:subject/>
  <dc:title>В своих произведениях писатель раскрывает понятия нравственности, человечности…</dc:title>
</cp:coreProperties>
</file>