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3C2-C5B1-4291-97F1-ED5099FF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255-6836-41E3-BB23-EF4862E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0D5-B690-40B7-83AE-B3655A3A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FC1-F1C5-424D-B339-BA16E91F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15DA-705D-4F49-995C-88DDF09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4440-602C-41E8-8992-FCABE79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FF04-A651-4B14-9E34-1E2C80F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72CC-2B40-4759-8A45-3FA2DC4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58F7-F821-447D-A712-083246D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59F0-C289-4708-BF67-95A8467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B5C-A17A-45ED-9FA7-D455C2C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9D6-4011-4C2E-B532-6EB28443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91EA-E0EA-4713-86CB-63CC852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B7E2-0660-4263-A9B9-87707C1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02B6-F778-4064-81C6-45EA814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C1D-2F5D-4E85-850B-899523F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BF27-8766-4493-A06C-36414DA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FA8-ACED-461D-B844-8890842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538-6D78-460D-AF46-8D288194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4DC-96A6-4D13-A676-D0D0F015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547-A395-41F1-8BE4-5E33B265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E58-AB88-4329-8C59-F1E721AB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A55-3630-4663-B6AD-0D6D642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FCB-551B-4439-92D1-25482FC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61B-E8B4-495B-842B-6FCA10552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1F2-7F45-40A4-B30C-05171E9E7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Конспект родительского собрания во второй младшей группе по теме : ” Формирование навыков самообслуживания в младшем возрасте”.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639360"/>
            <a:ext cx="8610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 Работа с памятками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 ваших столах памя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читайте их пожалуйста. Что для вас явилось новым? С каким из выводов вы согласны? С каким из советов вы не согласны? Почем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амятка по формированию навыков самообслужи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арайтесь поддерживать стремление к самостоятельности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ощряйте , хвалите своего ребенка даже за небольшие дост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ходимо правильно руководить действиями детей, проговаривать что, как и в каком порядке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льзя торопить ребенка с выполнением какого-либо 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у малыша что-то не получается не спешите ему на помощь, пока он этого не попрос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арайтесь поддерживать активность и эмоциональный настрой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спользуйте игровые ситу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гда придерживайтесь доброжелательного эмоционального настро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20120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мментарий к памятке по 4 пункту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т смысла затевать самостоятельное одевание утром, если вы спешите на раб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бенку необходимо успешно довести дело до конца, чтобы почувствовать гордость, а вам необходимо спокойствие, чтобы это ему позволить и без раздражения помочь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деемся, что памятка поможет вам в деле воспитания ваших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 сейчас мы предлагаем вам поделиться с нами достижениями вашего ребенка. Предлагаем вам сыграть в игр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237492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5. Слово-эстафета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одители должны продолжить начатое воспитателем предложен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й ребенок умеет или делает….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большей организованности предложить родителям передавать друг другу небольшой предм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кие замечательные малыши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7377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6. Острое блюдо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ороткие вопросы по теме собрания, вложенные в “Конфеты” раздаются родителям под музыку. Отвечают по желанию ( на ответ 1-3 мин.) , если вопрос достался родителю, не желающему отвечать, то он вправе передать вопрос дальш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арину забирает бабушка, которая очень любит помогать. Даже если Марина сама одевается, бабушка так и рвется помог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результате ребенок стал бегать за помощью по поводу каждой мелочи в од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 Попросить бабушку не делать этого, этим она не помогает, а развивает в ребенке неуверенность в своих силах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59984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дрюше 2 года 10 месяцев, он умеет мыть руки, вытираться полотенцем – делает это с удовольствием, используя при этом стишки и поте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 одеванием возникают проблемы – как его заинтересова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 Варианты игр мы рассматривали ранее. Возможен такой диа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 это такое? - Штаны! - отвечает ребенок. - Штаны? А для чего они? - Надевать. - Надевать??? А как это?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улице похолодало, стали одевать теплую одежду и начались капризы – колготки не одену, штаны не хочу и т.п. Когда одеваю сама – успокаивается. Что произошл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Возможно, теплые вещи не подходят для самостоятельного одевания: штанишки маловаты, колготки сделаны из теплого, но неудобного материала. Ребенку просто физически трудно одеть эти вещ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42244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обиралась с дочкой на улицу. Дала ей одежду. А сама пошла на кухню. Через 15 минут вернулась – она не только не оделась, но и все вещи перепутала. В саду одевается сама. Почему так получил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Ребенок нуждается в подробных словесных объяснениях, а возможно и непосредственной помощи, воспитатель в саду проговаривает как, что и в каком порядке надевать. Оставшись один ребенок растерялся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28000"/>
            <a:ext cx="8686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7. Высказывания великих людей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 каждом столе лежат карточки с пословицами, высказываниями великих людей по теме воспитания. Под музыку карточки передаются по кругу. Таким образом родители знакомятся с содержанием каждой карточ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спитание имеет целью сделать человека самостоятельным существом, т.е. существом со свободной волей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егель – немецкий философ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нечная цель всякого воспитания – воспитание самостоятельности посредством самодеятельности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истервег – немецкий педаго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арадокс воспитания состоит в том, что хорошо поддаются воспитанию как раз те, которые не нуждаются в воспитании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азиль Искандер – абхазский писатель, поэ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спитание – это процесс, в начале которого ребенка учат говорить, а в конце молчать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Левинсон - американский афорис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спитание – это наука, обучающая наших детей обходиться без нас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Легуве – французский писател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 всех творений самое прекрасное- получивший прекрасное воспитание человек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пиктет - древнегреческий философ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8760" y="2497680"/>
            <a:ext cx="8108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верьте не стареющей примете: век плачут избалованные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ец не научил – чужой дядя не науч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 в детстве воспитаешь, на то в старости и обопреш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тки хороши- отцу и матери венец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уды – отцу и матери коне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258984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8. Подведение итогов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 ж сегодня у нас появилась уверенность в том, что мы можем помочь нашим детям стать более самостоятельными, уверенными в своих сил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2589480"/>
            <a:ext cx="8763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заключении определяем тему следующего собра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роки его проведения. А также предлагаем родителям ответить на вопросы анкеты , раскрывающие положительные и отрицательные стороны проведенного родительского собр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аепит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453680"/>
            <a:ext cx="86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дготовка к собранию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нкетирование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просы анкеты направлены на выявление степени обладания навыками самообслуживан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 ребенк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формление груп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формление стенгазеты : «Я умею сам !!!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Включает в себя фотоматериалы с изображением детей в процессе выполнения различных действий по самообслуживанию : одевание, раздевание, мытье рук, прием пищи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зготовление красочного приглашения на родительское собр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Коллективная аппликация “Почтовый голубь, с письмом- приглашением в клюве”- совместная творческая работа детей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дготовка к собранию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просы анкеты направлены на выявление степени обладания навыками самообслуживания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нкетирование с воспитателями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509480"/>
            <a:ext cx="8076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ажаемые родители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глашаем вас на родительское собрание (дата и врем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месте мы порассуждаем над темой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ормирование навыков самообслуживания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ы ждем встречи с вами и надеемся на тесное сотрудничество в деле воспитания ваших детей!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готовление индивидуальных приглашений для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 Маленький почтовый голубок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мочка и папочка! Приглашаю вас на родительское собрание (дата и время). Приходите и узнаете про меня много интересног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1604160"/>
            <a:ext cx="678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авай будем одеватьс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авай будем одеваться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Я сама! Я са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Пойдем, будем умываться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Я сама! Я са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Ну идем, хоть причешу я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Я сама! Я са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Ну давай хоть покормлю я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Я сама! Я са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-23400"/>
            <a:ext cx="853416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2. Основная часть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важаемые родители! Проанализировав ваши анкеты мы пришли к выводу, что наибольшие трудности вызывает формирование навыков одевания и раздевания – остановимся на этом поподробне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, наверняка, припомните среди своих знакомых такую маму: она водит малыша и на рисование, и на ритмику, и на английский. Они постоянно куда-то спешат и опаздывают. И, конечно, такая мама не может позволить ребенку такую роскошь, как самому одеться, застегнуться, обуться . Потому что, по ее мнению, это пустая трата времени: “ Провозится полчаса, а одевать все равно мне придется – так лучше я сразу это сделаю”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к вы считаете: а может действительно эта мама права? Ведь большинству малышей в этом возрасте все еще не хватает ловкости, а смотреть на их труды – тяжелое испыт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(Проводится дискуссия по этому вопросу.)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важаемые родители! Вы совершенно правы. Совершенно очевидно, что ребенку в дальнейшем, как бы не сложилась его судьба – станет ли он фигуристом, или художником, умение одеваться- раздеваться, застегивать пуговицы понадобится в любом случа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ало того,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амоощущение малыша, его уважение к себе базируются именно на этих фундаментальных навыках – навыках самообслуживания!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ни для него важнее любых других, ибо они основа его независим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Оформление красочных памяток с фотографиями де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Оформление красочных памяток с фотографиями де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к сформировать навыки самообслуживания”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. Оформление карточек с высказываниями великих людей , с пословицами, посвященными воспитанию самостоя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готовка музыкального 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661320"/>
            <a:ext cx="85341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Ход собр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Звучит приятная музыка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На столах, расставленных по кругу, выставлены карточки с именами, отчествами родителей, памятки, а также – листы бумаги, карандаши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Вступ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Формирование навыков самообслуживания у детей младшего возраста заключается в постепенном приучении его к самосто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Самостоятельность – ценное качество, необходимое человеку в жизни. Воспитывать его необходимо с раннего детства. По своей природе дети активны. Очень часто, особенно в 3 года, они стремятся выполнять различные действия самостоятельно. И нам, взрослым, важно поддержать их в э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часто каждому из нас в ответ на предложение сделать что-то за ребенка или помочь ему в чем-то приходилось слышать: “Я сам!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Звучит магнитофонная запись стихотворения И. Муравейка “Я сама!” в детском исполнен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И мамы, которые пытаются препятствовать самостоятельности ребенка при овладении навыками самообслуживания, сохраняют за собой “ключевые позиции”, удерживают ребенка в зависимом состоянии, несомненно наносят вред своему ребенк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Если малыш не отличается сильным характером и бойцовскими качествами, он может сдаться и позволит одевать себя чуть ли не до школ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мы уже отметили, готовность и решимость осваивать навыки самообслуживания большинство детей демонстрируют где-то в возрасте трех лет, в период одного из кризисов взросления с доходчивым названием “Я сам!”. У ребенка появляется устойчивое желание самоутвердиться. И подавлять эти порывы ни в коем случае нельзя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онечно, пятилетний ребенок выучится быстрее. Но за эти годы он может утратить главное – желание учиться. Стимулы исчезают, теряются. Ведь трехлетка будет безумно горд, когда впервые застегнет сам молнию на куртке. Пятилетний же, освоив это мастерство, ничего не почувствует. И в самом деле, в пять лет-то чем тут гордиться? Это все сверстники давно умеют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Мини- итог: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формировать навыки самообслуживания надо вовремя, необходимо поощрять стремление ребенка к самостоятельности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09656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 Практическая часть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так, давайте будем учиться вовремя и вместе. Дети – элементарным навыкам самообслужи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ы – последовательности, методичности и терп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терпения как раз порой и не хватае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терпения как раз порой и не хватае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авайте рассмотрим некоторые примеры из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ехлетний Максим с усердием надевает колготы. Трудное занятие! Наконец, после долгих усилий колготы почти надеты , но… наизнанку. Мать прекращает как она говорит “эту бесцельную возню”, быстрым движением, не скрывая раздражение, стягивает с него колготы и натягивает их уже са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лыш поднимает крик:”Сам! Я сам!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ть строго говорит :”Сиди спокойно! Не умеешь, а кричишь”сам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40184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прос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ильно ли поступила ма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овы последствия такого поведения мам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вали ли подобные ситуации у ва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вы выходили из н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лучше вести себя в таких ситуация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 Мама поступила неправильно, мама может отбить у ребенка всякое стремление к самостоятельности, в последствии ребенок может вырасти пассивным , ленив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ильнее было бы обыграть ситуацию :” Ой, смотри какие глупые колготочки – перевернулись наизнанку! Давай им поможем – вывернем их обратно”.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91476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ругая ситуац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те 3,5 года, она категорически отказывается сама одеваться. Аргументирует свой протест тем, что она еще маленьк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чему так происходит? Посоветуйте, как быть родителям в сложившейся ситу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 Вероятно, в какой –то момент родители перехватили инициативу по одеванию- раздеванию в свои руки, не поддержали стремление к самостоятель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жно данный процесс превратить в увлекательную игру : вот змея заползает в нору(одевание колгот, носок), вот поезд едет через туннель( натягивание свитеров и футболок через голову). Можно поиграть в прятки. Одежда закрыла лицо – где наш малыш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жно данный процесс превратить в увлекательную игру : вот змея заползает в нору(одевание колгот, носок), вот поезд едет через туннель( натягивание свитеров и футболок через голову). Можно поиграть в прятки. Одежда закрыла лицо – где наш малыш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процессе игры ребенок сможет незаметно для самого себя перехватить инициативу, почувствовать желание одеваться самостоятельно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6:01:13Z</dcterms:created>
  <dc:creator>Лёха</dc:creator>
  <dc:description/>
  <dc:language>en-US</dc:language>
  <cp:lastModifiedBy>Лёха</cp:lastModifiedBy>
  <dcterms:modified xsi:type="dcterms:W3CDTF">2014-11-03T16:5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