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F52-738F-4642-838F-625D2CFA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216-4907-45BB-8E4E-C5DEF723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FAC-BC56-4C4F-B7E8-5E5289AF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76F-C662-4C85-913D-6BC0A13E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595-D242-4AD3-AA22-B37268B0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D34-BFF2-4918-8116-1DE8D84D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879-E0A7-467F-9E86-B567FE1E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F31-0062-41E4-BF91-FB551599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A35-6DCE-4630-A87B-03EF30E2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E6A-AA12-439B-B4AE-2323147B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93E-8B4A-4722-9BAA-0AF1DACA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177-A8E0-4209-8FC1-A64AEBD8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F949-7104-4F6D-A2DF-61352CBF0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Автоматизация звука л в словах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969000" cy="636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5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332240" cy="4624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-228600"/>
            <a:ext cx="7315200" cy="9753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ил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14560" y="819000"/>
            <a:ext cx="5114880" cy="5220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05320" y="685800"/>
            <a:ext cx="2666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5791320"/>
            <a:ext cx="2362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41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втор презентации: </a:t>
            </a:r>
            <a:br>
              <a:rPr sz="2400"/>
            </a:b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учитель – логопед </a:t>
            </a:r>
            <a:br>
              <a:rPr sz="2400"/>
            </a:b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МАДОУ «Детский сад № 85» г. Перми  </a:t>
            </a:r>
            <a:br>
              <a:rPr sz="2400"/>
            </a:b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И. Л. Чир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685800"/>
            <a:ext cx="5334120" cy="4952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2857680" cy="202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48320" y="1066680"/>
            <a:ext cx="1066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990720"/>
            <a:ext cx="1295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2590920"/>
            <a:ext cx="10666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-152280"/>
            <a:ext cx="6896160" cy="975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833640" cy="271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1000" y="1143000"/>
            <a:ext cx="898200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5105520"/>
            <a:ext cx="6553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с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4790880" cy="417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-152280"/>
            <a:ext cx="689616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59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10000" y="685800"/>
            <a:ext cx="3924000" cy="548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192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5T10:30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