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4165-B574-46B3-A8CE-988933FFB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C70C-38B1-49C9-A06B-93506F944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9914-BE31-4DE7-9DF3-90A928BC3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39C6-1038-4F1F-B2E9-A9833DAA9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A31AA-CF2B-4251-987D-77AD22F66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6BADD-B7BE-4588-A041-9D1E39934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F27C1-7E4B-4E69-97BC-22A172681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62336-59EC-4344-986A-47E6D4442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25150-2D36-48F6-922C-00987DFF7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40800-B5C8-4DB1-BEC3-FFB9CE59C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D8040-0AD2-49F8-98E8-DA1523942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F18A-A3A6-4215-88F0-E1329B7F2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8D869-73F4-4745-8FB1-CCC39E355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44F89-5325-407E-A6E4-9665B804B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876E6-997B-4661-925F-A899F3C9D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C048B-1924-4F0E-BD74-EC84A484B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9316E-7A5F-471C-A727-CF332B6C0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DBD3-70A3-4C72-AD8A-DEF63237B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6097-074C-4EF5-AD3A-968C3826A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5BBE-A5A0-4DD4-A4C0-7616FEFF5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8ADE-B7E8-43AA-AED2-C07EE7D3F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16EA-55F7-462D-9BA9-E25596B53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F8A1-3789-4F8B-BCC4-3905BF733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8911-6020-4206-8B74-2570409A2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BDEA8-0D42-4B93-9ABC-73CDF8E89A5E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B7AA6-6274-4B31-B161-36B452522469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ектная деятельность в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чальной школ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готовила учитель начальных классов: Аникина С.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721080" y="-134640"/>
            <a:ext cx="7866720" cy="250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Использование метода проектов в практической деятельности.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далее"/>
          <p:cNvPicPr/>
          <p:nvPr/>
        </p:nvPicPr>
        <p:blipFill>
          <a:blip r:embed="rId1"/>
          <a:stretch/>
        </p:blipFill>
        <p:spPr>
          <a:xfrm>
            <a:off x="7956720" y="56610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114" name="Загнутый угол 6"/>
          <p:cNvSpPr/>
          <p:nvPr/>
        </p:nvSpPr>
        <p:spPr>
          <a:xfrm>
            <a:off x="1357200" y="3214800"/>
            <a:ext cx="2714760" cy="1071360"/>
          </a:xfrm>
          <a:prstGeom prst="foldedCorner">
            <a:avLst>
              <a:gd name="adj" fmla="val 16666"/>
            </a:avLst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Задачи обучения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Загнутый угол 7"/>
          <p:cNvSpPr/>
          <p:nvPr/>
        </p:nvSpPr>
        <p:spPr>
          <a:xfrm>
            <a:off x="5357880" y="3286080"/>
            <a:ext cx="2571840" cy="986040"/>
          </a:xfrm>
          <a:prstGeom prst="foldedCorner">
            <a:avLst>
              <a:gd name="adj" fmla="val 16666"/>
            </a:avLst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Задачи развития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522000" y="126720"/>
            <a:ext cx="7976160" cy="174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иды проектов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 начальной школе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785520" y="2499840"/>
            <a:ext cx="7692840" cy="24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екты наблюд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екты рассказ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структивные проект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скурсионные проек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769680" y="2770200"/>
            <a:ext cx="7814160" cy="76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Умения, на которые проектная деятельность оказывает наибольшее влияни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01200" y="826560"/>
            <a:ext cx="8262000" cy="85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Что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дает метод проектов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Желаюм творческих успехов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усть живая, ищущая мысль ребёнка, рассуждение, доказательство, сопоставление освещают все стороны изучаемых явлений и помогают не только усвоению понятий, но и овладению навы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. В. Зан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то такое проект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000680" y="2357280"/>
            <a:ext cx="474336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роект – это специально организованный учителем и самостоятельно выполняемый учащимися комплекс действий, завершающихся созданием творческого продук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еоретические сведения о методе проекто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Метод проекта – это одна из личностно-ориентированных технологий, в основе которой лежит развитие познавательных навыков учащихся, умений самостоятельно конструировать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свои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знания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ориентироваться в информационном пространстве, развитие критического и творческого мышл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60440" y="36720"/>
            <a:ext cx="7287480" cy="1887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Цели и задачи проектного метода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642840" y="2356920"/>
            <a:ext cx="52866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Основная цель проектного метода в начальной школе является </a:t>
            </a:r>
            <a:r>
              <a:rPr b="1" lang="ru-RU" sz="2800" spc="-1" strike="noStrike">
                <a:solidFill>
                  <a:srgbClr val="ff0000"/>
                </a:solidFill>
                <a:latin typeface="Arial Narrow"/>
              </a:rPr>
              <a:t>развитие свободной творческой личности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 Narrow"/>
              </a:rPr>
              <a:t>ребенка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, которое определяется задачами развития и задачами исследовательской деятельности дет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цели"/>
          <p:cNvPicPr/>
          <p:nvPr/>
        </p:nvPicPr>
        <p:blipFill>
          <a:blip r:embed="rId1"/>
          <a:stretch/>
        </p:blipFill>
        <p:spPr>
          <a:xfrm>
            <a:off x="8028000" y="33336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28760" y="2357280"/>
            <a:ext cx="521496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оектная деятельность обучающихся – это совместная учебно-познавательная, творческая или игровая деятельность, имеющая общую цель, согласованные методы, способы деятельности, направленная на достижение общего результата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Этапы работы над         проектом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3"/>
          <p:cNvSpPr/>
          <p:nvPr/>
        </p:nvSpPr>
        <p:spPr>
          <a:xfrm>
            <a:off x="5072040" y="2571840"/>
            <a:ext cx="3643200" cy="3593160"/>
          </a:xfrm>
          <a:prstGeom prst="rect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этап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уществление деятельности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ализация плана действий (проекта),  подготовка к защите проекта, «добывают» необходимые знания, оформляют портфолио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товят стендовую защиту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рабатывают электронную презентацию и т.д.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V этап: Презентация проекта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для младших школьников применимы все виды представления проекта: доклад-защита, инсценировка, электронная презентация)Рефлексия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самоанализ и самооценка проделанной работы, свои впечатления).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4"/>
          <p:cNvSpPr/>
          <p:nvPr/>
        </p:nvSpPr>
        <p:spPr>
          <a:xfrm>
            <a:off x="1071720" y="2571840"/>
            <a:ext cx="3357360" cy="3501000"/>
          </a:xfrm>
          <a:prstGeom prst="rect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тап: Подготовительны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Погружение» в проблему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бор и обработка информации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тап Организации деятельности: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работка собственного варианта решения проблемы;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ктуальность и важность данной проблемы;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нализ разнообразной информации;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работка варианта реализации своей программы.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роектная деятельность как средство развития личност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Что такое исследования для маленького ребёнка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наблюдения за жизн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крытие многих явл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крытие явлений, известных взрослым, но неизвестных конкретному ребён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го наблюдения начинают жить, двигаться,   взаимодействовать друг с друг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никают вопро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ходятся отве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 хочет узнать новые подробности  и таким образом вовлекается в новые исследования окружающей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9:58:39Z</dcterms:created>
  <dc:creator>Еремина Т.Н.</dc:creator>
  <dc:description/>
  <dc:language>en-US</dc:language>
  <cp:lastModifiedBy>Пользователь</cp:lastModifiedBy>
  <dcterms:modified xsi:type="dcterms:W3CDTF">2014-11-05T17:24:57Z</dcterms:modified>
  <cp:revision>42</cp:revision>
  <dc:subject/>
  <dc:title>Проектная деятельность в начальной школе</dc:title>
</cp:coreProperties>
</file>