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D2B6-B27C-4BDB-B3C6-1DAAE9F5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CA6C-F466-4864-891E-C06568E2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C9AD57-6AF3-4647-856A-3414BBBF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55D12-BE10-4922-BFAC-4FD09259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09410-7F15-4FEE-AC03-C7A62E5C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CF940-83A3-4960-B25B-0FCC89CE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372641-8ECB-400D-B7A7-D97138D6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5D5A4-3C59-42A3-BA5E-41D67B2C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8E8134-79F9-4D2F-87B9-2829FD4F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4044F-1DCF-4E49-B9E7-740A2422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8B18DF-9E0C-4817-B1F6-DCE49064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586867-D45E-4DC7-98DD-9FA07255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F225-CAF2-46F9-9DFD-DD789E69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39EB2-BEB2-4C2B-8254-9A39ACDB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2F555F-1A31-4A43-9628-6FF934A5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43A9D0-8289-4766-BE22-218AB9B7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C88FEB-F32A-43E6-85D9-FBBBD1DA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48CC6-1C68-4FE0-8120-92A4E59B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F49EAB-8C3D-4B9C-A0DE-F8858903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63F17E-181D-4737-9722-DE0C20E2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3FDE73-7941-4DB9-95B7-C16E709A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01CF28-20BA-4596-9414-BB97CB07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1B94B4-27B1-4462-BA4F-0B3A1DE2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A639-45D5-40E3-9675-9A44B5DE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9A34DB-F052-46CC-A6B7-2D71FF6F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C9CC1-BFDC-4806-8EDA-3A271309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890D1-09D8-4E49-B812-3D89BB09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4F61E-3358-45A4-9C1A-DF398CEB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C614E-CC04-4838-A05E-310FFB2E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02775-A636-461A-86E4-A6C39DC7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332D3-051C-4DB6-B418-84142933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E7926-80E3-4DB9-9528-E8C46467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6A7FA-7282-4632-B299-231689A6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37D37-9A11-4886-BFDD-47ADAB29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2C50-0B36-42A9-812B-A096CC0F4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3B42A-0A4E-43F7-8FE4-E6558F43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B498E-BE83-4EA3-BE7D-2DDC9461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DFE57-BB3B-4553-AE47-553FB9D5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035552-619C-4919-8D73-6FB4EFC5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AE77B1-F353-41BC-9931-677E3071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8F48E7-B401-4016-B924-B3A0E8EA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9303F3-FDDE-4DF3-A704-F14A348D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780A70-0C1A-42AF-B394-17306607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DFA91E-F9C8-4887-9B9D-78F71A21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A8C0A2-9112-4215-AE60-F75CD727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F070-D283-4396-83AB-482F8878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9412F8-073B-49AD-91C0-993C8CA2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07E47-5F48-44F1-AAA0-DF6B536F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B2933-F8BF-4947-A677-BF7B741C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0C17C6-A95B-426E-88DF-BAA3235A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89D341-9ED8-451F-B35E-9B83E8AD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5A36-01FE-4985-8709-B4C6C5BF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ECCC-FFA2-4899-BC6E-1BAB4475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50D2-364B-4605-9DE9-AE5FA567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07D0-5713-4A5A-B82D-D38E9C4B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44D4-CD15-43E6-8D28-58CCC349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8CFA-E3D3-4D5F-885B-74859F69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7F4E-911C-4CC2-950F-ADB583BD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86D4-78C2-41CA-88C1-AE9798C6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4705-CA2B-4A7B-96DB-D2CD137B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75B0-C079-40B7-89FC-AE63CC30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6384-4123-424A-8A82-9BE8C979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12618-3955-44D1-8416-931AAE88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79E58-2DAC-4C73-BB48-2E2945F2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9A676-79C1-4072-B7B6-4F4302E4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16F5E-05FA-404D-B386-5CC51966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C09BA-6564-48CC-BFF4-23A79CBE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BB3E-C3B1-48B3-B93A-ACB1E411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485DA-DD64-476B-B0D7-7A2C06FE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806F9-FA83-477B-9966-FF03BBA1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16691-AA5E-4B28-809D-F24FD661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DD20B-CA4B-42C5-A313-E29105B0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B48E7-3F5B-4D39-8D98-04654CF9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8D0C9-3AE5-42C9-9111-A4742DCC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2CCDC-35FE-4ADC-AEE9-7AA84096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AD4F0-37C9-402C-B66C-BE6EC9D0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AA7D6-7706-4F61-A487-4D9741BE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2E102-EC60-4110-9535-BBA54A22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C4AB-C869-4F05-BF43-8F600E44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E0F5F-DB86-4FA4-8756-0547B55E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6B971-C762-40CF-8ABC-43E41293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72634-935E-499E-B925-162C462E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D39A3-2FFA-4B0F-9151-BA72B6F7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8AA56-5E06-4359-85C7-26DC2ADA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DC9AF-D6B3-415E-B140-315E99F6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353A3-5F17-480F-9352-E0BE932D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F9BBD-6808-42E0-AC7E-71B5D951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1B702-E7D4-4F9B-99F1-8CD434FA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46913-B451-4B48-8415-CE6747EA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9016-3474-4777-B316-951C40D1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7882E-1950-42C7-AC57-659ED403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4A617-E5C3-42D4-BB36-3EDEE4D5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42144-DCFB-4E3D-B694-D5C63E1A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F739D-EBC0-4C3C-8648-F2A147A1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93D02-0A95-4FBB-9D03-5CE50E7B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92312-72E5-42B9-B4E8-85AFC753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DAFFA-4016-45F0-A5BB-8BB9E0BD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70958-6359-4E5E-A615-6CC7D927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18309-EC0D-4967-B6A8-6DD16EEB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9B6A9-3BD4-4D5E-9553-7DA5AD99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7B92-67AA-425E-B3EE-571FC56D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8056E-F6D7-474F-8904-7ADE80E0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28D63-3B44-49B3-928F-4A3CE89D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3A37B-01A9-4448-83E9-5497FD9A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44CFA-0E73-46E1-A3E6-2B827C66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34120-CB40-4EE2-920D-373F681A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05943-01E9-4F24-87F7-36FA0DC9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90E0D-2702-4254-9353-27894F15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486CF-F730-4C65-B14B-F4C95FFE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B179D-788E-45DB-8568-D185552C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11E90-71A7-4C26-B385-E5C36E3F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A70D-25FE-4DCD-AFAF-30C1EA22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388B1-B901-4D3C-96AA-6B8D64D5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80606-8C96-4513-9C51-41828F7E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D6B97-F108-40B7-9B30-ED2E5B3D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599A3-968F-46C8-864D-E1E534AD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19910-83AB-4A8E-A236-D781A088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530B7-CE60-4AD2-9030-8D0610F8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0F9EB-C304-4D6E-86E2-98F7979A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3F0FB-6C07-4CB2-980D-DCC20D49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F41C0-7658-4FD0-AB73-23A8568E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BEDAB-C38C-4143-96DD-5A78E939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0A34-4C42-4FF4-8206-E23C2744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A62FE-3D96-4AAC-864A-ACFC45FC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6AE22-9730-4FDA-AD70-5B760919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BF497-B61B-4368-9B63-FEA690AD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D9331-BB97-4684-8B12-BB584206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C6C14-FA5D-48BE-8FD1-51EAAD7E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4C05C-D882-419A-A297-086ECD3C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B1843-0AE6-4C4B-826C-D0472362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028D7-2749-431C-BC80-8CBD7ECB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AD36E-E964-4CB3-AB47-1DB391F0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FB0D5-C58C-4F09-B511-ED29ACCF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B5FB-2858-4489-9EA0-73317923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0222B-608A-42DD-8483-6E52E99A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DD735-3152-4713-BE16-E19EEFD5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50B25-B349-4D82-A83A-8442AB29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6BDA8-2E3A-4493-A153-E8CD7F2A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14A74-96C2-456D-8BD3-5F466CEC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4FC27-0799-4563-A62A-DD9F1BA5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A60A3-5C68-4F04-9777-77166B8D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184D7-31B3-42DF-902B-A05D4A3C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07FB5E-BA06-442A-9F6B-44C27E5F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4486E-0BD5-442E-A367-F1483871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7B27-BEAC-4D55-B831-8E44AE01017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FBD7-D10D-4339-BE8E-43AD48E1570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C9A5-2442-40D0-8E59-A3BC02C386E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4F47-C39A-40B2-8AB8-5728E1EF788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F363-D1B2-4891-8DD7-67CCAB14C59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DD62-5FD3-445E-94E2-2D503AF35C2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9F0B-FE5F-4A48-AFC4-C91DDC7449D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086A-118A-4930-86CD-07F95422AD5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6B8E-18FB-4210-BBEF-9B3308AFB7D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7701-EA5E-4626-9DAF-CCACC5DE553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DBC3-E32D-4964-AE29-55DB7EC9901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AFB2-3BFA-4ABB-81B2-BDD69E51BD2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16349"/>
                </a:solidFill>
                <a:latin typeface="Georgia"/>
              </a:rPr>
              <a:t>Резьба по дереву</a:t>
            </a:r>
            <a:endParaRPr b="0" lang="en-US" sz="7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Стамеск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ля геометрической резьбы по дереву часто применяют различные стамески. Они бывают полукруглые различной степени выпуклост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4" name="Рисунок 3" descr="DSC03512.jpg"/>
          <p:cNvPicPr/>
          <p:nvPr/>
        </p:nvPicPr>
        <p:blipFill>
          <a:blip r:embed="rId1"/>
          <a:stretch/>
        </p:blipFill>
        <p:spPr>
          <a:xfrm>
            <a:off x="1000080" y="3071880"/>
            <a:ext cx="6786720" cy="3071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Клюкарз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-143280" y="1527120"/>
            <a:ext cx="928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езчики часто применяют их. Это те же полукруглые стамески с изогнутым около режущего конца полотно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Рисунок 3" descr="DSC03517.jpg"/>
          <p:cNvPicPr/>
          <p:nvPr/>
        </p:nvPicPr>
        <p:blipFill>
          <a:blip r:embed="rId1"/>
          <a:stretch/>
        </p:blipFill>
        <p:spPr>
          <a:xfrm>
            <a:off x="1143000" y="2928960"/>
            <a:ext cx="6977160" cy="335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Рашпил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42920" y="152712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мимо резаков по дереву необходимы рашпили, они оставляют после себя гладкую поверхность как рубанок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0" name="Рисунок 3" descr="DSC03516.jpg"/>
          <p:cNvPicPr/>
          <p:nvPr/>
        </p:nvPicPr>
        <p:blipFill>
          <a:blip r:embed="rId1"/>
          <a:stretch/>
        </p:blipFill>
        <p:spPr>
          <a:xfrm>
            <a:off x="1071720" y="2928960"/>
            <a:ext cx="7215120" cy="32148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Ножовк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ожовки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 дереву и металлу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елает тонкий и аккуратный пропил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3" name="Рисунок 3" descr="DSC03519.jpg"/>
          <p:cNvPicPr/>
          <p:nvPr/>
        </p:nvPicPr>
        <p:blipFill>
          <a:blip r:embed="rId1"/>
          <a:stretch/>
        </p:blipFill>
        <p:spPr>
          <a:xfrm>
            <a:off x="1214280" y="2571840"/>
            <a:ext cx="6572520" cy="36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Бруск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ля заточки инструментов необходимы бруски: двусторонний абразивный, двухсторонний алмазный, доводочный твердый и доводочный мягки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6" name="Рисунок 3" descr="DSC03523.jpg"/>
          <p:cNvPicPr/>
          <p:nvPr/>
        </p:nvPicPr>
        <p:blipFill>
          <a:blip r:embed="rId1"/>
          <a:stretch/>
        </p:blipFill>
        <p:spPr>
          <a:xfrm>
            <a:off x="1214280" y="3500280"/>
            <a:ext cx="6215400" cy="2595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Инструменты для разметк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у и конечно же инструменты для разметки : плотницкий угольник, треугольники, штангенциркуль, транспортир, рулетка, циркуль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9" name="Рисунок 3" descr="DSC03524.jpg"/>
          <p:cNvPicPr/>
          <p:nvPr/>
        </p:nvPicPr>
        <p:blipFill>
          <a:blip r:embed="rId1"/>
          <a:stretch/>
        </p:blipFill>
        <p:spPr>
          <a:xfrm>
            <a:off x="500040" y="3429000"/>
            <a:ext cx="3786120" cy="2428920"/>
          </a:xfrm>
          <a:prstGeom prst="rect">
            <a:avLst/>
          </a:prstGeom>
          <a:ln w="0">
            <a:noFill/>
          </a:ln>
        </p:spPr>
      </p:pic>
      <p:pic>
        <p:nvPicPr>
          <p:cNvPr id="650" name="Рисунок 4" descr="DSC03522.jpg"/>
          <p:cNvPicPr/>
          <p:nvPr/>
        </p:nvPicPr>
        <p:blipFill>
          <a:blip r:embed="rId2"/>
          <a:stretch/>
        </p:blipFill>
        <p:spPr>
          <a:xfrm>
            <a:off x="4286160" y="3429000"/>
            <a:ext cx="424512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-1000080" y="-46872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287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Резьба по дереву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— вид декаротивно -прикладного искусства (также резьба является одним из видов художественной обработки дерева наряду с выпиливанием, токарным делом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9" name="Picture 2" descr="http://s48.radikal.ru/i122/0907/00/27d9f0dc50a9.jpg"/>
          <p:cNvPicPr/>
          <p:nvPr/>
        </p:nvPicPr>
        <p:blipFill>
          <a:blip r:embed="rId1"/>
          <a:stretch/>
        </p:blipFill>
        <p:spPr>
          <a:xfrm>
            <a:off x="1285920" y="2500200"/>
            <a:ext cx="6357960" cy="3857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Типы резьб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858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.Сквозная резьб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.Плосковыемчатая резьб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.Рельефная резьб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.Скульптурная резьб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9899"/>
                </a:solidFill>
                <a:latin typeface="Georgia"/>
              </a:rPr>
              <a:t>Сквозная резьба разделяется </a:t>
            </a:r>
            <a:br>
              <a:rPr sz="3200"/>
            </a:br>
            <a:r>
              <a:rPr b="0" lang="ru-RU" sz="3200" spc="-1" strike="noStrike">
                <a:solidFill>
                  <a:srgbClr val="7b9899"/>
                </a:solidFill>
                <a:latin typeface="Georgia"/>
              </a:rPr>
              <a:t>на прорезную</a:t>
            </a:r>
            <a:r>
              <a:rPr b="1" lang="ru-RU" sz="32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7b9899"/>
                </a:solidFill>
                <a:latin typeface="Georgia"/>
              </a:rPr>
              <a:t>и пропильную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Прорезн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Пропильн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5" name="Рисунок 6" descr="clip_image002.jpg"/>
          <p:cNvPicPr/>
          <p:nvPr/>
        </p:nvPicPr>
        <p:blipFill>
          <a:blip r:embed="rId1"/>
          <a:stretch/>
        </p:blipFill>
        <p:spPr>
          <a:xfrm>
            <a:off x="642960" y="2571840"/>
            <a:ext cx="3809880" cy="364320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7" descr="clip_image002.jpg"/>
          <p:cNvPicPr/>
          <p:nvPr/>
        </p:nvPicPr>
        <p:blipFill>
          <a:blip r:embed="rId2"/>
          <a:stretch/>
        </p:blipFill>
        <p:spPr>
          <a:xfrm>
            <a:off x="5572080" y="2595600"/>
            <a:ext cx="2714760" cy="3633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0" y="713880"/>
            <a:ext cx="914400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ПЛОСКОВЫЕМЧАТАЯ РЕЗЬБА ХАРАКТЕРНА ТЕМ, ЧТО ЕЁ ОСНОВОЙ СЛУЖИТ ПЛОСКИЙ ФОН, А ЭЛЕМЕНТЫ РЕЗЬБЫ УГЛУБЛЯЮТСЯ В НЕГО, ТО ЕСТЬ НИЖНИЙ УРОВЕНЬ РЕЗНЫХ ЭЛЕМЕНТОВ ЛЕЖИТ НИЖЕ УРОВНЯ ФОН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857160" y="214200"/>
            <a:ext cx="6786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Плосковыемчатая резьба </a:t>
            </a:r>
            <a:br>
              <a:rPr sz="3800"/>
            </a:b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Рисунок 8" descr="clip_image002.jpg"/>
          <p:cNvPicPr/>
          <p:nvPr/>
        </p:nvPicPr>
        <p:blipFill>
          <a:blip r:embed="rId1"/>
          <a:stretch/>
        </p:blipFill>
        <p:spPr>
          <a:xfrm>
            <a:off x="1785960" y="2643120"/>
            <a:ext cx="5572080" cy="3592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  </a:t>
            </a: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Рельефная резьба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14400" y="1571400"/>
            <a:ext cx="822960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льефная резьба характерна тем, чт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лементы резьбы находятся выше фона ил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одном уровне с ним. Как правило, в это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хнике выполняются все резные панно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Рисунок 3" descr="clip_image002.jpg"/>
          <p:cNvPicPr/>
          <p:nvPr/>
        </p:nvPicPr>
        <p:blipFill>
          <a:blip r:embed="rId1"/>
          <a:stretch/>
        </p:blipFill>
        <p:spPr>
          <a:xfrm>
            <a:off x="1285920" y="3643200"/>
            <a:ext cx="6215040" cy="2722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0040" y="-285840"/>
            <a:ext cx="814392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Скульптурная резьба</a:t>
            </a:r>
            <a:br>
              <a:rPr sz="3000"/>
            </a:b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 </a:t>
            </a:r>
            <a:br>
              <a:rPr sz="3000"/>
            </a:b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Отличительная особенность — наличие скульптуры — изображения отдельных фигур людей, животных, птиц или других объектов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Содержимое 3" descr="clip_image002.jpg"/>
          <p:cNvPicPr/>
          <p:nvPr/>
        </p:nvPicPr>
        <p:blipFill>
          <a:blip r:embed="rId1"/>
          <a:stretch/>
        </p:blipFill>
        <p:spPr>
          <a:xfrm>
            <a:off x="1428840" y="2643120"/>
            <a:ext cx="6248160" cy="37148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Инструменты для резьбы по дереву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Главные инструменты любого резчика по дереву это ножи-косяки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Рисунок 3" descr="DSC03515.jpg"/>
          <p:cNvPicPr/>
          <p:nvPr/>
        </p:nvPicPr>
        <p:blipFill>
          <a:blip r:embed="rId1"/>
          <a:stretch/>
        </p:blipFill>
        <p:spPr>
          <a:xfrm>
            <a:off x="1500120" y="2428920"/>
            <a:ext cx="5241960" cy="3000240"/>
          </a:xfrm>
          <a:prstGeom prst="rect">
            <a:avLst/>
          </a:prstGeom>
          <a:ln w="0">
            <a:noFill/>
          </a:ln>
        </p:spPr>
      </p:pic>
      <p:sp>
        <p:nvSpPr>
          <p:cNvPr id="628" name="Прямоугольник 4"/>
          <p:cNvSpPr/>
          <p:nvPr/>
        </p:nvSpPr>
        <p:spPr>
          <a:xfrm>
            <a:off x="1143000" y="58579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ни нужны разных размеров и с разными углами наклон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Вспомогательные нож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214200" y="1527120"/>
            <a:ext cx="8591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ни бывают разных размеров и форм, одни из них нужны для грубого вырезания, другие для прорезания мелких детале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Рисунок 3" descr="DSC03508.jpg"/>
          <p:cNvPicPr/>
          <p:nvPr/>
        </p:nvPicPr>
        <p:blipFill>
          <a:blip r:embed="rId1"/>
          <a:stretch/>
        </p:blipFill>
        <p:spPr>
          <a:xfrm>
            <a:off x="1643040" y="2857680"/>
            <a:ext cx="5357880" cy="33573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13:22:17Z</dcterms:created>
  <dc:creator>оля</dc:creator>
  <dc:description/>
  <dc:language>en-US</dc:language>
  <cp:lastModifiedBy>Учитель</cp:lastModifiedBy>
  <dcterms:modified xsi:type="dcterms:W3CDTF">2014-11-05T09:46:38Z</dcterms:modified>
  <cp:revision>12</cp:revision>
  <dc:subject/>
  <dc:title>Резьба по дереву</dc:title>
</cp:coreProperties>
</file>