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B50-F708-4BDF-A628-C8F69FDD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BF2-71BA-4F05-9E3B-3526D25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FA4-FD55-424D-8BC6-032D2CA8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078-9158-4F40-B646-030DBD82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EFC-1911-4271-9367-0221234C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81A-9610-4381-9A1E-9A1577E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C51-87DA-4ECD-AB2F-0FB30C38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628-2697-4FBD-9671-E22754A6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F64-F14C-4FC6-ACC1-EC1EB50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A7F-DDB4-442C-8072-3658F4B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7A7-6E19-4D4A-B170-3ACD3B0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433-E634-46F7-98A0-7FADFF7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FC51-3A0A-4C1F-B914-63AA814B2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leho.narod.ru/book/img/benu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ards.rambler.ru/p/images/2009/51541410610951901_img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iriskusstva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066.radikal.ru/1007/2d/72d068d9f83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ondratyev_and_Petrov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cantabile-subito.de/Basses/Reizen__Mark/reizengodunov1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aquita_-Lucien_d%27Hervilly_-Mikhail_Fokine_-circa_1905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alletrf.ru/gallery2/main.php?g2_view=core.DownloadItem&amp;g2_itemId=174&amp;g2_serialNumber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4.radikal.ru/i104/0904/68/e3a89c37e962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theor.jinr.ru/~smond/forum/Fokine/Bakst_Fokin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poglyad.com/Content/BlogsPosts/228/d9f6e4d31ccbaf4b9a3698d864fddf2b.jp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allery-mt.narod.ru/images/opera/full/0144-04b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u.wikipedia.org/wiki/&#1060;&#1072;&#1081;&#1083;:Ruslan_i_Lyudmila_(Gutheil)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s44.radikal.ru/i104/0910/6e/63d4088f2731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g1.liveinternet.ru/images/foto/b/3/826/3024826/f_18948003.jpg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g.encyc.yandex.net/illustrations/who-is-who/pictures/2-041-02.jpg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dic.academic.ru/pictures/wiki/files/82/Rosina_Galli4.jpg" TargetMode="External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9/Theatre_du_Chatelet_1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ru.wikipedia.org/wiki/&#1060;&#1072;&#1081;&#1083;:DSC_6996-theatre-du-chatele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ergei_Diaghilev_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uroboz.ru/cmsdb/cmsdb_img/081113720491b585dedca8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janr.perm.ru/arabic/costume/bakst09.jp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g12.nnm.ru/c/1/9/d/8/ab0791abfc9b54fc11d2fbe6b34.jpg" TargetMode="External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ergej_Diaghilev_(1872-1929)_ritratto_da_Valentin_Aleksandrovich_Serov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philosophov_baks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ics.livejournal.com/kapuchin/pic/003e01d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onstantin_Somo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ancera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kst_self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iography.sgu.ru/bio/data/files/pictures/image/3895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Русские сезоны» Дягил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00" y="404280"/>
            <a:ext cx="397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екса́ндр Никола́евич Бенуа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усский художник, историк искусства, художественный критик, основатель и главный идеолог объединения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ир Искус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Картинка 1 из 2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459720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етергоф.Большой каскад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48120" y="1052640"/>
            <a:ext cx="24238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рогулка коро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0 из 3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4520" y="2060640"/>
            <a:ext cx="5289480" cy="414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Petersgoff"/>
          <p:cNvPicPr/>
          <p:nvPr/>
        </p:nvPicPr>
        <p:blipFill>
          <a:blip r:embed="rId3"/>
          <a:stretch/>
        </p:blipFill>
        <p:spPr>
          <a:xfrm>
            <a:off x="0" y="333360"/>
            <a:ext cx="44514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076720" y="549360"/>
            <a:ext cx="3610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скус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жемесячный иллюстрированный художественный журнал, выходил в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тербург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89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90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лся органом художественного объединения «Мир искусства» и писателей-симво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дакция журнала располагалась в доме Дягилева.Первый номер был сдвоенный и вышел 9 ноября 1898 года. Потом журнал выходил один раз в две недели (до 1901), а с 1901 —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ердцем» журнала, его мотором был Сергей Павлович Дягилев, сделавший огромный вклад в популяризацию русского искусства за рубе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px-Miriskusstv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45003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Мир искусст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Б. М. Кустоди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1 из 17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435280" y="836640"/>
            <a:ext cx="260172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 Мусоргского «Борис Году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80px-Kondratyev_and_Petr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4282920" cy="561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Картинка 2 из 14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27664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84720" y="620280"/>
            <a:ext cx="4402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и́л Миха́йлович Фоки́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менитый русский хореограф, считающийся основателем современного бал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20px-Paquita_-Lucien_d%27Hervilly_-Mikhail_Fokine_-circa_19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57660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Картинка 5 из 10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3057480" cy="381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артинка 6 из 10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2708280"/>
            <a:ext cx="261000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Картинка 8 из 10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Картинка 11 из 10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2852640"/>
            <a:ext cx="254304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Картинка 2 из 2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245736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uslan i Lyudmila (Gutheil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068640"/>
            <a:ext cx="2476440" cy="3629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Картинка 1 из 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189000"/>
            <a:ext cx="5077080" cy="260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Картинка 5 из 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56000" y="2492280"/>
            <a:ext cx="2743200" cy="381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Картинка 3 из 13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27640" y="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Картинка 7 из 13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64000" y="3284640"/>
            <a:ext cx="306864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атр Шатле - 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Файл:Theatre du Chatelet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58960"/>
            <a:ext cx="5508720" cy="413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300px-DSC_6996-theatre-du-chate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838600"/>
            <a:ext cx="6048360" cy="401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Маскарад при Людовике XIV«  А.Бен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Маскарад при Людовике XIV картина бенуа"/>
          <p:cNvPicPr/>
          <p:nvPr/>
        </p:nvPicPr>
        <p:blipFill>
          <a:blip r:embed="rId1"/>
          <a:stretch/>
        </p:blipFill>
        <p:spPr>
          <a:xfrm>
            <a:off x="179280" y="806400"/>
            <a:ext cx="8604360" cy="605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ргей Павлович Дяги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87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92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театральный и художественный деятель один из основоположников группы «Мир Искусства», организатор «Русских сезонов» в Париже и труппы «Русский ба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ягиле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4173480" cy="515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скизы костюмов Л.Ба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Картинка 2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3362400" cy="4962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Картинка 1 из 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852640"/>
            <a:ext cx="248616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Картинка 7 из 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981000"/>
            <a:ext cx="31035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Картинка 9 из 11"/>
          <p:cNvPicPr/>
          <p:nvPr/>
        </p:nvPicPr>
        <p:blipFill>
          <a:blip r:embed="rId7"/>
          <a:stretch/>
        </p:blipFill>
        <p:spPr>
          <a:xfrm>
            <a:off x="6676920" y="2708280"/>
            <a:ext cx="24670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ины Н.Рер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Картинка 6 из 488"/>
          <p:cNvPicPr/>
          <p:nvPr/>
        </p:nvPicPr>
        <p:blipFill>
          <a:blip r:embed="rId1"/>
          <a:stretch/>
        </p:blipFill>
        <p:spPr>
          <a:xfrm>
            <a:off x="0" y="549360"/>
            <a:ext cx="4119480" cy="576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Картинка 1 из 488"/>
          <p:cNvPicPr/>
          <p:nvPr/>
        </p:nvPicPr>
        <p:blipFill>
          <a:blip r:embed="rId2"/>
          <a:stretch/>
        </p:blipFill>
        <p:spPr>
          <a:xfrm>
            <a:off x="3924360" y="2421000"/>
            <a:ext cx="50482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ины А.Я.Голо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9 из 264"/>
          <p:cNvPicPr/>
          <p:nvPr/>
        </p:nvPicPr>
        <p:blipFill>
          <a:blip r:embed="rId1"/>
          <a:stretch/>
        </p:blipFill>
        <p:spPr>
          <a:xfrm>
            <a:off x="250920" y="692280"/>
            <a:ext cx="3776400" cy="4243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10 из 264"/>
          <p:cNvPicPr/>
          <p:nvPr/>
        </p:nvPicPr>
        <p:blipFill>
          <a:blip r:embed="rId2"/>
          <a:stretch/>
        </p:blipFill>
        <p:spPr>
          <a:xfrm>
            <a:off x="4500720" y="768240"/>
            <a:ext cx="4405320" cy="438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Картинка 7 из 264"/>
          <p:cNvPicPr/>
          <p:nvPr/>
        </p:nvPicPr>
        <p:blipFill>
          <a:blip r:embed="rId3"/>
          <a:stretch/>
        </p:blipFill>
        <p:spPr>
          <a:xfrm>
            <a:off x="2771640" y="3573360"/>
            <a:ext cx="326088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>
            <a:hlinkClick r:id="" action="ppaction://hlinkshowjump?jump=endshow"/>
          </p:cNvPr>
          <p:cNvSpPr/>
          <p:nvPr/>
        </p:nvSpPr>
        <p:spPr>
          <a:xfrm>
            <a:off x="8028000" y="476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8621" y="10800"/>
                </a:moveTo>
                <a:lnTo>
                  <a:pt x="8116" y="17806"/>
                </a:lnTo>
                <a:lnTo>
                  <a:pt x="8116" y="3794"/>
                </a:lnTo>
                <a:close/>
              </a:path>
              <a:path fill="darken" w="30244" h="21600">
                <a:moveTo>
                  <a:pt x="20466" y="3794"/>
                </a:moveTo>
                <a:lnTo>
                  <a:pt x="20466" y="17806"/>
                </a:lnTo>
                <a:lnTo>
                  <a:pt x="22129" y="17806"/>
                </a:lnTo>
                <a:lnTo>
                  <a:pt x="22129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ртрет Сергея Дягилева кисти Валентина Сер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90 году приезжает в 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90px-Sergej_Diaghilev_%281872-1929%29_ritratto_da_Valentin_Aleksandrovich_Ser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4618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митрий Владимирович Философ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мать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нна Павловна Философ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урождённая Дягилева, — литератор, видная деятельница женского движения в России, одна из учредительниц высших женских учебных заведений, организатор благотворительных обществ. С. П. Дягилев приходился Философову двоюродным б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Dmitry philosophov bak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557360"/>
            <a:ext cx="3708360" cy="453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24000" y="6165720"/>
            <a:ext cx="41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. Философов. Портерт Л. Ба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оме Философова собирались молодые талантливые люд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6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648180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6165360"/>
            <a:ext cx="15843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0" y="476280"/>
            <a:ext cx="454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танти́н Андре́евич Со́мо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русский живописец и график, мастер портрета и пейзажа, иллюстратор, участник объединения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ир искус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дин из основателей одноименного журнала. Сын искусствоведа и музейного деятеля А.И. Сом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Автопортрет (1898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38894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5805000"/>
            <a:ext cx="23749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вге́ний Евге́ньевич Лансере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— российский худо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н известного скульптора Е. А. Лансере, брат художницы З. Е. Серебряковой, племянник основателя и идеолога объединения «Мир Искусства» А. Н. Бену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Фотограф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378468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5876640"/>
            <a:ext cx="24591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пор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7280" y="333000"/>
            <a:ext cx="4619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́н Никола́евич Бакс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настоящее имя —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йб-Хаим Израилеви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в Самойлович Ро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сский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удож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ценогра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нижный иллюстрат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мастер станковой живописи и театральной графики, один из виднейших деятелей объединения «Мир искусства» и театрально-художественных проектов С. П. Дягил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Фотограф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332100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04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льтер Фёдорович Ну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ятель художественного общества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ир искус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, организатор музыкальных вечеров и других предприятий объединения, историк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1 из 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444636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09:16:21Z</dcterms:created>
  <dc:creator>Admin</dc:creator>
  <dc:description/>
  <dc:language>en-US</dc:language>
  <cp:lastModifiedBy>Лада</cp:lastModifiedBy>
  <dcterms:modified xsi:type="dcterms:W3CDTF">2014-08-31T09:50:40Z</dcterms:modified>
  <cp:revision>12</cp:revision>
  <dc:subject/>
  <dc:title>Слайд 1</dc:title>
</cp:coreProperties>
</file>