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4BF-6C01-46AD-9B11-00C13EC3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F8B-723E-456C-8E78-4D685A19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F71-714C-499D-A975-C04FF1D2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ED4-E8AC-4B82-AE0A-A2170D5D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F46-5B79-4639-80A5-FCBFC25A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975-F55F-423E-A884-6C3C40C2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9BC-F35F-4B39-9A14-DA377B62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2BB-2D4A-4D72-8DEB-4369A946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81F-FBD3-484D-92F2-F18549F3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0C2-F7B2-4169-A1DE-D4D6501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352-C397-46CD-ADA7-0D438C2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DF5-9E1C-405D-93C1-09791FF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2C69-A014-4C56-898A-57D94FD72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– аукцио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дгруппа углерода 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809880" cy="2544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5"/>
          <p:cNvSpPr/>
          <p:nvPr/>
        </p:nvSpPr>
        <p:spPr>
          <a:xfrm>
            <a:off x="1258920" y="5300640"/>
            <a:ext cx="698508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итель биологии-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лилова К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риллиа́нт (от фр. brillant — блестящ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ит, которому посредством обработки придана специальная 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маз, которому посредством обработки придана специальная 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оль, которому посредством обработки придана специальная 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й Дмитриевич Зелинский (25 января (6 февраля) 1861, Тирасполь, Херсонская губерния — 31 июля 1953, Москва) — выдающийся русский и советский химик-орга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643040" y="2071800"/>
            <a:ext cx="50007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ивог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защиты органов дыхания. Основным сорбирующим материалом в нем является активированный уголь, который поверхностью поглащает вещества –адсорбцию. Первый в мире фильтрующий угольный противогаз, изобретенный в Российской империи русским ученым Николаем Дмитриевичем Зелинским в 191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7215120" cy="550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20110329072233"/>
          <p:cNvPicPr/>
          <p:nvPr/>
        </p:nvPicPr>
        <p:blipFill>
          <a:blip r:embed="rId2"/>
          <a:stretch/>
        </p:blipFill>
        <p:spPr>
          <a:xfrm>
            <a:off x="6429240" y="571680"/>
            <a:ext cx="24163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зированная вода - это вода насыщенная газ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рный газ  - 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лекислый газ  -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71600" y="642960"/>
            <a:ext cx="5586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а пищевая  - NaHCO3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6760" y="857160"/>
            <a:ext cx="82868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вор питьевой соды применяется для полоскания горла, для промывания кожи при попадании кислот; пищевая сода применяется для производства в производстве безалкогольных газированных напитков , хлебобулочных  и кондитерских изделий ; питьевая сода входит в состав разрыхлителей теста  (пекарского порошка) для улучшения свойств теста и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714680" y="1000080"/>
            <a:ext cx="6572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рустальное стек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бонат калия, известняк и п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бонат калия, оксид свинца  и п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бонат натрия, известняк и п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ть знания учащихся по теме «Подгруппа углерода и крем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ить интерес к предмету химии, развить положительную мотивацию к дальнейшему ее из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а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аукци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мся предлагаются предметы, которые встречаются в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 оплаты – знани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лагаются на продаж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ьцо с бриллиа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о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ированна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евая с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устальная в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меня состоит все живо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т, антрацит и алмаз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на улице, в школе и в пол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в деревьях и в каждом из в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-алмаз, графит, уго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142640"/>
            <a:ext cx="40384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2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 углерода ( углекислый га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O3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бонат кальция ( мел, мрамор, известня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3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карбонат натрия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а пищевая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2CO3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а кальцинирова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213920"/>
            <a:ext cx="4038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O2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 крем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речной пес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2O*CaO*6SiO2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конное стек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2О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bO*6SiO2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устальное стек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2O3*2SiO2 *2H2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ина ( фаянсовые и фарфоровые издел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00840" y="714240"/>
            <a:ext cx="2643120" cy="15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714240" y="928800"/>
            <a:ext cx="51436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андаши представляют со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мазные стержни в оболочке из древес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мневые стержни в оболочке из древес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итовые стержни в оболочке из древес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7143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6:07:34Z</dcterms:created>
  <dc:creator>AVM</dc:creator>
  <dc:description/>
  <dc:language>en-US</dc:language>
  <cp:lastModifiedBy>ДОМ</cp:lastModifiedBy>
  <dcterms:modified xsi:type="dcterms:W3CDTF">2014-11-05T17:14:18Z</dcterms:modified>
  <cp:revision>31</cp:revision>
  <dc:subject/>
  <dc:title>Урок – КВН «Подгруппа углерода и азота»</dc:title>
</cp:coreProperties>
</file>