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BBA-149E-441A-A405-8DB8AF54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03B-FDDC-4445-A5AD-F2587CFC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326-0B24-4914-B291-4199E688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FF5-CFD1-4E6E-B15B-9375ABB1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79A-708B-48A9-8FD5-7E2757D7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455-8698-4AD5-9F7E-76AF5400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4B2-1509-4A39-9A37-3E5DB228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CAD-6069-46EE-810A-9417931B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F5E-ED1B-4901-A07F-88177584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10D-E191-4A38-87C5-B33AF259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C69-6BD0-42FF-85C1-CF1152D6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B2B-C0A0-4790-898B-E46F38B0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6A14-EF75-425E-8EA1-F3D436805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Автоматизация звука л в словах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часть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9560" y="380880"/>
            <a:ext cx="5924880" cy="6096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ё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78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втор презентации: </a:t>
            </a:r>
            <a:br>
              <a:rPr sz="2400"/>
            </a:b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учитель – логопед </a:t>
            </a:r>
            <a:br>
              <a:rPr sz="2400"/>
            </a:b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МАДОУ «Детский сад № 85» г. Перми  </a:t>
            </a:r>
            <a:br>
              <a:rPr sz="2400"/>
            </a:b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И. Л. Чир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05720" y="617220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8610480" cy="7999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14800" y="304920"/>
            <a:ext cx="5181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1828800"/>
            <a:ext cx="16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4724280"/>
            <a:ext cx="457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51814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638680"/>
            <a:ext cx="86104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495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39080" y="4800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31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1062000"/>
            <a:ext cx="5905440" cy="473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5695920" cy="4600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0417400">
            <a:off x="4952520" y="609480"/>
            <a:ext cx="327672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831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658120" cy="7543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295800" cy="434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04920" cy="228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18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1042920"/>
            <a:ext cx="6096240" cy="477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зё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93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а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1-05T10:30:0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