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98C-5AD7-4146-A863-E37A56D9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2430-FD8A-46F3-A1CF-5C5D7D5C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5B6-930C-4F5C-A634-03FE8998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589-00EC-4016-84A4-DAA43BA0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D888-53ED-4799-BC60-17B6744C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B61F-4C8C-46C7-9191-59B9CF0F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8D0B-FD76-4D37-9422-D9B64DBE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B509-F7B7-41FE-911A-C42ADBAF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E9E7-1E5C-485E-B0D8-76274E11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2B7D-A15F-441A-8257-CAB4069F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6A9B-B820-4842-A322-F9AB03AC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231-522A-490F-B694-0219703C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BCB9-7002-4B72-B433-C24BFDDD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0405-A7E1-4018-8D16-CCFB9A93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D5CB-479C-4CF4-A3F2-98C7241E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4400-F722-4455-9940-A6D66276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80BE-AB05-4C71-AA45-D95DAAD7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3A629-AFE9-40FE-BA60-982796B2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17E0A-466F-4C68-BFD7-FDCDA346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1ED9F-67B8-415C-B949-DD89EA26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FC04A-0D20-43CE-82DF-0CE4A8CC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59207-4004-4E3D-A6C0-66CED237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3AB-F715-47DB-922A-D6F8FE74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5A1D5-F8AD-41D3-9D6E-300FBD5B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8CE5F-51DC-4DEA-8AAD-F52B2F53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269B7-84CC-4CEE-936C-59A088AC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DFA98-86A1-4668-8CD0-CEB82E36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6E59C-EA3F-40CC-8EBD-F392C4CD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5C088-7512-4BDF-B552-7E846F5E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95901-3525-4FDB-AAED-1AA259F0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9E41A-0A26-4ED8-9CAE-BC74E5E8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EAC8A-49C1-4A2C-81DF-3DFBE7B1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DA977-3303-4849-87DF-3A359833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656-6026-474B-8BA2-21DA89A3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9499A-1A67-40D7-9DA8-EA91A4B2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10FAD-9524-45EA-A1C6-DA67F7CE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06ED0-2FE1-4C30-8574-628D6AE0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FC435-0A91-4AF4-96DF-3D3E100B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AC19D-CFC4-4E23-9E05-154D1ECA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2A660-FDD2-451F-9B89-77144067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94872-7F6E-4895-8263-99B0D7AB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0A62A-BFBA-4FBF-A567-08F1BC7B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A039C-6D63-4570-A809-94FF36DB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E6CD4-B3D8-4823-A654-13F8DC33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A926-7220-44C3-98BF-0E82CBA1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22DC3-BB3E-4209-A934-66A629D5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0C25A-8FC4-43B1-9C95-2B67D5B0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60B6B-1FC7-4F1F-8D4A-9882923A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D69F9-B62A-4C1A-8880-6AF16718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1EAF1-F7C1-43D4-9271-F7287D43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420C0-438F-4606-BDFA-171CC544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E16D7A-1C8F-4610-80F4-BA024DB9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32949-49A9-4CBE-99E8-C9FA76D8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88A92-120E-491A-9FFC-5EFC1386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83C8AC-ED36-48CD-A793-94C8B2EF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D10-84C1-4905-BCEC-FFB63689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62CBD-C71E-47C8-8E7B-C2CE3F8C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E819E-B66A-49DC-814A-133BF064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B249A8-B91C-4EFA-8FD2-B7BD30BC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BB962-6B66-4615-B419-98C37C07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02B94-252B-4FF6-B201-E40758C0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5284AF-85CD-42AF-83C2-22E2D2F7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9818CD-23B0-43D9-ADE1-128CD725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457BB-B401-448E-AE4E-27830AED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7310A-24B3-4262-A1EC-22DC1D8F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52E1C-598D-4C88-85BD-162654DC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11E-49E7-4487-BC23-BCE788CF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BD1BF-ECF4-41C2-B837-5458A134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7EE32C-8134-4EDA-A641-A63662A5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652F2A-9D37-4C31-9EFD-34C50B5B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0C98D-1CDE-453C-A08B-9145701C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18D695-4267-486F-BB3A-B0102B84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332DA5-B097-44A1-BC30-28711332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FD5C0C-0A55-41D7-82D6-12562A5F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A196C0-40B1-4D56-A2DF-FD54809D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3577AF-A04D-49FB-B145-32864936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E55EA-5BA9-4035-AA62-EF1D54F4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B41-7468-4854-9F94-E6124F09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E03FFF-F590-482B-8570-CB055382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504A26-DB55-4B0D-AC2E-C4CD0EF5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B6F3B7-DC76-4DB3-99DC-84A77882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DB6D30-C488-4BB4-AF2C-F249BBC5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33A97-57E5-4D3B-BE6B-2CC01741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A92-3260-460C-A76E-AA09922D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C4B1-61AB-4533-8C78-76E713C2F0B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56FF-DE04-4A3B-A842-FCD2B396DF0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5A6D-6D6C-4D66-8DFB-AC598268FA7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A1CF-197B-497E-8C57-8761113B319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057E-991A-4C83-BABE-503E578D139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AD50-9660-4409-AAB7-A6A3CCEF080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288C-0805-4702-B97C-5B2240E832B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60104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68c4"/>
                </a:solidFill>
                <a:latin typeface="Century Schoolbook"/>
              </a:rPr>
              <a:t>УРОК РУССКОГО ЯЗЫКА</a:t>
            </a:r>
            <a:br>
              <a:rPr sz="4000"/>
            </a:br>
            <a:r>
              <a:rPr b="1" lang="ru-RU" sz="4000" spc="-1" strike="noStrike">
                <a:solidFill>
                  <a:srgbClr val="3668c4"/>
                </a:solidFill>
                <a:latin typeface="Century Schoolbook"/>
              </a:rPr>
              <a:t>ТЕМА « ГЛАГОЛ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Ташкинова Наталья Николаевна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ОУ «Сош №9», г. Печора, Республика Ком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ОМАШНЯЯ РАБОТА – УПР.50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2" descr="C:\Documents and Settings\FaNtoM\Рабочий стол\Картинки\Детские рамки\5.jpg"/>
          <p:cNvPicPr/>
          <p:nvPr/>
        </p:nvPicPr>
        <p:blipFill>
          <a:blip r:embed="rId1"/>
          <a:stretch/>
        </p:blipFill>
        <p:spPr>
          <a:xfrm>
            <a:off x="357120" y="2643120"/>
            <a:ext cx="52866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668c4"/>
                </a:solidFill>
                <a:uFillTx/>
                <a:latin typeface="Century Schoolbook"/>
              </a:rPr>
              <a:t>МИНУТКА ЧИСТОПИСАНИЯ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. правило посадк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2. наклон, высота, ширина бук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68c4"/>
                </a:solidFill>
                <a:latin typeface="Century Schoolbook"/>
              </a:rPr>
              <a:t>СЛОВАРНАЯ РАБОТА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Жнуи –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Луциа –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Уйжора –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Укчине –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Тьуелчи -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285480"/>
            <a:ext cx="7972560" cy="6188040"/>
          </a:xfrm>
          <a:prstGeom prst="rect">
            <a:avLst/>
          </a:prstGeom>
          <a:solidFill>
            <a:srgbClr val="c8d6f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583"/>
                </a:solidFill>
                <a:latin typeface="Century Schoolbook"/>
              </a:rPr>
              <a:t>Какую часть речи мы изучаем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583"/>
                </a:solidFill>
                <a:latin typeface="Century Schoolbook"/>
              </a:rPr>
              <a:t>Какие основные признаки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583"/>
                </a:solidFill>
                <a:latin typeface="Century Schoolbook"/>
              </a:rPr>
              <a:t>Изменяется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285480"/>
            <a:ext cx="8115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рещит, скрипит, воет, подбежал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2. Встречал, визжит, поскрипывает, дует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3. Прочитает, запишет, нарисует, удивил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 rot="20640000">
            <a:off x="1463400" y="2001600"/>
            <a:ext cx="6966000" cy="141444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Работа в парах!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ТВОРЧЕСКАЯ РАБОТА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785600"/>
            <a:ext cx="825804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«Весна»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Наступила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Заиграло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Зазвенели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Составить текст из 3-4 предложений , используя данные слова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ТЕМА УРОКА: « ……………………….»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«Делу время, потехе – час»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«Время – не птица, за хвост не поймаешь»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«Всему своё время»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РАБОТА ПО УЧЕБНИКУ:</a:t>
            </a:r>
            <a:br>
              <a:rPr sz="36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1. СТР.109, ПРАВИЛО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2. УПРАЖНЕНИЕ 50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2" descr="C:\Documents and Settings\FaNtoM\Рабочий стол\Картинки\Учебники\рус.jpeg"/>
          <p:cNvPicPr/>
          <p:nvPr/>
        </p:nvPicPr>
        <p:blipFill>
          <a:blip r:embed="rId1"/>
          <a:stretch/>
        </p:blipFill>
        <p:spPr>
          <a:xfrm>
            <a:off x="1285920" y="2428920"/>
            <a:ext cx="22860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7T18:53:38Z</dcterms:created>
  <dc:creator>Наталья</dc:creator>
  <dc:description/>
  <dc:language>en-US</dc:language>
  <cp:lastModifiedBy>Наталья</cp:lastModifiedBy>
  <dcterms:modified xsi:type="dcterms:W3CDTF">2014-11-06T20:23:53Z</dcterms:modified>
  <cp:revision>4</cp:revision>
  <dc:subject/>
  <dc:title>Двадцать восьмое апреля. Классная работа.</dc:title>
</cp:coreProperties>
</file>