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6B1-4155-4272-8956-B569DEAB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71A-6D99-4AD1-95BE-1E7A2FE3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64B-9E87-47F6-8AEC-7CF7BBA4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755-43E9-4BCB-A7AD-914818A8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A9C4-5AF0-4818-B18C-7BBEFC04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8EC9-CD13-4F94-9523-E3640126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D756-8A1E-47F0-8504-7EC4DF27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2F63-C4E0-484A-8969-2791CAA8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108F-EEC5-4B2A-98CC-1ECAAEED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41F1-3E2D-47AD-BB44-F2F697AC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3B5F-D7A8-4DE7-9B36-B282A851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EE76-0159-4D81-8F5D-090C42B5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72C3-B546-4D3B-B899-A56A9746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DCCF-08C1-49B6-A76F-69EA6231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CA40-BAF0-40DF-A24C-FAD81B6E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540A-5B37-431B-8FE7-7297A56E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07E1-18D4-4230-8B6B-26D95E62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971D0-8603-465F-B4E1-06C003E9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44E11-36EA-4C80-A5B6-E1BC1A3D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69EDA-6586-44E9-9A19-CFD33AF5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4D56B-24CF-4118-B92F-2F82DE81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2DFDF-8802-4B46-A1AD-48416C32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9B6-67D9-4824-9FC1-1C2887C2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71A65-3D86-43E9-B6E4-9F8EA1C9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58E96-1EF9-4F20-A75D-5FAB21A0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F6F6-31DB-4649-83D9-951D0E5C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ED996-DC22-4731-ADFD-6DD3D85E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8EF3B-F6E0-4784-AC35-F0EA47D6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F625C-AB69-4A5F-9D48-F0514FB0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66A00-4B0D-49CC-ABDE-0C84245F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B3496-B50F-4DFD-84A6-008B7E9B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24020-F8F4-4504-80B1-BA50AF1E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443FF-57FA-424E-9C61-7B68AD77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82D-13FA-4DA1-86E0-217E9DB7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C2D04-BFAD-4A0F-9D28-3360575A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94A03-3948-4F88-A54A-4C59D83F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E1294-FA3F-48FF-AAA0-9E57F833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5DABA-843E-434A-8E5C-B9D8B446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A8EFC-1DD1-439B-990F-A0E55816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4398A-8A60-45EE-B554-7E995290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423CC-C5EE-4B4D-9735-953BD60B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D70B0-B182-4A29-BE34-E56966DD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B64B1-4B10-451F-A8F0-6087BBD2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9D7-304E-4EB5-8546-BA3B6D91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A0C-CC72-44CD-A6B9-ECBD217F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DF3-01FB-4C63-9C52-C7FA24AD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F84-76C8-4A6C-9940-47FAB910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EBD-0B2E-4223-83C2-C8C3843D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F56D-44D8-4D76-A83C-7F71ACCED39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5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6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7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0319-CFCE-4319-869B-75DC107415E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5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7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3608-4B02-4E71-9D4E-783FCA89EE2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5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6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7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CF36-591A-4586-8534-C609753B845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811080" y="225360"/>
            <a:ext cx="7412040" cy="4707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72760" y="5052600"/>
            <a:ext cx="681372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7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дж в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ö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ысь: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7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хорошева Эльза, 4б класса вел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ö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чысь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7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4 вося йирым т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ö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ысь.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811080" y="291960"/>
            <a:ext cx="7186680" cy="22132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785520" y="2214720"/>
            <a:ext cx="735804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8" name="Picture 3" descr="C:\Users\1Б 2011\Desktop\DCIM\100PHOTO\SAM_0233.JPG"/>
          <p:cNvPicPr/>
          <p:nvPr/>
        </p:nvPicPr>
        <p:blipFill>
          <a:blip r:embed="rId2"/>
          <a:stretch/>
        </p:blipFill>
        <p:spPr>
          <a:xfrm>
            <a:off x="428760" y="2214720"/>
            <a:ext cx="84294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1142640" y="731880"/>
            <a:ext cx="72867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11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- Менам Рöдина – Россия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spcBef>
                <a:spcPts val="11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- Ме чужи Коми республикаын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spcBef>
                <a:spcPts val="11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- Менам чужан му – коми му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spcBef>
                <a:spcPts val="11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- Ме радейта ас му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11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3" descr=""/>
          <p:cNvPicPr/>
          <p:nvPr/>
        </p:nvPicPr>
        <p:blipFill>
          <a:blip r:embed="rId1"/>
          <a:stretch/>
        </p:blipFill>
        <p:spPr>
          <a:xfrm>
            <a:off x="712800" y="353880"/>
            <a:ext cx="3780000" cy="7923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71680" y="1500120"/>
            <a:ext cx="38923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Эм войвылын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Медмича, меддона м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Сэн ключ ваысь с</a:t>
            </a:r>
            <a:r>
              <a:rPr b="1" lang="en-US" sz="2400" spc="-1" strike="noStrike">
                <a:solidFill>
                  <a:srgbClr val="404040"/>
                </a:solidFill>
                <a:latin typeface="Arial Rounded MT Bold"/>
                <a:ea typeface="Times New Roman"/>
              </a:rPr>
              <a:t>ȍ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</a:t>
            </a:r>
            <a:r>
              <a:rPr b="1" lang="en-US" sz="2400" spc="-1" strike="noStrike">
                <a:solidFill>
                  <a:srgbClr val="404040"/>
                </a:solidFill>
                <a:latin typeface="Arial Rounded MT Bold"/>
                <a:ea typeface="Times New Roman"/>
              </a:rPr>
              <a:t>ȍ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джы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ывт</a:t>
            </a:r>
            <a:r>
              <a:rPr b="1" lang="en-US" sz="2400" spc="-1" strike="noStrike">
                <a:solidFill>
                  <a:srgbClr val="404040"/>
                </a:solidFill>
                <a:latin typeface="Arial Rounded MT Bold"/>
                <a:ea typeface="Times New Roman"/>
              </a:rPr>
              <a:t>ȍ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быд 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 пармаыс кыпал</a:t>
            </a:r>
            <a:r>
              <a:rPr b="1" lang="en-US" sz="2400" spc="-1" strike="noStrike">
                <a:solidFill>
                  <a:srgbClr val="404040"/>
                </a:solidFill>
                <a:latin typeface="Arial Rounded MT Bold"/>
                <a:ea typeface="Times New Roman"/>
              </a:rPr>
              <a:t>ȍ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ыр </a:t>
            </a:r>
            <a:r>
              <a:rPr b="1" lang="en-US" sz="2400" spc="-1" strike="noStrike">
                <a:solidFill>
                  <a:srgbClr val="404040"/>
                </a:solidFill>
                <a:latin typeface="Arial Rounded MT Bold"/>
                <a:ea typeface="Times New Roman"/>
              </a:rPr>
              <a:t>ȍ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кодь веж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некутш</a:t>
            </a:r>
            <a:r>
              <a:rPr b="1" lang="en-US" sz="2400" spc="-1" strike="noStrike">
                <a:solidFill>
                  <a:srgbClr val="404040"/>
                </a:solidFill>
                <a:latin typeface="Arial Rounded MT Bold"/>
                <a:ea typeface="Times New Roman"/>
              </a:rPr>
              <a:t>ȍ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 мич выл</a:t>
            </a:r>
            <a:r>
              <a:rPr b="1" lang="en-US" sz="2400" spc="-1" strike="noStrike">
                <a:solidFill>
                  <a:srgbClr val="404040"/>
                </a:solidFill>
                <a:latin typeface="Arial Rounded MT Bold"/>
                <a:ea typeface="Times New Roman"/>
              </a:rPr>
              <a:t>ȍ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</a:t>
            </a:r>
            <a:r>
              <a:rPr b="1" lang="en-US" sz="2400" spc="-1" strike="noStrike">
                <a:solidFill>
                  <a:srgbClr val="404040"/>
                </a:solidFill>
                <a:latin typeface="Arial Rounded MT Bold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й</a:t>
            </a:r>
            <a:r>
              <a:rPr b="1" lang="en-US" sz="2400" spc="-1" strike="noStrike">
                <a:solidFill>
                  <a:srgbClr val="404040"/>
                </a:solidFill>
                <a:latin typeface="Arial Rounded MT Bold"/>
                <a:ea typeface="Times New Roman"/>
              </a:rPr>
              <a:t>ȍ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он веж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4" descr="E:\Users\Kassel\Desktop\РК\4.jpg"/>
          <p:cNvPicPr/>
          <p:nvPr/>
        </p:nvPicPr>
        <p:blipFill>
          <a:blip r:embed="rId2"/>
          <a:stretch/>
        </p:blipFill>
        <p:spPr>
          <a:xfrm>
            <a:off x="4594320" y="357120"/>
            <a:ext cx="42638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85880" y="1928880"/>
            <a:ext cx="77868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Ас муад кутш</a:t>
            </a:r>
            <a:r>
              <a:rPr b="0" lang="en-US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ȍ</a:t>
            </a:r>
            <a:r>
              <a:rPr b="0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м </a:t>
            </a:r>
            <a:r>
              <a:rPr b="0" lang="en-US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ȍ</a:t>
            </a:r>
            <a:r>
              <a:rPr b="0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дз</a:t>
            </a:r>
            <a:r>
              <a:rPr b="0" lang="en-US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ȍ</a:t>
            </a:r>
            <a:r>
              <a:rPr b="0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ȍ</a:t>
            </a:r>
            <a:r>
              <a:rPr b="0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тарк</a:t>
            </a:r>
            <a:r>
              <a:rPr b="0" lang="en-US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ȍ</a:t>
            </a:r>
            <a:r>
              <a:rPr b="0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дчан,с</a:t>
            </a:r>
            <a:r>
              <a:rPr b="0" lang="en-US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й</a:t>
            </a:r>
            <a:r>
              <a:rPr b="0" lang="en-US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ȍ</a:t>
            </a:r>
            <a:r>
              <a:rPr b="0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и воссяс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Ас муыд мам, а й</a:t>
            </a:r>
            <a:r>
              <a:rPr b="0" lang="en-US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ȍ</a:t>
            </a:r>
            <a:r>
              <a:rPr b="0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з муыд – ск</a:t>
            </a:r>
            <a:r>
              <a:rPr b="0" lang="en-US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ȍ</a:t>
            </a:r>
            <a:r>
              <a:rPr b="0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р ичмонь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Чужан позйыд быд</a:t>
            </a:r>
            <a:r>
              <a:rPr b="0" lang="en-US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ȍ</a:t>
            </a:r>
            <a:r>
              <a:rPr b="0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лы дон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Быд п</a:t>
            </a:r>
            <a:r>
              <a:rPr b="0" lang="en-US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ȍ</a:t>
            </a:r>
            <a:r>
              <a:rPr b="0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тка локт</a:t>
            </a:r>
            <a:r>
              <a:rPr b="0" lang="en-US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ȍ</a:t>
            </a:r>
            <a:r>
              <a:rPr b="0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аслас позй</a:t>
            </a:r>
            <a:r>
              <a:rPr b="0" lang="en-US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ȍ</a:t>
            </a:r>
            <a:r>
              <a:rPr b="0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4" name="Заголовок 4" descr=""/>
          <p:cNvPicPr/>
          <p:nvPr/>
        </p:nvPicPr>
        <p:blipFill>
          <a:blip r:embed="rId1"/>
          <a:stretch/>
        </p:blipFill>
        <p:spPr>
          <a:xfrm>
            <a:off x="566640" y="444600"/>
            <a:ext cx="81565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3" descr=""/>
          <p:cNvPicPr/>
          <p:nvPr/>
        </p:nvPicPr>
        <p:blipFill>
          <a:blip r:embed="rId1"/>
          <a:stretch/>
        </p:blipFill>
        <p:spPr>
          <a:xfrm>
            <a:off x="920880" y="420840"/>
            <a:ext cx="7546680" cy="58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3:29:09Z</dcterms:created>
  <dc:creator>Екатерина</dc:creator>
  <dc:description/>
  <dc:language>en-US</dc:language>
  <cp:lastModifiedBy>1Б 2011</cp:lastModifiedBy>
  <dcterms:modified xsi:type="dcterms:W3CDTF">2014-11-06T10:43:48Z</dcterms:modified>
  <cp:revision>78</cp:revision>
  <dc:subject/>
  <dc:title>Путешествие капельки</dc:title>
</cp:coreProperties>
</file>