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6.jpeg" ContentType="image/jpeg"/>
  <Override PartName="/ppt/media/image23.jpeg" ContentType="image/jpeg"/>
  <Override PartName="/ppt/media/image27.gif" ContentType="image/gif"/>
  <Override PartName="/ppt/media/image28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7.jpeg" ContentType="image/jpeg"/>
  <Override PartName="/ppt/media/image16.gif" ContentType="image/gif"/>
  <Override PartName="/ppt/media/image24.jpeg" ContentType="image/jpeg"/>
  <Override PartName="/ppt/media/image15.png" ContentType="image/png"/>
  <Override PartName="/ppt/media/image1.gif" ContentType="image/gif"/>
  <Override PartName="/ppt/media/image11.jpeg" ContentType="image/jpeg"/>
  <Override PartName="/ppt/media/image31.gif" ContentType="image/gif"/>
  <Override PartName="/ppt/media/image30.jpeg" ContentType="image/jpeg"/>
  <Override PartName="/ppt/media/image32.jpeg" ContentType="image/jpeg"/>
  <Override PartName="/ppt/media/image33.jpeg" ContentType="image/jpeg"/>
  <Override PartName="/ppt/media/image35.png" ContentType="image/png"/>
  <Override PartName="/ppt/media/image43.jpeg" ContentType="image/jpeg"/>
  <Override PartName="/ppt/media/image41.png" ContentType="image/png"/>
  <Override PartName="/ppt/media/image44.jpeg" ContentType="image/jpeg"/>
  <Override PartName="/ppt/media/image7.jpeg" ContentType="image/jpeg"/>
  <Override PartName="/ppt/media/image5.gif" ContentType="image/gif"/>
  <Override PartName="/ppt/media/image38.jpeg" ContentType="image/jpeg"/>
  <Override PartName="/ppt/media/image46.png" ContentType="image/png"/>
  <Override PartName="/ppt/media/image45.jpeg" ContentType="image/jpeg"/>
  <Override PartName="/ppt/media/image9.gif" ContentType="image/gif"/>
  <Override PartName="/ppt/media/image39.gif" ContentType="image/gif"/>
  <Override PartName="/ppt/media/image47.png" ContentType="image/png"/>
  <Override PartName="/ppt/media/image37.png" ContentType="image/png"/>
  <Override PartName="/ppt/media/image34.jpeg" ContentType="image/jpeg"/>
  <Override PartName="/ppt/media/image48.png" ContentType="image/png"/>
  <Override PartName="/ppt/media/image10.gif" ContentType="image/gif"/>
  <Override PartName="/ppt/media/image12.jpeg" ContentType="image/jpeg"/>
  <Override PartName="/ppt/media/image40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14.jpeg" ContentType="image/jpeg"/>
  <Override PartName="/ppt/media/image8.gif" ContentType="image/gif"/>
  <Override PartName="/ppt/media/image4.jpeg" ContentType="image/jpeg"/>
  <Override PartName="/ppt/media/image25.jpeg" ContentType="image/jpeg"/>
  <Override PartName="/ppt/media/image3.gif" ContentType="image/gif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5712-F79C-4A21-AFFE-DB655F5F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D38-7B61-4C35-A4FA-208CC10E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A25-BE6F-46BA-8737-BE3443B0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1EB-E9D3-4A68-A59B-1753BAD7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05A-7D59-410C-A8BD-FA8E03DF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33E-5593-4803-921E-C7F62F10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2EF-28FE-4EE4-87A9-99C2CC16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609-8161-4E9D-A6AC-A1B07B0A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5773-0957-45DA-8DC1-DC031990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807-7856-4059-B63E-458E3FD0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3225-3571-4983-9AF5-3EDD68FB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5B0-4095-42D3-AC0C-37612BED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8e8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0000"/>
                  </a:solidFill>
                  <a:latin typeface="Garamon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8e8b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0000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a7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00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00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b3"/>
                  </a:gs>
                  <a:gs pos="100000">
                    <a:srgbClr val="ff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0000"/>
                  </a:solidFill>
                  <a:latin typeface="Garamond"/>
                </a:endParaRPr>
              </a:p>
            </p:txBody>
          </p:sp>
        </p:grpSp>
        <p:sp>
          <p:nvSpPr>
            <p:cNvPr id="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ad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eb15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0000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F3D6-A010-412A-8178-1635ED497E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kenobo.narod.ru/g_shoka.htm" TargetMode="External"/><Relationship Id="rId2" Type="http://schemas.openxmlformats.org/officeDocument/2006/relationships/image" Target="../media/image38.jpeg"/><Relationship Id="rId3" Type="http://schemas.openxmlformats.org/officeDocument/2006/relationships/image" Target="../media/image9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0.gif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kenobo.narod.ru/g_nag_mor.htm" TargetMode="External"/><Relationship Id="rId2" Type="http://schemas.openxmlformats.org/officeDocument/2006/relationships/image" Target="../media/image42.jpeg"/><Relationship Id="rId3" Type="http://schemas.openxmlformats.org/officeDocument/2006/relationships/hyperlink" Target="http://ikenobo.narod.ru/g_nag_mor.htm" TargetMode="External"/><Relationship Id="rId4" Type="http://schemas.openxmlformats.org/officeDocument/2006/relationships/image" Target="../media/image43.jpeg"/><Relationship Id="rId5" Type="http://schemas.openxmlformats.org/officeDocument/2006/relationships/image" Target="../media/image1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kenobo.narod.ru/g_free.htm" TargetMode="External"/><Relationship Id="rId2" Type="http://schemas.openxmlformats.org/officeDocument/2006/relationships/image" Target="../media/image44.jpeg"/><Relationship Id="rId3" Type="http://schemas.openxmlformats.org/officeDocument/2006/relationships/image" Target="../media/image18.gif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gif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7"/>
          <p:cNvSpPr txBox="1"/>
          <p:nvPr/>
        </p:nvSpPr>
        <p:spPr>
          <a:xfrm rot="358800">
            <a:off x="2626920" y="333000"/>
            <a:ext cx="6175440" cy="47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680000"/>
                </a:gradFill>
                <a:latin typeface="Impact"/>
              </a:rPr>
              <a:t>"Один цветок лучше, чем сто,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68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680000"/>
                </a:gradFill>
                <a:latin typeface="Impact"/>
              </a:rPr>
              <a:t>дает почувствовать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68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680000"/>
                </a:gradFill>
                <a:latin typeface="Impact"/>
              </a:rPr>
              <a:t>цветочность цветка."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68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680000"/>
                </a:gradFill>
                <a:latin typeface="Impact"/>
              </a:rPr>
              <a:t>( Касабата Ясунари 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680000"/>
              </a:gradFill>
              <a:latin typeface="Impact"/>
              <a:ea typeface="Impact"/>
            </a:endParaRPr>
          </a:p>
        </p:txBody>
      </p:sp>
      <p:pic>
        <p:nvPicPr>
          <p:cNvPr id="51" name="Picture 8" descr="e801a7b4b63c3ce0e9c0d6d1b34c5b7e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878440" y="3787920"/>
            <a:ext cx="1141560" cy="93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880c37497f4942a794b88501e0ee52f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148360" y="5300640"/>
            <a:ext cx="847800" cy="762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4abaec2b3e1a2f4fb748f456ab988db2"/>
          <p:cNvPicPr/>
          <p:nvPr/>
        </p:nvPicPr>
        <p:blipFill>
          <a:blip r:embed="rId3"/>
          <a:stretch/>
        </p:blipFill>
        <p:spPr>
          <a:xfrm>
            <a:off x="1979640" y="47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46"/>
          <p:cNvPicPr/>
          <p:nvPr/>
        </p:nvPicPr>
        <p:blipFill>
          <a:blip r:embed="rId4"/>
          <a:stretch/>
        </p:blipFill>
        <p:spPr>
          <a:xfrm>
            <a:off x="250920" y="1413000"/>
            <a:ext cx="2975040" cy="486864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55" name="Picture 12" descr="5b2e2c7233dd4cde26d807ccd8485fac"/>
          <p:cNvPicPr/>
          <p:nvPr/>
        </p:nvPicPr>
        <p:blipFill>
          <a:blip r:embed="rId5"/>
          <a:stretch/>
        </p:blipFill>
        <p:spPr>
          <a:xfrm>
            <a:off x="4137120" y="4137120"/>
            <a:ext cx="1057320" cy="54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5b2e2c7233dd4cde26d807ccd8485fac"/>
          <p:cNvPicPr/>
          <p:nvPr/>
        </p:nvPicPr>
        <p:blipFill>
          <a:blip r:embed="rId6">
            <a:lum bright="18000"/>
          </a:blip>
          <a:stretch/>
        </p:blipFill>
        <p:spPr>
          <a:xfrm rot="6342000">
            <a:off x="7146720" y="5398560"/>
            <a:ext cx="1417320" cy="729000"/>
          </a:xfrm>
          <a:prstGeom prst="rect">
            <a:avLst/>
          </a:prstGeom>
          <a:ln w="0">
            <a:noFill/>
          </a:ln>
        </p:spPr>
      </p:pic>
      <p:pic>
        <p:nvPicPr>
          <p:cNvPr id="57" name="zяпон музык.wav" descr=""/>
          <p:cNvPicPr/>
          <p:nvPr/>
        </p:nvPicPr>
        <p:blipFill>
          <a:blip r:embed="rId7"/>
          <a:stretch/>
        </p:blipFill>
        <p:spPr>
          <a:xfrm>
            <a:off x="0" y="-10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5219640" y="4724280"/>
            <a:ext cx="3673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Выполнила Варёнова Алёна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Учащаяся 8 А класса</a:t>
            </a:r>
            <a:endParaRPr b="0" lang="en-US" sz="2000" spc="-1" strike="noStrike">
              <a:solidFill>
                <a:srgbClr val="ff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8772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Подбор материал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28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Для составления букета    годится практически все: цветы и плоды, корни и   ветки, кора и камни, бусинки , … Именно продуманное сочетание цвета и материалов позволит вам придать букету то или иное наст- роение, и он вдруг напом нит о давней встрече, о забытых клятвах, о прох- ладе летнего дождя.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тттла"/>
          <p:cNvPicPr/>
          <p:nvPr/>
        </p:nvPicPr>
        <p:blipFill>
          <a:blip r:embed="rId1"/>
          <a:stretch/>
        </p:blipFill>
        <p:spPr>
          <a:xfrm>
            <a:off x="4572000" y="1268280"/>
            <a:ext cx="4092480" cy="4550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Выбираем вазу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ыбор подставки- это завершающая стадия компо- зиции. Он должен гармонировать с букетом и не на-  рушать цветовой гаммы, пропорции и силуэта всей компози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Японцы мастера  утверждают, что стебель основной ветки должен быть в пол-                                                    тора раза выше вазы, в ко-                                                  торой стоит ваша компози-                                                  ция.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9" name="Picture 4" descr="ттт"/>
          <p:cNvPicPr/>
          <p:nvPr/>
        </p:nvPicPr>
        <p:blipFill>
          <a:blip r:embed="rId1"/>
          <a:stretch/>
        </p:blipFill>
        <p:spPr>
          <a:xfrm>
            <a:off x="5076720" y="3429000"/>
            <a:ext cx="3780000" cy="3166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24"/>
          <p:cNvPicPr/>
          <p:nvPr/>
        </p:nvPicPr>
        <p:blipFill>
          <a:blip r:embed="rId1"/>
          <a:stretch/>
        </p:blipFill>
        <p:spPr>
          <a:xfrm>
            <a:off x="250920" y="333360"/>
            <a:ext cx="2520720" cy="604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1" name="Picture 5" descr="25"/>
          <p:cNvPicPr/>
          <p:nvPr/>
        </p:nvPicPr>
        <p:blipFill>
          <a:blip r:embed="rId2"/>
          <a:stretch/>
        </p:blipFill>
        <p:spPr>
          <a:xfrm>
            <a:off x="5580000" y="404640"/>
            <a:ext cx="3527640" cy="583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Rectangle 6"/>
          <p:cNvSpPr/>
          <p:nvPr/>
        </p:nvSpPr>
        <p:spPr>
          <a:xfrm>
            <a:off x="2987640" y="-12240"/>
            <a:ext cx="295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Поставьте любой цветок в любую   вазу и у вас получится некая форма.</a:t>
            </a:r>
            <a:endParaRPr b="0" lang="en-US" sz="32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03" name="Picture 7" descr="ko-3"/>
          <p:cNvPicPr/>
          <p:nvPr/>
        </p:nvPicPr>
        <p:blipFill>
          <a:blip r:embed="rId3"/>
          <a:stretch/>
        </p:blipFill>
        <p:spPr>
          <a:xfrm>
            <a:off x="2987640" y="4149720"/>
            <a:ext cx="3024360" cy="223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Принцип икеба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697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7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Основа всякой композиции– три ветки или три цветка. Первая ветка, самая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длинная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, символизирует небо. Вторая. Средняя по величине. Человека, а третья, самая маленькая, - Землю. Это- скелет буке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К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основным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веткам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  по мере надобности добавляю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вспомогательные цветы или ветки. Их называю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«помощники», с их помощью усиливают основные элементы буке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СЕКРЕТ ЯПОНСКОГО БУКЕТА в том, чт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дли на основных веток не только различна, но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строго  определена. Величина первой зависит от размер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4" descr="65ea23e58b18361dab73dc361285dac1"/>
          <p:cNvPicPr/>
          <p:nvPr/>
        </p:nvPicPr>
        <p:blipFill>
          <a:blip r:embed="rId1"/>
          <a:stretch/>
        </p:blipFill>
        <p:spPr>
          <a:xfrm>
            <a:off x="7621560" y="3141720"/>
            <a:ext cx="15224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Garamond"/>
              </a:rPr>
              <a:t>Вазы , в  которой собирается композиция из цветов. Вторая  ветка всегда на четверть короче первой, а третья ветка всегда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Garamond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Garamond"/>
              </a:rPr>
              <a:t>на четверть короче второй. «Помощники» всегда короче</a:t>
            </a:r>
            <a:r>
              <a:rPr b="0" lang="ru-RU" sz="4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Garamond"/>
              </a:rPr>
              <a:t>веток, к которым они ставятся. Можно добавлять любое количество «помощников» к любой основной ветке, к одной из них, к  двум либо ко всем трем веткам. Главное. чтобы было красиво и радо-вало  глаз  гостя, приглашенного  в дом.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4" descr="541f1556eb46d1be4056a74ee7d2d5a1"/>
          <p:cNvPicPr/>
          <p:nvPr/>
        </p:nvPicPr>
        <p:blipFill>
          <a:blip r:embed="rId1"/>
          <a:stretch/>
        </p:blipFill>
        <p:spPr>
          <a:xfrm>
            <a:off x="7956720" y="981000"/>
            <a:ext cx="1187280" cy="1076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880c37497f4942a794b88501e0ee52f1"/>
          <p:cNvPicPr/>
          <p:nvPr/>
        </p:nvPicPr>
        <p:blipFill>
          <a:blip r:embed="rId2"/>
          <a:stretch/>
        </p:blipFill>
        <p:spPr>
          <a:xfrm>
            <a:off x="6012000" y="5549760"/>
            <a:ext cx="1455480" cy="1308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880c37497f4942a794b88501e0ee52f1"/>
          <p:cNvPicPr/>
          <p:nvPr/>
        </p:nvPicPr>
        <p:blipFill>
          <a:blip r:embed="rId3"/>
          <a:stretch/>
        </p:blipFill>
        <p:spPr>
          <a:xfrm rot="18331800">
            <a:off x="8339040" y="3758760"/>
            <a:ext cx="847800" cy="762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880c37497f4942a794b88501e0ee52f1"/>
          <p:cNvPicPr/>
          <p:nvPr/>
        </p:nvPicPr>
        <p:blipFill>
          <a:blip r:embed="rId4"/>
          <a:stretch/>
        </p:blipFill>
        <p:spPr>
          <a:xfrm rot="15420000">
            <a:off x="1649520" y="5632560"/>
            <a:ext cx="8474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4103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В ИКЕБАНЕ имеет значение и то, под каким углом устанавливаются основные вет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img007"/>
          <p:cNvPicPr/>
          <p:nvPr/>
        </p:nvPicPr>
        <p:blipFill>
          <a:blip r:embed="rId1"/>
          <a:stretch/>
        </p:blipFill>
        <p:spPr>
          <a:xfrm>
            <a:off x="4111560" y="549360"/>
            <a:ext cx="4421160" cy="5832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14" name="Picture 5" descr="03c5e736e971436644472cc6e74eb6f5"/>
          <p:cNvPicPr/>
          <p:nvPr/>
        </p:nvPicPr>
        <p:blipFill>
          <a:blip r:embed="rId2"/>
          <a:stretch/>
        </p:blipFill>
        <p:spPr>
          <a:xfrm>
            <a:off x="324000" y="-66600"/>
            <a:ext cx="8820000" cy="1095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4abaec2b3e1a2f4fb748f456ab988db2"/>
          <p:cNvPicPr/>
          <p:nvPr/>
        </p:nvPicPr>
        <p:blipFill>
          <a:blip r:embed="rId3"/>
          <a:stretch/>
        </p:blipFill>
        <p:spPr>
          <a:xfrm>
            <a:off x="2340000" y="4971960"/>
            <a:ext cx="1422360" cy="142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5b2e2c7233dd4cde26d807ccd8485fac"/>
          <p:cNvPicPr/>
          <p:nvPr/>
        </p:nvPicPr>
        <p:blipFill>
          <a:blip r:embed="rId4"/>
          <a:stretch/>
        </p:blipFill>
        <p:spPr>
          <a:xfrm rot="1692600">
            <a:off x="1494000" y="4059360"/>
            <a:ext cx="1056960" cy="542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8c430fee765426e41710f066e5b8cc64"/>
          <p:cNvPicPr/>
          <p:nvPr/>
        </p:nvPicPr>
        <p:blipFill>
          <a:blip r:embed="rId5"/>
          <a:stretch/>
        </p:blipFill>
        <p:spPr>
          <a:xfrm>
            <a:off x="1187280" y="494172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4681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Для того, чтобы устано-вить ветки нужным обра зом, используют специ- альный держатель. Держатель должен быть достаточно тяжелым и устойчивым. Его ставят  на дно сосуда, а затем прикрывают цветком или листья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img001"/>
          <p:cNvPicPr/>
          <p:nvPr/>
        </p:nvPicPr>
        <p:blipFill>
          <a:blip r:embed="rId1"/>
          <a:stretch/>
        </p:blipFill>
        <p:spPr>
          <a:xfrm>
            <a:off x="5580000" y="907920"/>
            <a:ext cx="2941560" cy="3095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0" name="Picture 5" descr="c8fce78c7fb3d0b74444bb994088768c"/>
          <p:cNvPicPr/>
          <p:nvPr/>
        </p:nvPicPr>
        <p:blipFill>
          <a:blip r:embed="rId2"/>
          <a:stretch/>
        </p:blipFill>
        <p:spPr>
          <a:xfrm>
            <a:off x="1116000" y="5516640"/>
            <a:ext cx="7229520" cy="1122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3e67680d7248acdbf98353260e5b6329"/>
          <p:cNvPicPr/>
          <p:nvPr/>
        </p:nvPicPr>
        <p:blipFill>
          <a:blip r:embed="rId3"/>
          <a:stretch/>
        </p:blipFill>
        <p:spPr>
          <a:xfrm>
            <a:off x="4284720" y="4221000"/>
            <a:ext cx="1330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Символика чисел</a:t>
            </a:r>
            <a:r>
              <a:rPr b="0" lang="en-US" sz="4400" spc="-1" strike="noStrike">
                <a:solidFill>
                  <a:srgbClr val="9900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Garamond"/>
              </a:rPr>
              <a:t>У японских аранжировщиков композиции составляются из нечетного количества цветк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«МАГИЯ ЧИСЕЛ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1- знак вним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3-уважен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5-призн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7-обож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К  тому же нечетное число- пожелание удач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940360" y="3284640"/>
            <a:ext cx="2903760" cy="2027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176040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6d32d1c222a854dfc9ffd458b183f17b"/>
          <p:cNvPicPr/>
          <p:nvPr/>
        </p:nvPicPr>
        <p:blipFill>
          <a:blip r:embed="rId1"/>
          <a:stretch/>
        </p:blipFill>
        <p:spPr>
          <a:xfrm>
            <a:off x="200160" y="306360"/>
            <a:ext cx="8943840" cy="1125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79640" y="33336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Символика</a:t>
            </a:r>
            <a:endParaRPr b="0" lang="en-US" sz="36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12536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Акация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  - Скрытая Любовь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Астра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 - Символ Любви, Изящество.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Гвоздика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  - Очарование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Ирис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 -Твоя Дружба значит для Меня очень Много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Кактус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 – Упорство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Колокольчик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 - Смирение, Покорность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Лаванда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 - Восхищение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292720" y="765000"/>
            <a:ext cx="35784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880c37497f4942a794b88501e0ee52f1"/>
          <p:cNvPicPr/>
          <p:nvPr/>
        </p:nvPicPr>
        <p:blipFill>
          <a:blip r:embed="rId1"/>
          <a:stretch/>
        </p:blipFill>
        <p:spPr>
          <a:xfrm>
            <a:off x="4067280" y="5084640"/>
            <a:ext cx="1419120" cy="127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880c37497f4942a794b88501e0ee52f1"/>
          <p:cNvPicPr/>
          <p:nvPr/>
        </p:nvPicPr>
        <p:blipFill>
          <a:blip r:embed="rId2"/>
          <a:stretch/>
        </p:blipFill>
        <p:spPr>
          <a:xfrm rot="17097600">
            <a:off x="1504800" y="4263480"/>
            <a:ext cx="847800" cy="762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880c37497f4942a794b88501e0ee52f1"/>
          <p:cNvPicPr/>
          <p:nvPr/>
        </p:nvPicPr>
        <p:blipFill>
          <a:blip r:embed="rId3"/>
          <a:stretch/>
        </p:blipFill>
        <p:spPr>
          <a:xfrm>
            <a:off x="6227640" y="826920"/>
            <a:ext cx="1043280" cy="938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84360" y="620640"/>
            <a:ext cx="4572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Лилия (оранжевая) 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- Ненависть, Отвращение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Лилия (белая) 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- Это божественно Быть рядом с Тобой!!!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Мак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 - Забвение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Нарцисс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 - Формальность, Оставайся такой же прекрасной, как Ты есть. 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Одуванчик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 - Счастье, Верность, Преданность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4"/>
          <a:stretch/>
        </p:blipFill>
        <p:spPr>
          <a:xfrm>
            <a:off x="6948360" y="4365720"/>
            <a:ext cx="1890720" cy="2151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5"/>
          <a:stretch/>
        </p:blipFill>
        <p:spPr>
          <a:xfrm>
            <a:off x="6858000" y="1484280"/>
            <a:ext cx="2286000" cy="2173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6"/>
          <a:stretch/>
        </p:blipFill>
        <p:spPr>
          <a:xfrm>
            <a:off x="0" y="1557360"/>
            <a:ext cx="26146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60" name="Picture 4" descr="3b"/>
          <p:cNvPicPr/>
          <p:nvPr/>
        </p:nvPicPr>
        <p:blipFill>
          <a:blip r:embed="rId1"/>
          <a:stretch/>
        </p:blipFill>
        <p:spPr>
          <a:xfrm>
            <a:off x="539640" y="260280"/>
            <a:ext cx="8209080" cy="60264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61" name="WordArt 5"/>
          <p:cNvSpPr txBox="1"/>
          <p:nvPr/>
        </p:nvSpPr>
        <p:spPr>
          <a:xfrm>
            <a:off x="4067280" y="907920"/>
            <a:ext cx="410508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63360">
                  <a:solidFill>
                    <a:srgbClr val="008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кебана</a:t>
            </a:r>
            <a:endParaRPr b="0" lang="en-US" sz="2800" spc="1" strike="noStrike">
              <a:ln w="63360">
                <a:solidFill>
                  <a:srgbClr val="008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" name="Picture 22" descr="3e67680d7248acdbf98353260e5b6329"/>
          <p:cNvPicPr/>
          <p:nvPr/>
        </p:nvPicPr>
        <p:blipFill>
          <a:blip r:embed="rId2"/>
          <a:stretch/>
        </p:blipFill>
        <p:spPr>
          <a:xfrm>
            <a:off x="5940360" y="1916280"/>
            <a:ext cx="1944720" cy="181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9" descr="541f1556eb46d1be4056a74ee7d2d5a1"/>
          <p:cNvPicPr/>
          <p:nvPr/>
        </p:nvPicPr>
        <p:blipFill>
          <a:blip r:embed="rId3"/>
          <a:stretch/>
        </p:blipFill>
        <p:spPr>
          <a:xfrm>
            <a:off x="2556000" y="1341360"/>
            <a:ext cx="87444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Фотогалерея Сёка симпута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404640"/>
            <a:ext cx="3672000" cy="5688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38" name="Picture 7" descr="541f1556eb46d1be4056a74ee7d2d5a1"/>
          <p:cNvPicPr/>
          <p:nvPr/>
        </p:nvPicPr>
        <p:blipFill>
          <a:blip r:embed="rId3"/>
          <a:stretch/>
        </p:blipFill>
        <p:spPr>
          <a:xfrm>
            <a:off x="7093080" y="557280"/>
            <a:ext cx="593640" cy="538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c3c62efbd992ad280b2f29e267db5462"/>
          <p:cNvPicPr/>
          <p:nvPr/>
        </p:nvPicPr>
        <p:blipFill>
          <a:blip r:embed="rId4"/>
          <a:stretch/>
        </p:blipFill>
        <p:spPr>
          <a:xfrm>
            <a:off x="3780000" y="5300640"/>
            <a:ext cx="1944360" cy="1531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4000" y="54936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Орхидея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 - Любовь, Утонченность, Красавица, Китайский Символ Детства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Петуния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 – Раздражение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Сирень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 – Красавица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Фиалка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 - Достоинство, Скромность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Хризантема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 - Ты Прекрасный Друг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Черника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 - Доверие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F6"/>
          <p:cNvPicPr/>
          <p:nvPr/>
        </p:nvPicPr>
        <p:blipFill>
          <a:blip r:embed="rId1"/>
          <a:stretch/>
        </p:blipFill>
        <p:spPr>
          <a:xfrm>
            <a:off x="468360" y="836640"/>
            <a:ext cx="3672000" cy="5400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2" name="Picture 7" descr="0096aab3431bd302cb7ff05c16a49107"/>
          <p:cNvPicPr/>
          <p:nvPr/>
        </p:nvPicPr>
        <p:blipFill>
          <a:blip r:embed="rId2"/>
          <a:stretch/>
        </p:blipFill>
        <p:spPr>
          <a:xfrm>
            <a:off x="3635280" y="4941720"/>
            <a:ext cx="1676520" cy="191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4500720" y="765000"/>
            <a:ext cx="428436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Фотогалерея Нагэирэ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20640"/>
            <a:ext cx="3710160" cy="5400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5" name="Picture 5" descr="Фотогалерея Морибан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20640"/>
            <a:ext cx="3716280" cy="5400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6" name="Picture 6" descr="e801a7b4b63c3ce0e9c0d6d1b34c5b7e"/>
          <p:cNvPicPr/>
          <p:nvPr/>
        </p:nvPicPr>
        <p:blipFill>
          <a:blip r:embed="rId5"/>
          <a:stretch/>
        </p:blipFill>
        <p:spPr>
          <a:xfrm>
            <a:off x="3568680" y="1025640"/>
            <a:ext cx="140004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zяпон музык.wav" descr=""/>
          <p:cNvPicPr/>
          <p:nvPr/>
        </p:nvPicPr>
        <p:blipFill>
          <a:blip r:embed="rId6"/>
          <a:stretch/>
        </p:blipFill>
        <p:spPr>
          <a:xfrm>
            <a:off x="644364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29480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Фотогалерея Свободнй стил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557360"/>
            <a:ext cx="3863880" cy="4176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9" name="Picture 7" descr="6d32d1c222a854dfc9ffd458b183f17b"/>
          <p:cNvPicPr/>
          <p:nvPr/>
        </p:nvPicPr>
        <p:blipFill>
          <a:blip r:embed="rId3"/>
          <a:stretch/>
        </p:blipFill>
        <p:spPr>
          <a:xfrm>
            <a:off x="324000" y="260280"/>
            <a:ext cx="9288360" cy="674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572000" y="476280"/>
            <a:ext cx="42735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4abaec2b3e1a2f4fb748f456ab988db2"/>
          <p:cNvPicPr/>
          <p:nvPr/>
        </p:nvPicPr>
        <p:blipFill>
          <a:blip r:embed="rId1"/>
          <a:stretch/>
        </p:blipFill>
        <p:spPr>
          <a:xfrm>
            <a:off x="6300720" y="620640"/>
            <a:ext cx="1662120" cy="1662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5b2e2c7233dd4cde26d807ccd8485fac"/>
          <p:cNvPicPr/>
          <p:nvPr/>
        </p:nvPicPr>
        <p:blipFill>
          <a:blip r:embed="rId2"/>
          <a:stretch/>
        </p:blipFill>
        <p:spPr>
          <a:xfrm>
            <a:off x="2411280" y="333360"/>
            <a:ext cx="1981440" cy="1017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9"/>
          <p:cNvSpPr/>
          <p:nvPr/>
        </p:nvSpPr>
        <p:spPr>
          <a:xfrm>
            <a:off x="1692360" y="5516640"/>
            <a:ext cx="5932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А теперь проявите свою фантазию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 смело приступайте к работе.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3"/>
          <a:stretch/>
        </p:blipFill>
        <p:spPr>
          <a:xfrm>
            <a:off x="2987640" y="1413000"/>
            <a:ext cx="3638520" cy="2786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179280" y="1268280"/>
            <a:ext cx="2786040" cy="353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5"/>
          <a:stretch/>
        </p:blipFill>
        <p:spPr>
          <a:xfrm>
            <a:off x="6454800" y="2349360"/>
            <a:ext cx="2689200" cy="3133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4abaec2b3e1a2f4fb748f456ab988db2"/>
          <p:cNvPicPr/>
          <p:nvPr/>
        </p:nvPicPr>
        <p:blipFill>
          <a:blip r:embed="rId6"/>
          <a:stretch/>
        </p:blipFill>
        <p:spPr>
          <a:xfrm>
            <a:off x="2340000" y="3933720"/>
            <a:ext cx="16621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341000"/>
            <a:ext cx="82072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Что вы знаете о икебане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Какая страна является родиной икебаны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Что означает слово «икебана» в переводе на русский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65" name="Picture 13" descr="0096aab3431bd302cb7ff05c16a49107"/>
          <p:cNvPicPr/>
          <p:nvPr/>
        </p:nvPicPr>
        <p:blipFill>
          <a:blip r:embed="rId1"/>
          <a:stretch/>
        </p:blipFill>
        <p:spPr>
          <a:xfrm>
            <a:off x="0" y="4438800"/>
            <a:ext cx="211788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Икебана-это искусство составления буке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Родиной икебаны является Япо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Слово «икебана» в переводе означает помочь цветам проявить себ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6" descr="10b"/>
          <p:cNvPicPr/>
          <p:nvPr/>
        </p:nvPicPr>
        <p:blipFill>
          <a:blip r:embed="rId1"/>
          <a:stretch/>
        </p:blipFill>
        <p:spPr>
          <a:xfrm>
            <a:off x="324000" y="2995560"/>
            <a:ext cx="2809800" cy="367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8" name="Picture 8" descr="13b"/>
          <p:cNvPicPr/>
          <p:nvPr/>
        </p:nvPicPr>
        <p:blipFill>
          <a:blip r:embed="rId2"/>
          <a:stretch/>
        </p:blipFill>
        <p:spPr>
          <a:xfrm>
            <a:off x="6516720" y="2995560"/>
            <a:ext cx="2232000" cy="3673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9" name="Picture 9" descr="19b"/>
          <p:cNvPicPr/>
          <p:nvPr/>
        </p:nvPicPr>
        <p:blipFill>
          <a:blip r:embed="rId3"/>
          <a:stretch/>
        </p:blipFill>
        <p:spPr>
          <a:xfrm>
            <a:off x="3564000" y="2995560"/>
            <a:ext cx="2487600" cy="367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13244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История рождения икебан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59280" y="981000"/>
            <a:ext cx="562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Легенда о рождении икебаны проста и совершенна. Однажды буддийские монахи собрали ветки и листья, сорванные грозой, и поднесли их к ногам статуи Будды со словами: "Будь милостив ко всем. Помоги оживить то, что сломала гроза". По-видимому, Будда благосклонно принял это подношение-просьбу, поскольку оно перешло в обычай. Икебана переводится как "вторая жизнь цветов", или "воскрешение растений", и учит "искусству умирания"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2" name="Picture 4" descr="Икебана"/>
          <p:cNvPicPr/>
          <p:nvPr/>
        </p:nvPicPr>
        <p:blipFill>
          <a:blip r:embed="rId1"/>
          <a:stretch/>
        </p:blipFill>
        <p:spPr>
          <a:xfrm>
            <a:off x="324000" y="1268280"/>
            <a:ext cx="2479680" cy="4392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46936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Сегодня икебана призвана украшать реальную жизнь и, безусловно, может располагаться в самых разнообразных интерье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74" name="Picture 7" descr="Безымянный"/>
          <p:cNvPicPr/>
          <p:nvPr/>
        </p:nvPicPr>
        <p:blipFill>
          <a:blip r:embed="rId1"/>
          <a:stretch/>
        </p:blipFill>
        <p:spPr>
          <a:xfrm>
            <a:off x="1332000" y="3141720"/>
            <a:ext cx="6611760" cy="338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5" name="Picture 8" descr="ebb5ea85996faccf2d27f7f983863b1b"/>
          <p:cNvPicPr/>
          <p:nvPr/>
        </p:nvPicPr>
        <p:blipFill>
          <a:blip r:embed="rId2"/>
          <a:stretch/>
        </p:blipFill>
        <p:spPr>
          <a:xfrm>
            <a:off x="3635280" y="42703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ebb5ea85996faccf2d27f7f983863b1b"/>
          <p:cNvPicPr/>
          <p:nvPr/>
        </p:nvPicPr>
        <p:blipFill>
          <a:blip r:embed="rId3"/>
          <a:stretch/>
        </p:blipFill>
        <p:spPr>
          <a:xfrm>
            <a:off x="4356000" y="4797360"/>
            <a:ext cx="344520" cy="344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ebb5ea85996faccf2d27f7f983863b1b"/>
          <p:cNvPicPr/>
          <p:nvPr/>
        </p:nvPicPr>
        <p:blipFill>
          <a:blip r:embed="rId4"/>
          <a:stretch/>
        </p:blipFill>
        <p:spPr>
          <a:xfrm>
            <a:off x="5076720" y="414972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ebb5ea85996faccf2d27f7f983863b1b"/>
          <p:cNvPicPr/>
          <p:nvPr/>
        </p:nvPicPr>
        <p:blipFill>
          <a:blip r:embed="rId5"/>
          <a:stretch/>
        </p:blipFill>
        <p:spPr>
          <a:xfrm>
            <a:off x="2268360" y="4365720"/>
            <a:ext cx="192240" cy="191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ebb5ea85996faccf2d27f7f983863b1b"/>
          <p:cNvPicPr/>
          <p:nvPr/>
        </p:nvPicPr>
        <p:blipFill>
          <a:blip r:embed="rId6"/>
          <a:stretch/>
        </p:blipFill>
        <p:spPr>
          <a:xfrm>
            <a:off x="3203640" y="3645000"/>
            <a:ext cx="263520" cy="263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ebb5ea85996faccf2d27f7f983863b1b"/>
          <p:cNvPicPr/>
          <p:nvPr/>
        </p:nvPicPr>
        <p:blipFill>
          <a:blip r:embed="rId7"/>
          <a:stretch/>
        </p:blipFill>
        <p:spPr>
          <a:xfrm>
            <a:off x="3348000" y="5084640"/>
            <a:ext cx="214200" cy="21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ebb5ea85996faccf2d27f7f983863b1b"/>
          <p:cNvPicPr/>
          <p:nvPr/>
        </p:nvPicPr>
        <p:blipFill>
          <a:blip r:embed="rId8"/>
          <a:stretch/>
        </p:blipFill>
        <p:spPr>
          <a:xfrm>
            <a:off x="5364000" y="4365720"/>
            <a:ext cx="33660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3754469_aaa"/>
          <p:cNvPicPr/>
          <p:nvPr/>
        </p:nvPicPr>
        <p:blipFill>
          <a:blip r:embed="rId1"/>
          <a:stretch/>
        </p:blipFill>
        <p:spPr>
          <a:xfrm>
            <a:off x="395280" y="476280"/>
            <a:ext cx="2887560" cy="4865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3" name="Text Box 17"/>
          <p:cNvSpPr/>
          <p:nvPr/>
        </p:nvSpPr>
        <p:spPr>
          <a:xfrm>
            <a:off x="3419640" y="476280"/>
            <a:ext cx="572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Собираясь создать композицию, взяв в руки цветок, предназна- ченный для икебаны, мы прежде всего думаем о том, что нужно                               удалить.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2799360" y="2859480"/>
            <a:ext cx="7895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овершенно не обязательно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использовать для икебаны редкие,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труднодоступные или дорогосто-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ящие цветы. Любые растения хо-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роши: свежие или правильно засу-            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шенные.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85" name="Picture 20" descr="4abaec2b3e1a2f4fb748f456ab988db2"/>
          <p:cNvPicPr/>
          <p:nvPr/>
        </p:nvPicPr>
        <p:blipFill>
          <a:blip r:embed="rId2"/>
          <a:stretch/>
        </p:blipFill>
        <p:spPr>
          <a:xfrm>
            <a:off x="6372360" y="1933560"/>
            <a:ext cx="1512720" cy="1513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1" descr="5b2e2c7233dd4cde26d807ccd8485fac"/>
          <p:cNvPicPr/>
          <p:nvPr/>
        </p:nvPicPr>
        <p:blipFill>
          <a:blip r:embed="rId3"/>
          <a:stretch/>
        </p:blipFill>
        <p:spPr>
          <a:xfrm>
            <a:off x="3924360" y="5505480"/>
            <a:ext cx="136836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6d32d1c222a854dfc9ffd458b183f17b"/>
          <p:cNvPicPr/>
          <p:nvPr/>
        </p:nvPicPr>
        <p:blipFill>
          <a:blip r:embed="rId4"/>
          <a:stretch/>
        </p:blipFill>
        <p:spPr>
          <a:xfrm>
            <a:off x="3419640" y="5425920"/>
            <a:ext cx="572436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32360" y="2276640"/>
            <a:ext cx="3672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Хорошо составленная композиция кажется живой, в ней ощущается дыхание жизни и завораживающая красот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9" name="Picture 4" descr="18b"/>
          <p:cNvPicPr/>
          <p:nvPr/>
        </p:nvPicPr>
        <p:blipFill>
          <a:blip r:embed="rId1"/>
          <a:stretch/>
        </p:blipFill>
        <p:spPr>
          <a:xfrm>
            <a:off x="395280" y="333360"/>
            <a:ext cx="4118040" cy="6175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0" name="Picture 5" descr="8c430fee765426e41710f066e5b8cc64"/>
          <p:cNvPicPr/>
          <p:nvPr/>
        </p:nvPicPr>
        <p:blipFill>
          <a:blip r:embed="rId2"/>
          <a:stretch/>
        </p:blipFill>
        <p:spPr>
          <a:xfrm>
            <a:off x="7236000" y="5229360"/>
            <a:ext cx="117936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532080"/>
            <a:ext cx="6659640" cy="19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Технология выполнения работы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4640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Приступая к составлению букета, набросайте  его эскиз. Определить пропорции и силуэт будущего букета.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Горизонтальная линия дает аранжировке ощущение спокойств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Вертикальная линия, как бы восходящая воздействует празднично и радостн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Наклонные- действуют активно, а падающие вниз, слева направо вызывают чувство печал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42451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6:04:15Z</dcterms:created>
  <dc:creator>Катя</dc:creator>
  <dc:description/>
  <dc:language>en-US</dc:language>
  <cp:lastModifiedBy>Customer</cp:lastModifiedBy>
  <dcterms:modified xsi:type="dcterms:W3CDTF">2014-11-06T10:11:43Z</dcterms:modified>
  <cp:revision>43</cp:revision>
  <dc:subject/>
  <dc:title>Слайд 1</dc:title>
</cp:coreProperties>
</file>