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AAE3-09F8-4718-B905-F91BA1F0F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3786-5903-4A66-B6B3-089B64AB7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ные УУД позволяют сделать учение осмысленным, обеспечивают ученику значимость решения учебных задач, увязывая их с реальными жизненными целями и ситуациями. Направлены на осознание, исследование и принятие жизненных ценностей и смыслов, позволяют сориентироваться в нравственных нормах, правилах, оценках, выработать свою жизненную позицию в отношении мира, людей, самого себя и своего буду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ЯЯ ПОЗИЦИЯ В начальной школе формирование личностных универсальных действий должно реализоваться путём  развития у школьника задач самоопределения: «Я знаю...»; «Я умею...»; «Я создаю...»; «Я стремлюсь...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Установление связи между целью учебной деятельности и ее мотивом -  определение того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«какое значение, смысл имеет для меня 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НРАВСТВЕННО-ЭТИЧЕСКАЯ ОЦ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ение морально-этического содержания событий и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ение системы нравственных ценностей как основания морального вы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равственно-этическое оценивание событий и действий с точки зрения моральн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ировка в моральной дилемме и осуществление личностного морального вы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Где же идёт развитие личностных УУД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На основе анализа текста организуется обсуждение нравственного содержания и система поступков героя, что способствует развитию этических чувств, как регуляторов моральн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EBF-B24F-432A-81B5-1F394F77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EDF-FBD9-4F62-87CC-F6236C5D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7AD-A324-4DB3-B4C2-9155B6D2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126-2D57-4E37-9B22-94F7E251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31E-DA4E-4D9C-B73D-7F12DFBF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A2F-E60F-48B8-8330-6F3B68CF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97C-8493-4BAB-9AC6-90E6E16A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D5D-12D2-450F-A2CC-B9D5ABD1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442-D1AF-4BEF-B3C2-A9149CBD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1D9-5F03-46FA-B5F3-DB3906C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7C3-6997-44CB-8156-93820422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880-BC06-4241-96FB-3B09F85D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6388-8125-4025-A166-33B55A350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КОУ «Средняя школа №6» г. Людин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агностика универсальных учебных действий в начальной шк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logo"/>
          <p:cNvPicPr/>
          <p:nvPr/>
        </p:nvPicPr>
        <p:blipFill>
          <a:blip r:embed="rId1"/>
          <a:stretch/>
        </p:blipFill>
        <p:spPr>
          <a:xfrm>
            <a:off x="380880" y="5867280"/>
            <a:ext cx="2025720" cy="552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77120" y="5562720"/>
            <a:ext cx="236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а: Наширбанова Т.А., учитель нач.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работка резуль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85840" y="272520"/>
            <a:ext cx="4800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етодик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одифицированный вариант анкеты школьной мотивации Н.Г. Лускан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просы анке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ты чувствуешь себя в школ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Мне в школе нрав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Мне в школе не очень нрав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Мне в школе не нрав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С каким настроением ты идешь утром в школ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С хорошим настро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Бывает по-разно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Чаще хочется остаться д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бы тебе сказали, что завтра в школу не обязательно приходить всем ученикам, как бы ты поступи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Пошел бы в шко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Не зна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Остался бы д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Как ты относишься к тому, что у вас отменяют уро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Мне не нравится, когда отменяют уро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Бывает по-разно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Мне нравится, когда отменяют уро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0081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рицательный ответ – 0 балл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йтральный ответ – 1 бал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ожительный ответ – 3 бал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ксимально возможная оценка равна 30 бал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ни школьной мотив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–30 баллов – высокий уровень школьной мотив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–24 балла – средний уровень мотив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–14 баллов – низкий уровень школьной мотивации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иже 10 баллов – негативное отношение к школе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5638680"/>
            <a:ext cx="990720" cy="12193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219320"/>
              <a:gd name="textAreaBottom" fmla="*/ 1155240 h 1219320"/>
            </a:gdLst>
            <a:ahLst/>
            <a:rect l="textAreaLeft" t="textAreaTop" r="textAreaRight" b="textAreaBottom"/>
            <a:pathLst>
              <a:path w="21600" h="26582">
                <a:moveTo>
                  <a:pt x="0" y="0"/>
                </a:moveTo>
                <a:lnTo>
                  <a:pt x="21600" y="0"/>
                </a:lnTo>
                <a:lnTo>
                  <a:pt x="21600" y="26582"/>
                </a:lnTo>
                <a:lnTo>
                  <a:pt x="0" y="26582"/>
                </a:lnTo>
                <a:close/>
              </a:path>
              <a:path fill="lightenLess" w="21600" h="265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82">
                <a:moveTo>
                  <a:pt x="21600" y="0"/>
                </a:moveTo>
                <a:lnTo>
                  <a:pt x="21600" y="26582"/>
                </a:lnTo>
                <a:lnTo>
                  <a:pt x="20200" y="25182"/>
                </a:lnTo>
                <a:lnTo>
                  <a:pt x="20200" y="1400"/>
                </a:lnTo>
                <a:close/>
              </a:path>
              <a:path fill="darkenLess" w="21600" h="26582">
                <a:moveTo>
                  <a:pt x="21600" y="26582"/>
                </a:moveTo>
                <a:lnTo>
                  <a:pt x="0" y="26582"/>
                </a:lnTo>
                <a:lnTo>
                  <a:pt x="1400" y="25182"/>
                </a:lnTo>
                <a:lnTo>
                  <a:pt x="20200" y="25182"/>
                </a:lnTo>
                <a:close/>
              </a:path>
              <a:path fill="lighten" w="21600" h="26582">
                <a:moveTo>
                  <a:pt x="0" y="265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82"/>
                </a:lnTo>
                <a:close/>
              </a:path>
              <a:path fill="darkenLess" w="21600" h="26582">
                <a:moveTo>
                  <a:pt x="5273" y="6476"/>
                </a:moveTo>
                <a:lnTo>
                  <a:pt x="12271" y="6476"/>
                </a:lnTo>
                <a:lnTo>
                  <a:pt x="16327" y="9975"/>
                </a:lnTo>
                <a:lnTo>
                  <a:pt x="16327" y="20106"/>
                </a:lnTo>
                <a:lnTo>
                  <a:pt x="5273" y="20106"/>
                </a:lnTo>
                <a:close/>
              </a:path>
              <a:path fill="darken" w="21600" h="26582">
                <a:moveTo>
                  <a:pt x="12271" y="6476"/>
                </a:moveTo>
                <a:lnTo>
                  <a:pt x="16327" y="9975"/>
                </a:lnTo>
                <a:lnTo>
                  <a:pt x="12271" y="99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Беседа о школ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Цель: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ыявление сформированности внутренней позиции школьника, его мотивации 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Тебе нравится в шк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Что в школе больше всего нрав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«Кто такой хороший уче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огласишься ходить в школу не каждый де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Есть школа, где каждый день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Вопрос знакомого т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Ты хорошо поработал на уроке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4495680"/>
            <a:ext cx="1371600" cy="167652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676520"/>
              <a:gd name="textAreaBottom" fmla="*/ 1587600 h 1676520"/>
            </a:gdLst>
            <a:ahLst/>
            <a:rect l="textAreaLeft" t="textAreaTop" r="textAreaRight" b="textAreaBottom"/>
            <a:pathLst>
              <a:path w="21600" h="26401">
                <a:moveTo>
                  <a:pt x="0" y="0"/>
                </a:moveTo>
                <a:lnTo>
                  <a:pt x="21600" y="0"/>
                </a:lnTo>
                <a:lnTo>
                  <a:pt x="21600" y="26401"/>
                </a:lnTo>
                <a:lnTo>
                  <a:pt x="0" y="26401"/>
                </a:lnTo>
                <a:close/>
              </a:path>
              <a:path fill="lightenLess" w="21600" h="264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1">
                <a:moveTo>
                  <a:pt x="21600" y="0"/>
                </a:moveTo>
                <a:lnTo>
                  <a:pt x="21600" y="26401"/>
                </a:lnTo>
                <a:lnTo>
                  <a:pt x="20200" y="25001"/>
                </a:lnTo>
                <a:lnTo>
                  <a:pt x="20200" y="1400"/>
                </a:lnTo>
                <a:close/>
              </a:path>
              <a:path fill="darkenLess" w="21600" h="26401">
                <a:moveTo>
                  <a:pt x="21600" y="26401"/>
                </a:moveTo>
                <a:lnTo>
                  <a:pt x="0" y="26401"/>
                </a:lnTo>
                <a:lnTo>
                  <a:pt x="1400" y="25001"/>
                </a:lnTo>
                <a:lnTo>
                  <a:pt x="20200" y="25001"/>
                </a:lnTo>
                <a:close/>
              </a:path>
              <a:path fill="lighten" w="21600" h="26401">
                <a:moveTo>
                  <a:pt x="0" y="264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1"/>
                </a:lnTo>
                <a:close/>
              </a:path>
              <a:path fill="darkenLess" w="21600" h="26401">
                <a:moveTo>
                  <a:pt x="5273" y="6385"/>
                </a:moveTo>
                <a:lnTo>
                  <a:pt x="12271" y="6385"/>
                </a:lnTo>
                <a:lnTo>
                  <a:pt x="16327" y="9884"/>
                </a:lnTo>
                <a:lnTo>
                  <a:pt x="16327" y="20015"/>
                </a:lnTo>
                <a:lnTo>
                  <a:pt x="5273" y="20015"/>
                </a:lnTo>
                <a:close/>
              </a:path>
              <a:path fill="darken" w="21600" h="26401">
                <a:moveTo>
                  <a:pt x="12271" y="6385"/>
                </a:moveTo>
                <a:lnTo>
                  <a:pt x="16327" y="9884"/>
                </a:lnTo>
                <a:lnTo>
                  <a:pt x="12271" y="98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ксация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1905120"/>
            <a:ext cx="1600200" cy="175248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752480"/>
              <a:gd name="textAreaBottom" fmla="*/ 1648800 h 1752480"/>
            </a:gdLst>
            <a:ahLst/>
            <a:rect l="textAreaLeft" t="textAreaTop" r="textAreaRight" b="textAreaBottom"/>
            <a:pathLst>
              <a:path w="21600" h="23655">
                <a:moveTo>
                  <a:pt x="0" y="0"/>
                </a:moveTo>
                <a:lnTo>
                  <a:pt x="21600" y="0"/>
                </a:lnTo>
                <a:lnTo>
                  <a:pt x="21600" y="23655"/>
                </a:lnTo>
                <a:lnTo>
                  <a:pt x="0" y="23655"/>
                </a:lnTo>
                <a:close/>
              </a:path>
              <a:path fill="lightenLess" w="21600" h="236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5">
                <a:moveTo>
                  <a:pt x="21600" y="0"/>
                </a:moveTo>
                <a:lnTo>
                  <a:pt x="21600" y="23655"/>
                </a:lnTo>
                <a:lnTo>
                  <a:pt x="20200" y="22255"/>
                </a:lnTo>
                <a:lnTo>
                  <a:pt x="20200" y="1400"/>
                </a:lnTo>
                <a:close/>
              </a:path>
              <a:path fill="darkenLess" w="21600" h="23655">
                <a:moveTo>
                  <a:pt x="21600" y="23655"/>
                </a:moveTo>
                <a:lnTo>
                  <a:pt x="0" y="23655"/>
                </a:lnTo>
                <a:lnTo>
                  <a:pt x="1400" y="22255"/>
                </a:lnTo>
                <a:lnTo>
                  <a:pt x="20200" y="22255"/>
                </a:lnTo>
                <a:close/>
              </a:path>
              <a:path fill="lighten" w="21600" h="23655">
                <a:moveTo>
                  <a:pt x="0" y="236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5"/>
                </a:lnTo>
                <a:close/>
              </a:path>
              <a:path fill="darkenLess" w="21600" h="23655">
                <a:moveTo>
                  <a:pt x="5273" y="5013"/>
                </a:moveTo>
                <a:lnTo>
                  <a:pt x="12271" y="5013"/>
                </a:lnTo>
                <a:lnTo>
                  <a:pt x="16327" y="8511"/>
                </a:lnTo>
                <a:lnTo>
                  <a:pt x="16327" y="18643"/>
                </a:lnTo>
                <a:lnTo>
                  <a:pt x="5273" y="18643"/>
                </a:lnTo>
                <a:close/>
              </a:path>
              <a:path fill="darken" w="21600" h="23655">
                <a:moveTo>
                  <a:pt x="12271" y="5013"/>
                </a:moveTo>
                <a:lnTo>
                  <a:pt x="16327" y="8511"/>
                </a:lnTo>
                <a:lnTo>
                  <a:pt x="12271" y="851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3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77120" y="586728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Less" w="21600" h="23402">
                <a:moveTo>
                  <a:pt x="5273" y="4886"/>
                </a:moveTo>
                <a:lnTo>
                  <a:pt x="12271" y="4886"/>
                </a:lnTo>
                <a:lnTo>
                  <a:pt x="16327" y="8385"/>
                </a:lnTo>
                <a:lnTo>
                  <a:pt x="16327" y="18516"/>
                </a:lnTo>
                <a:lnTo>
                  <a:pt x="5273" y="18516"/>
                </a:lnTo>
                <a:close/>
              </a:path>
              <a:path fill="darken" w="21600" h="23402">
                <a:moveTo>
                  <a:pt x="12271" y="4886"/>
                </a:moveTo>
                <a:lnTo>
                  <a:pt x="16327" y="8385"/>
                </a:lnTo>
                <a:lnTo>
                  <a:pt x="12271" y="8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Как развивать личностные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Личностное, профессиональное, жизненное само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даптировать к быстроменяющемуся ми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нить детскую индивид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вать у детей инициативность, любознательность, произво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ддерживать обратную связь в общении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здавать ситуации «успех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спользовать мультимедийные презентаций в урочной 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Как развивать личностные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  </a:t>
            </a: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Действие смысл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здавать оптимальные условия развития для каждого уче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доставлять детям прав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вивать навыки школьн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еспечивать развитие положительных качеств неуверенных в себе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Как развивать личностные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     </a:t>
            </a:r>
            <a:r>
              <a:rPr b="1" lang="ru-RU" sz="28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Действие нравственно-этического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вивать детям духовные традиций нашего народа – уважение к труду, творчество и сози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общать детей к культ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здавать условия для формирования эмпатии и толера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Картинка 199 из 2872"/>
          <p:cNvPicPr/>
          <p:nvPr/>
        </p:nvPicPr>
        <p:blipFill>
          <a:blip r:embed="rId1"/>
          <a:stretch/>
        </p:blipFill>
        <p:spPr>
          <a:xfrm>
            <a:off x="2519280" y="1052640"/>
            <a:ext cx="3672000" cy="2444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684360" y="3753000"/>
            <a:ext cx="755640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logo"/>
          <p:cNvPicPr/>
          <p:nvPr/>
        </p:nvPicPr>
        <p:blipFill>
          <a:blip r:embed="rId2"/>
          <a:stretch/>
        </p:blipFill>
        <p:spPr>
          <a:xfrm>
            <a:off x="6477120" y="187200"/>
            <a:ext cx="2457360" cy="669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263664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-446040">
              <a:spcBef>
                <a:spcPts val="11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внутренняя позици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11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мотиваци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11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нравственно-этическая оценк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logo"/>
          <p:cNvPicPr/>
          <p:nvPr/>
        </p:nvPicPr>
        <p:blipFill>
          <a:blip r:embed="rId1"/>
          <a:stretch/>
        </p:blipFill>
        <p:spPr>
          <a:xfrm>
            <a:off x="6500880" y="380880"/>
            <a:ext cx="2438280" cy="66528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5"/>
          <p:cNvGrpSpPr/>
          <p:nvPr/>
        </p:nvGrpSpPr>
        <p:grpSpPr>
          <a:xfrm>
            <a:off x="250920" y="333360"/>
            <a:ext cx="5472360" cy="2518560"/>
            <a:chOff x="250920" y="333360"/>
            <a:chExt cx="5472360" cy="2518560"/>
          </a:xfrm>
        </p:grpSpPr>
        <p:pic>
          <p:nvPicPr>
            <p:cNvPr id="55" name="Picture 6" descr="Picture2"/>
            <p:cNvPicPr/>
            <p:nvPr/>
          </p:nvPicPr>
          <p:blipFill>
            <a:blip r:embed="rId2"/>
            <a:stretch/>
          </p:blipFill>
          <p:spPr>
            <a:xfrm>
              <a:off x="707400" y="2449800"/>
              <a:ext cx="4605120" cy="4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7"/>
            <p:cNvSpPr/>
            <p:nvPr/>
          </p:nvSpPr>
          <p:spPr>
            <a:xfrm>
              <a:off x="250920" y="333360"/>
              <a:ext cx="5472360" cy="230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8"/>
            <p:cNvSpPr/>
            <p:nvPr/>
          </p:nvSpPr>
          <p:spPr>
            <a:xfrm>
              <a:off x="369360" y="387360"/>
              <a:ext cx="5218560" cy="219744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9"/>
            <p:cNvSpPr/>
            <p:nvPr/>
          </p:nvSpPr>
          <p:spPr>
            <a:xfrm>
              <a:off x="572040" y="468000"/>
              <a:ext cx="4718520" cy="19846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0" descr="Picture1"/>
            <p:cNvPicPr/>
            <p:nvPr/>
          </p:nvPicPr>
          <p:blipFill>
            <a:blip r:embed="rId4"/>
            <a:stretch/>
          </p:blipFill>
          <p:spPr>
            <a:xfrm>
              <a:off x="369360" y="468000"/>
              <a:ext cx="3463560" cy="145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Rectangle 44"/>
          <p:cNvSpPr/>
          <p:nvPr/>
        </p:nvSpPr>
        <p:spPr>
          <a:xfrm>
            <a:off x="755640" y="1197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ичностные  У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чностные УУД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е смыслообразования (интерес, мотивац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е нравственно-этического оценивания (“что такое хорошо, что такое плохо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личного, эмоционального отношения к себе и окружающему ми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нтереса к себе и окружающему миру (когда ребенок задает вопрос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циональное осознание себя и окружающего ми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озитивного отношения к себе и окружающему ми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желания выполнять учебные 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фантазии, воображения при выполнении учебных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 окончанию учащимися 4 класса в сфере личностных УУД у них будут сформированы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чностная мотивация учебной деятель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иентация на моральные нормы и их выпол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 класс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Беседа о школе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ба на познавательную инициативу «Незаконченная сказ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седа о школ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а на познавательную инициативу «Незавершенная сказ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4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й уче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Типовые задачи для оценки уровня сформированности личностных У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162920" y="541008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Less" w="21600" h="21605">
                <a:moveTo>
                  <a:pt x="5273" y="3988"/>
                </a:moveTo>
                <a:lnTo>
                  <a:pt x="12271" y="3988"/>
                </a:lnTo>
                <a:lnTo>
                  <a:pt x="16327" y="7487"/>
                </a:lnTo>
                <a:lnTo>
                  <a:pt x="16327" y="17618"/>
                </a:lnTo>
                <a:lnTo>
                  <a:pt x="5273" y="17618"/>
                </a:lnTo>
                <a:close/>
              </a:path>
              <a:path fill="darken" w="21600" h="21605">
                <a:moveTo>
                  <a:pt x="12271" y="3988"/>
                </a:moveTo>
                <a:lnTo>
                  <a:pt x="16327" y="7487"/>
                </a:lnTo>
                <a:lnTo>
                  <a:pt x="12271" y="748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Методика « Какой Я»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ценка результатов: 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веты «да» - 1 балл,  « нет» - 0 баллов, « не знаю» или « иногда» - 0, 5 балла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Уровень самооценки определяется по общей сумме баллов, набранной ребенком по всем качествам личности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воды об уровне развития самооценки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10   баллов –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чень высокий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-9 баллов -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ысокий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-7 баллов -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редний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3 балла  -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низкий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-1 балл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   очень низкий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Протокол методики « Какой Я» 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2895480"/>
          <a:ext cx="8229600" cy="31626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371600"/>
                <a:gridCol w="1371600"/>
                <a:gridCol w="1371600"/>
                <a:gridCol w="1371600"/>
              </a:tblGrid>
              <a:tr h="24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е качества лич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и по вербальной шк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г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уш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ма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жли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лый ( способны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люби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8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</a:rPr>
              <a:t>Методика «Лесен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04960" y="22824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Инструкц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каждого участника – бланк с нарисованной лесенкой, ручка или карандаш; на классной доске нарисована лесенка. «Ребята, возьмите красный карандаш и послушайте задание. Вот лесенка. Представьте, что на этой лесенке стоят все ваши одноклассники. На какой ступеньке стоишь ты? Нарисуй на ней кружок». Затем повторить инструкцию еще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работка результа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 анализе полученных данных исходите  из следующег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упенька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сокий уров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завышенная самооценк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а чаще всего характерна для первоклассников и является для них возрастной норм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упеньки 2-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редний уров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адекватная самооценк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 ребенка сформировано положительное отношение к себе, он умеет оценивать себя и свою деятельность - это нормальный вариант развития самооцен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упенька 5 -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изкий уров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заниженная самооценк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8" descr="34"/>
          <p:cNvPicPr/>
          <p:nvPr/>
        </p:nvPicPr>
        <p:blipFill>
          <a:blip r:embed="rId1"/>
          <a:stretch/>
        </p:blipFill>
        <p:spPr>
          <a:xfrm>
            <a:off x="5638680" y="3505320"/>
            <a:ext cx="274320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1-06T20:09:57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