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7BB-C9F9-4CCB-BFC0-073322D8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38A-CB7D-498C-A030-8ADD7912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43D-8388-45BD-ABCD-CA96941A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2F8-7373-476D-8FAF-445AFEA8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6E1-D3E9-438F-8A5F-884A29DD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723-877F-4EFA-BBB9-7D30EEE8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B24-9ABE-48A4-99DD-27BBFB24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BC1-8A6D-48F1-80EC-9F954359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276-F2D7-4F43-8B6A-2C4FB060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B69-1CBD-4B25-9754-05766EBF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AA4-E6EB-4AB6-9843-EE7F460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09B-30BF-4DBE-AF62-BCCD249F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3615-A68E-4D37-B276-1B03AB487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1359000"/>
            <a:ext cx="8791560" cy="1523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84680" y="5373720"/>
            <a:ext cx="698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Кириленко Кира, учащаяся 5 «А»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БОУ СОШ № 4 с УИОП г. Ус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0" y="49197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вание российских кораблей продолжалось 751 день, и протяженность его составила почти 100 тыс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9 новых островов были нанесены на карту. Так началась летопись изучения и освоения Антарктиды, в которую вписаны имена исследователей из мног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4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1358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kuldima.narod.ru/vosmir.jpg"/>
          <p:cNvPicPr/>
          <p:nvPr/>
        </p:nvPicPr>
        <p:blipFill>
          <a:blip r:embed="rId2"/>
          <a:stretch/>
        </p:blipFill>
        <p:spPr>
          <a:xfrm>
            <a:off x="324000" y="1052640"/>
            <a:ext cx="8372160" cy="396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392720" cy="38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Arial"/>
                <a:ea typeface="Arial"/>
              </a:rPr>
              <a:t>Васко да Гама -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португальский мореплаватель эпохи Великих географических открытий, открыл морской путь в Индию, обогнув Африку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64000" y="4076640"/>
            <a:ext cx="37800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одился: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460 или1469 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Синиш, Португал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мер: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4 декабря 152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Коччи, Инд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есто захоронения: 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Жеронимуш, Лиссабон, Португал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upload.wikimedia.org/wikipedia/commons/4/41/Vasco_da_Gama.png"/>
          <p:cNvPicPr/>
          <p:nvPr/>
        </p:nvPicPr>
        <p:blipFill>
          <a:blip r:embed="rId1"/>
          <a:stretch/>
        </p:blipFill>
        <p:spPr>
          <a:xfrm>
            <a:off x="324000" y="404640"/>
            <a:ext cx="4392360" cy="5900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e-reading.me/illustrations/105/105441-i_008.png"/>
          <p:cNvPicPr/>
          <p:nvPr/>
        </p:nvPicPr>
        <p:blipFill>
          <a:blip r:embed="rId1"/>
          <a:stretch/>
        </p:blipFill>
        <p:spPr>
          <a:xfrm>
            <a:off x="611280" y="765000"/>
            <a:ext cx="7632720" cy="5546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13680" y="4653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ыс Доброй Наде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2700360" y="4653000"/>
            <a:ext cx="122040" cy="195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8"/>
          <p:cNvSpPr/>
          <p:nvPr/>
        </p:nvSpPr>
        <p:spPr>
          <a:xfrm>
            <a:off x="5076720" y="2637000"/>
            <a:ext cx="122400" cy="193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5014800" y="23493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ли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644640" y="33577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ли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3564000" y="3429000"/>
            <a:ext cx="122040" cy="193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12" descr=""/>
          <p:cNvPicPr/>
          <p:nvPr/>
        </p:nvPicPr>
        <p:blipFill>
          <a:blip r:embed="rId2"/>
          <a:stretch/>
        </p:blipFill>
        <p:spPr>
          <a:xfrm>
            <a:off x="-49320" y="-92160"/>
            <a:ext cx="9223560" cy="88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5298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 июля 1497 года флотилия Васко да Гамы вышла из гавани Лиссабона. Флотилия состояла из четырёх кораблей. Всего под командованием адмирала да Гамы было 168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s://upload.wikimedia.org/wikipedia/commons/thumb/b/ba/A_partida_de_Vasco_da_Gama_para_a_%C3%8Dndia_em_1497.jpg/1024px-A_partida_de_Vasco_da_Gama_para_a_%C3%8Dndia_em_1497.jpg"/>
          <p:cNvPicPr/>
          <p:nvPr/>
        </p:nvPicPr>
        <p:blipFill>
          <a:blip r:embed="rId1"/>
          <a:stretch/>
        </p:blipFill>
        <p:spPr>
          <a:xfrm>
            <a:off x="1187280" y="765000"/>
            <a:ext cx="7018560" cy="46324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8" descr=""/>
          <p:cNvPicPr/>
          <p:nvPr/>
        </p:nvPicPr>
        <p:blipFill>
          <a:blip r:embed="rId2"/>
          <a:stretch/>
        </p:blipFill>
        <p:spPr>
          <a:xfrm>
            <a:off x="-49320" y="-92160"/>
            <a:ext cx="9223560" cy="88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24000" y="5081760"/>
            <a:ext cx="86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 мая 1498 года португальские корабли стали на рейде у входа в порт Каликут (Южная Инд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ликуте удалось приобрести немало пряностей и драгоценностей. Открытие для европейцев морского пути в Индию было одним из величайших событий в истории мировой торгов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upload.wikimedia.org/wikipedia/commons/2/2b/A_chegada_de_Vasco_da_Gama_a_Calicute_em_1498.jpg"/>
          <p:cNvPicPr/>
          <p:nvPr/>
        </p:nvPicPr>
        <p:blipFill>
          <a:blip r:embed="rId1"/>
          <a:stretch/>
        </p:blipFill>
        <p:spPr>
          <a:xfrm>
            <a:off x="1476360" y="765000"/>
            <a:ext cx="6342120" cy="41767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-49320" y="-92160"/>
            <a:ext cx="9223560" cy="88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79280" y="49269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сти Португалии высоко оценили деяния адмирала Васко да Гамы. В 1524 году он был назначен вице-королем Индии. К этому времени ему исполнилось уже 55 лет. 24 декабря этого же года великий путешественник умер в славе и почете. Для Португалии и всей Западной Европы и Америки он остался первым европейцем, приведшим корабли в Инд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discover-history.com/pictures/vasko-ships.jpg"/>
          <p:cNvPicPr/>
          <p:nvPr/>
        </p:nvPicPr>
        <p:blipFill>
          <a:blip r:embed="rId1"/>
          <a:stretch/>
        </p:blipFill>
        <p:spPr>
          <a:xfrm>
            <a:off x="250920" y="765000"/>
            <a:ext cx="4897440" cy="4098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5292720" y="93420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время плавания команда сильно сократилась – много людей умерло от цинги и других болезней. Из четырёх судов вернулось только два, от команды осталось менее полов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7" descr=""/>
          <p:cNvPicPr/>
          <p:nvPr/>
        </p:nvPicPr>
        <p:blipFill>
          <a:blip r:embed="rId2"/>
          <a:stretch/>
        </p:blipFill>
        <p:spPr>
          <a:xfrm>
            <a:off x="-49320" y="-92160"/>
            <a:ext cx="9223560" cy="88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yamg.ru/works/antarktida/img/134.jpg"/>
          <p:cNvPicPr/>
          <p:nvPr/>
        </p:nvPicPr>
        <p:blipFill>
          <a:blip r:embed="rId1"/>
          <a:stretch/>
        </p:blipFill>
        <p:spPr>
          <a:xfrm>
            <a:off x="826920" y="2276640"/>
            <a:ext cx="3313440" cy="429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4" descr="http://www.yamg.ru/works/antarktida/img/134.jpg"/>
          <p:cNvPicPr/>
          <p:nvPr/>
        </p:nvPicPr>
        <p:blipFill>
          <a:blip r:embed="rId2"/>
          <a:stretch/>
        </p:blipFill>
        <p:spPr>
          <a:xfrm>
            <a:off x="5292720" y="2205000"/>
            <a:ext cx="3359160" cy="43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Прямоугольник 6"/>
          <p:cNvSpPr/>
          <p:nvPr/>
        </p:nvSpPr>
        <p:spPr>
          <a:xfrm>
            <a:off x="0" y="1125360"/>
            <a:ext cx="521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Фаддей Фаддеевич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Беллинсгаузен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1778—18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4572000" y="1052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хаил Петр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зарев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1788-18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8" descr=""/>
          <p:cNvPicPr/>
          <p:nvPr/>
        </p:nvPicPr>
        <p:blipFill>
          <a:blip r:embed="rId3"/>
          <a:stretch/>
        </p:blipFill>
        <p:spPr>
          <a:xfrm>
            <a:off x="0" y="-79200"/>
            <a:ext cx="9144000" cy="1358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4500720" y="1125360"/>
            <a:ext cx="439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дьба свела Беллинсгаузена и Лазарева в 1819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6 июля 1819 г. экспедиция отправилась в плавани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м хорошо оборудованным кораблям предстояло совершить нелегкое путешествие. Одним из них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люпом «Восток», командовал Беллинсгаузен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им, носившим им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Мирный», — Лазар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Шлюпы «Восток» и «Мирный» у берегов Антарктиды"/>
          <p:cNvPicPr/>
          <p:nvPr/>
        </p:nvPicPr>
        <p:blipFill>
          <a:blip r:embed="rId1"/>
          <a:stretch/>
        </p:blipFill>
        <p:spPr>
          <a:xfrm>
            <a:off x="324000" y="1197000"/>
            <a:ext cx="4176720" cy="5310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5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1358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5940360" y="1341360"/>
            <a:ext cx="320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7 января 18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. Ф. Беллинсгаузен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. П. Лазарев пересекли Южный полярный круг и на следующий день подошли вплотную к ледяному барьеру Антарктического материк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лько более чем через 100 лет эти места снова посетили норвежские исследователи Антарктиды: они назвали их Берегом Принцессы М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4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135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navy.su/gallery/33/yarkin/05.jpg"/>
          <p:cNvPicPr/>
          <p:nvPr/>
        </p:nvPicPr>
        <p:blipFill>
          <a:blip r:embed="rId2"/>
          <a:stretch/>
        </p:blipFill>
        <p:spPr>
          <a:xfrm>
            <a:off x="0" y="1341360"/>
            <a:ext cx="5897520" cy="431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6:31:10Z</dcterms:created>
  <dc:creator>User</dc:creator>
  <dc:description/>
  <dc:language>en-US</dc:language>
  <cp:lastModifiedBy>Пользователь</cp:lastModifiedBy>
  <dcterms:modified xsi:type="dcterms:W3CDTF">2014-11-06T13:40:45Z</dcterms:modified>
  <cp:revision>14</cp:revision>
  <dc:subject/>
  <dc:title>Слайд 1</dc:title>
</cp:coreProperties>
</file>