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EFB-F85E-47D1-B06A-90DD1BF0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F15-A5A4-4509-9210-CACA83F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657-21C1-4136-8830-C812AC3C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42A-A36B-430C-AAB2-70DD3D79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29F-0442-407F-82F2-66D1423A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A521-3DC5-4F72-AE5F-6F557B2E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A46-DC0E-461C-84B3-B02FC7CB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D476-8E2E-454B-B520-4A9A932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EA91-0E25-441D-895E-67ECE12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81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12D-B81D-4060-AD97-F0E4022E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9684-5DA0-47CB-8B2C-A180EF3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8EF-C31C-4B4B-A225-F3210F7D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7C4A-B4B4-4CFD-AF1C-8B111B8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6A8-22D2-4D49-AF52-D095A01F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2DA7-1202-4D7F-932D-2F232F5E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ECD9-6840-42F1-A85F-28DAA388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0C5D-F39F-48C6-AD94-23DECC93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479-0ED4-4EEB-9B15-41877764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D44-F3F0-4CFC-BF7E-E64F8221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CAF-E4CC-4996-A904-1881336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81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EAA-417E-4E9F-87E6-DFFA518B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EB0-D598-442D-9EEC-30D10D1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D4B-1F91-45BA-8631-F51F180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A45-5B01-4889-9836-1A3036E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071720" y="304920"/>
            <a:ext cx="7613280" cy="1104840"/>
            <a:chOff x="1071720" y="304920"/>
            <a:chExt cx="7613280" cy="1104840"/>
          </a:xfrm>
        </p:grpSpPr>
        <p:sp>
          <p:nvSpPr>
            <p:cNvPr id="1" name="Oval 2"/>
            <p:cNvSpPr/>
            <p:nvPr/>
          </p:nvSpPr>
          <p:spPr>
            <a:xfrm flipH="1">
              <a:off x="4869720" y="304920"/>
              <a:ext cx="11030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3"/>
            <p:cNvSpPr/>
            <p:nvPr/>
          </p:nvSpPr>
          <p:spPr>
            <a:xfrm flipH="1">
              <a:off x="7583400" y="304920"/>
              <a:ext cx="11016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4"/>
            <p:cNvSpPr/>
            <p:nvPr/>
          </p:nvSpPr>
          <p:spPr>
            <a:xfrm flipH="1">
              <a:off x="1071720" y="306360"/>
              <a:ext cx="110160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5"/>
            <p:cNvSpPr/>
            <p:nvPr/>
          </p:nvSpPr>
          <p:spPr>
            <a:xfrm flipH="1">
              <a:off x="6324120" y="304920"/>
              <a:ext cx="11016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 flipH="1">
              <a:off x="2359080" y="304920"/>
              <a:ext cx="11016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12C52C-BAC8-4FCD-99D1-728DFAB6D3C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1658520" y="1600200"/>
            <a:ext cx="6836040" cy="3198960"/>
            <a:chOff x="1658520" y="1600200"/>
            <a:chExt cx="6836040" cy="3198960"/>
          </a:xfrm>
        </p:grpSpPr>
        <p:sp>
          <p:nvSpPr>
            <p:cNvPr id="48" name="Oval 2"/>
            <p:cNvSpPr/>
            <p:nvPr/>
          </p:nvSpPr>
          <p:spPr>
            <a:xfrm flipH="1">
              <a:off x="6972480" y="1600200"/>
              <a:ext cx="1522080" cy="15224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0760" y="1600200"/>
              <a:ext cx="1522440" cy="15224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120" y="1600200"/>
              <a:ext cx="1522440" cy="15224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3276720"/>
              <a:ext cx="1522440" cy="15224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2440" cy="15224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2480" y="3276720"/>
              <a:ext cx="1522080" cy="15224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E3FACD-CBEA-4C3D-8602-154CCA032BE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лассный час на тему: « Учиться всегда пригодится»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развитие осознанного отношения к учебе, воспитание уважения к себе, уверенности, что знания всегда пригодятся в жизни, способствовать развитию мышления и творческой активности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авяно–греко–латинская академия в Москве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276720" y="1125360"/>
            <a:ext cx="4343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1403280" y="990720"/>
            <a:ext cx="6551640" cy="5865840"/>
            <a:chOff x="1403280" y="990720"/>
            <a:chExt cx="6551640" cy="5865840"/>
          </a:xfrm>
        </p:grpSpPr>
        <p:pic>
          <p:nvPicPr>
            <p:cNvPr id="126" name="Picture 4" descr=""/>
            <p:cNvPicPr/>
            <p:nvPr/>
          </p:nvPicPr>
          <p:blipFill>
            <a:blip r:embed="rId1"/>
            <a:stretch/>
          </p:blipFill>
          <p:spPr>
            <a:xfrm>
              <a:off x="1403280" y="990720"/>
              <a:ext cx="6551640" cy="58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"/>
            <p:cNvSpPr/>
            <p:nvPr/>
          </p:nvSpPr>
          <p:spPr>
            <a:xfrm>
              <a:off x="1403280" y="990720"/>
              <a:ext cx="655164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роке в академии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234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Учёба в Санкт-Петербурге и в Герм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2"/>
          <p:cNvGrpSpPr/>
          <p:nvPr/>
        </p:nvGrpSpPr>
        <p:grpSpPr>
          <a:xfrm>
            <a:off x="58680" y="1413000"/>
            <a:ext cx="4006800" cy="5138640"/>
            <a:chOff x="58680" y="1413000"/>
            <a:chExt cx="4006800" cy="5138640"/>
          </a:xfrm>
        </p:grpSpPr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>
              <a:off x="58680" y="1413000"/>
              <a:ext cx="400680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"/>
            <p:cNvSpPr/>
            <p:nvPr/>
          </p:nvSpPr>
          <p:spPr>
            <a:xfrm>
              <a:off x="58680" y="1413000"/>
              <a:ext cx="4006800" cy="51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32144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511360" y="225360"/>
            <a:ext cx="5754600" cy="4810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1676520" y="51814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В 1755 г. по инициативе Ломоносова был основан Московский университ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3619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20680"/>
            <a:ext cx="8229600" cy="125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Александр Васильевич Суворов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1730 – 1800 г.г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2627280" y="1628640"/>
            <a:ext cx="3517920" cy="4678560"/>
            <a:chOff x="2627280" y="1628640"/>
            <a:chExt cx="3517920" cy="4678560"/>
          </a:xfrm>
        </p:grpSpPr>
        <p:pic>
          <p:nvPicPr>
            <p:cNvPr id="143" name="Picture 3" descr=""/>
            <p:cNvPicPr/>
            <p:nvPr/>
          </p:nvPicPr>
          <p:blipFill>
            <a:blip r:embed="rId1"/>
            <a:stretch/>
          </p:blipFill>
          <p:spPr>
            <a:xfrm>
              <a:off x="2627280" y="1628640"/>
              <a:ext cx="351792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4"/>
            <p:cNvSpPr/>
            <p:nvPr/>
          </p:nvSpPr>
          <p:spPr>
            <a:xfrm>
              <a:off x="2627280" y="1628640"/>
              <a:ext cx="351792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4581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724360" y="115920"/>
            <a:ext cx="3419640" cy="4608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5724360" y="5229360"/>
            <a:ext cx="2808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лий Цез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9640" y="494172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84360" y="4869000"/>
            <a:ext cx="39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4360" y="5146560"/>
            <a:ext cx="367164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андр Македо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впере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брагим Петрович Ганниба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050920" y="1533600"/>
            <a:ext cx="482616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475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857160" y="5000760"/>
            <a:ext cx="7429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еход Суворова через горное ущ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333000"/>
            <a:ext cx="85186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50920" y="23760"/>
            <a:ext cx="889308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5072040" y="2143080"/>
            <a:ext cx="3643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ход Суворова Через Альп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.И. Сур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 Николаевич Толс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28 – 1910 г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6096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79640" y="333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-усадьба Л.Н.Толстого в Ясной Поля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снополянской школе во время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67564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1. Учень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труд рядом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 Учень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– свет, а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. Учить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сегда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Век живи,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 Красна птица пером, а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6. Учить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когда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424720" cy="446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. Учень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труд рядом 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. Учень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вет, а неученье –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. Учить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сегда приго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Век живи, век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чис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Красна птица пером, а челове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чень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6. Учить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поз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52280" y="1066680"/>
            <a:ext cx="403884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1711 – 1765 г.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Великий учёный, историк, химик, механик, физик, художник, поэ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4529160" y="457200"/>
            <a:ext cx="4243320" cy="5942160"/>
            <a:chOff x="4529160" y="457200"/>
            <a:chExt cx="4243320" cy="594216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4529160" y="457200"/>
              <a:ext cx="4243320" cy="594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4529160" y="457200"/>
              <a:ext cx="4243320" cy="59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533520" y="1522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рыбацкой деревушке Денисовка, на севере России, родился Михаил Васильевич Ломон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708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 rot="10800000">
            <a:off x="1068120" y="-277920"/>
            <a:ext cx="779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800600" y="333360"/>
            <a:ext cx="396252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Первые учебники М.В.Ломоносова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«Грамматика» и «Арифметик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27080" y="333360"/>
            <a:ext cx="3795480" cy="2878200"/>
            <a:chOff x="127080" y="333360"/>
            <a:chExt cx="3795480" cy="287820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127080" y="333360"/>
              <a:ext cx="379548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5"/>
            <p:cNvSpPr/>
            <p:nvPr/>
          </p:nvSpPr>
          <p:spPr>
            <a:xfrm>
              <a:off x="127080" y="333360"/>
              <a:ext cx="379548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35179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ь Михайло Ломоносова из Холмогор в Москв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743200" cy="4824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811680" cy="47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8:35:33Z</dcterms:created>
  <dc:creator>Иванов</dc:creator>
  <dc:description/>
  <dc:language>en-US</dc:language>
  <cp:lastModifiedBy>Иванов</cp:lastModifiedBy>
  <dcterms:modified xsi:type="dcterms:W3CDTF">2014-11-03T17:05:20Z</dcterms:modified>
  <cp:revision>12</cp:revision>
  <dc:subject/>
  <dc:title>Пословицы</dc:title>
</cp:coreProperties>
</file>