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009-EC7C-46AD-A18C-EF821181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048-E226-4799-BA69-9BD9385A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427-F6F0-4F5F-912F-5B55F32E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2A5-8A68-4BB3-B5AD-76EFF8FA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304D-C765-4298-A482-9DD8B4DC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1592-87F0-422F-A2EE-C287C061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9BAA-CCDE-4AC5-BE08-AE978073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A758-94A2-41C4-BD63-E86298EE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23D3-E2B1-4C9C-B402-F74378DF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541B-E26A-48E4-96AE-2331A947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0AC6-5F7E-4308-9250-567EE581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CEA-832D-4008-8AFC-476BA97D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8EDE-2BCD-4A58-A4CE-3CBD19B3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5DC8-AB71-4C6D-919A-0BE56F82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D39B-18D0-42F9-A3B7-4E222701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89A8-6BE5-4ABF-B97D-7C3834C4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41D6-0686-4103-8D8A-12F786A6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9DE-0718-4169-8631-241F61A5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703-BA4F-4851-8ACD-C5DE2D63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53C-ACA6-4D56-B490-D0E10132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71D-9E7B-4776-A645-B6613F1C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537-5432-4062-A297-107C248C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0FE-0E18-40DD-9DF3-BA71C9AC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993-21FD-49F5-883C-7C1E0EFA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9F5C-80A2-4B4D-9B85-CF031DB4DE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6E38-99B2-4B1B-9876-5D8738D6DB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1640" y="1523880"/>
            <a:ext cx="72054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</a:rPr>
              <a:t>Презентация на  тему: </a:t>
            </a:r>
            <a:br>
              <a:rPr sz="5000"/>
            </a:br>
            <a:br>
              <a:rPr sz="5000"/>
            </a:br>
            <a:r>
              <a:rPr b="1" i="1" lang="ru-RU" sz="5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5000" spc="-1" strike="noStrike" u="sng">
                <a:solidFill>
                  <a:srgbClr val="961c04"/>
                </a:solidFill>
                <a:uFillTx/>
                <a:latin typeface="Times New Roman"/>
              </a:rPr>
              <a:t>«Княгиня    Ольга»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 advTm="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ление 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4762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61c04"/>
                </a:solidFill>
                <a:latin typeface="Times New Roman"/>
              </a:rPr>
              <a:t>В 947  году  Ольга установила на своей   земле  оброки  и дани, сделала  систему  погостов - центров торговли и обмена, в которых более упорядоченно происходил сбор податей; затем по погостам стали строить храмы. Она установила точный размер взимаемой в пользу Киева дани. 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61c04"/>
                </a:solidFill>
                <a:latin typeface="Times New Roman"/>
              </a:rPr>
              <a:t>Подвластные Киеву земли оказались поделены на административные единицы, в каждой из которых был поставлен княжеский администратор</a:t>
            </a:r>
            <a:r>
              <a:rPr b="0" lang="ru-RU" sz="1700" spc="-1" strike="noStrike">
                <a:solidFill>
                  <a:srgbClr val="961c04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61c04"/>
                </a:solidFill>
                <a:latin typeface="Times New Roman"/>
              </a:rPr>
              <a:t>Княгиня Ольга положила начало каменному градостроительству на Руси.</a:t>
            </a:r>
            <a:r>
              <a:rPr b="0" lang="ru-RU" sz="3000" spc="-1" strike="noStrike">
                <a:solidFill>
                  <a:srgbClr val="961c04"/>
                </a:solidFill>
                <a:latin typeface="Arial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435640" y="549360"/>
            <a:ext cx="3137040" cy="5257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3657600" cy="2016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59036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61c04"/>
                </a:solidFill>
                <a:latin typeface="Times New Roman"/>
              </a:rPr>
              <a:t>По ПВЛ в  Константинополе, в 955 году  было  проведено крещение  Оль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61c04"/>
                </a:solidFill>
                <a:latin typeface="Times New Roman"/>
              </a:rPr>
              <a:t>По византийским  летописям  Ольга  была  крещена  во время второго визита Константинополь, 18 сентября 957 Романом </a:t>
            </a:r>
            <a:r>
              <a:rPr b="1" i="1" lang="en-US" sz="2000" spc="-1" strike="noStrike">
                <a:solidFill>
                  <a:srgbClr val="961c04"/>
                </a:solidFill>
                <a:latin typeface="Times New Roman"/>
              </a:rPr>
              <a:t>II</a:t>
            </a:r>
            <a:r>
              <a:rPr b="1" i="1" lang="ru-RU" sz="2000" spc="-1" strike="noStrike">
                <a:solidFill>
                  <a:srgbClr val="961c04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61c04"/>
                </a:solidFill>
                <a:latin typeface="Times New Roman"/>
              </a:rPr>
              <a:t>В 969 году  Ольгу  похоронили по христианскому  обычаю в  земл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61c04"/>
                </a:solidFill>
                <a:latin typeface="Times New Roman"/>
              </a:rPr>
              <a:t>В годы  княжения Владимира, ее внука, Ольга  стала  почитаться  как  святая , а в  1547 году  причислена к  лику  святой  равноапосто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469960" cy="590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1403280" y="4005360"/>
            <a:ext cx="2664000" cy="2160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Garamond"/>
              </a:rPr>
              <a:t>Крещ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 advTm="9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6121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дание нарекло Ольгу Хитрою, Церковь Святою, История Мудрою. Отомстив древлянам, она умела соблюсти тишину в стране своей и  с деятельностью великого мужа учреждала порядок в государстве обширном и новом; не писала, может быть, законов, но давала уставы, самые простые и самые нужные. Создала налоговую систему. Великие князья до времен Ольгиных воевали, она правила государством. Уверенный в ее мудрости, Святослав и в мужеских летах своих оставлял ей, кажется, внутреннее правление, беспрестанно занимаясь войнами, которые удаляли его от столицы. - При Ольге Россия стала известной и в самых отдаленных странах Европы. Сделавшись ревностною христианкою, Ольга - по выражению Нестора, денница и луна спасения - служила убедительным примером для внука своего Владимира и предуготовила торжество истинной веры в нашем Отечестве.</a:t>
            </a:r>
            <a:r>
              <a:rPr b="0" lang="ru-RU" sz="4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9120" y="333000"/>
            <a:ext cx="799452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и 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2195640" cy="6121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Памятник Княгине Ольги в Киев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Picture 2" descr="http://www.kievtown.net/img/princess_olga_3.jpg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504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kievtown.net/img/princess_olga_2.jpg"/>
          <p:cNvPicPr/>
          <p:nvPr/>
        </p:nvPicPr>
        <p:blipFill>
          <a:blip r:embed="rId2"/>
          <a:stretch/>
        </p:blipFill>
        <p:spPr>
          <a:xfrm>
            <a:off x="4129200" y="1052640"/>
            <a:ext cx="455760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Храм святой княгини Ольги в Киеве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Рисунок 2" descr="http://churchs.kiev.ua/images/stories/Hrams/UPC/Olginskij_Harkovskij.jpg"/>
          <p:cNvPicPr/>
          <p:nvPr/>
        </p:nvPicPr>
        <p:blipFill>
          <a:blip r:embed="rId1"/>
          <a:stretch/>
        </p:blipFill>
        <p:spPr>
          <a:xfrm>
            <a:off x="539640" y="1341360"/>
            <a:ext cx="8147160" cy="4751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inux Libertine"/>
              </a:rPr>
              <a:t>Памятник Княгине Ольге в </a:t>
            </a:r>
            <a:r>
              <a:rPr b="0" lang="ru-RU" sz="4000" spc="-1" strike="noStrike">
                <a:solidFill>
                  <a:srgbClr val="000000"/>
                </a:solidFill>
                <a:latin typeface="Linux Libertine"/>
              </a:rPr>
              <a:t>Пскове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457200" y="917640"/>
            <a:ext cx="3827520" cy="5143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3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259160" cy="50799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36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Спасибо за просмотр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 advTm="3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Введение.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1052640"/>
            <a:ext cx="669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Garamond"/>
              </a:rPr>
              <a:t>Княгиня Ольга (~890-969) - Великая Княжна, вдова убитого древлянами Великого Князя Игоря Рюриковича, что правила Русью за малолетством их сына Святослава. Имя Княгини Ольги находится в истоке русской истории, и связано с величайшими событиями основания первой династии, с первым утверждением на Руси христианства и ярких черт западной циви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Garamond"/>
              </a:rPr>
              <a:t>   </a:t>
            </a:r>
            <a:r>
              <a:rPr b="1" lang="ru-RU" sz="1800" spc="-1" strike="noStrike">
                <a:solidFill>
                  <a:srgbClr val="262626"/>
                </a:solidFill>
                <a:latin typeface="Garamond"/>
              </a:rPr>
              <a:t>Первые правители Руси - полусказочный Рюрик и его сын Игорь были варягами, т.е. иноземцами на Руси, также как и стоящий между ними их сородич Вещий Олег, правивший Русью за малолетством Игоря Рюриковича. Эта была порода скандинавских завоевателей, грабивших тогда и захвативших много земель в Европе. До Ольги династия Рюрика не была для Руси родной, а, наоборот, совершенно чужой, если верить в добровольное со стороны Новгорода призвание варяжских князей. Только в лице Княгини Ольги, прирожденной славянки, изначально варяжская династия ославянивается, делается единокровной со своим нар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Ордена 21 Знак отличия Святой равноапостольной княгини Ольги * Форум о журнальных коллекциях Деагостини, Ашет, Eaglemoss"/>
          <p:cNvPicPr/>
          <p:nvPr/>
        </p:nvPicPr>
        <p:blipFill>
          <a:blip r:embed="rId1"/>
          <a:stretch/>
        </p:blipFill>
        <p:spPr>
          <a:xfrm>
            <a:off x="324000" y="1125360"/>
            <a:ext cx="199692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Происхождение</a:t>
            </a: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554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61c04"/>
                </a:solidFill>
                <a:latin typeface="Times New Roman"/>
              </a:rPr>
              <a:t>       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Из «Повести Временных Лет»: </a:t>
            </a:r>
            <a:r>
              <a:rPr b="1" i="1" lang="ru-RU" sz="2200" spc="-1" strike="noStrike">
                <a:solidFill>
                  <a:srgbClr val="961c04"/>
                </a:solidFill>
                <a:latin typeface="Times New Roman"/>
              </a:rPr>
              <a:t>Ольга  родилась в  Псковской  области  , рода  она  была  не знатного, варяжского. Так же  это подтверждается  ее  именем «Ольг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61c04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961c04"/>
                </a:solidFill>
                <a:latin typeface="Times New Roman"/>
              </a:rPr>
              <a:t>Так же  болгарские историк выдвигали  версию о болгарских  корнях  Ольги , опираясь на  то, что древнеславянской  транскрипции  города  Псков  и  болгарский  город Плесков  совпадали , но это уже  вышло из употреб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Более  поздний  Пискаревский  летописец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200" spc="-1" strike="noStrike">
                <a:solidFill>
                  <a:srgbClr val="961c04"/>
                </a:solidFill>
                <a:latin typeface="Times New Roman"/>
              </a:rPr>
              <a:t>передает  слух  о  том, что она  было  дочерью Вещего Олега, куратора князя  Игоря  в  последствие  ставшим ее муж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857320" cy="4257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</a:rPr>
              <a:t>Брак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7850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61c04"/>
                </a:solidFill>
                <a:latin typeface="Times New Roman"/>
              </a:rPr>
              <a:t>По  писанию ПВЛ  Ольга с  Игорем  поженились в 903 году, но это очень  мало вероятно, так как сын, Святослав  родился  в 942. после  свадьбы  имя  Ольги  упоминалось в хронологиях только через 40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03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Легенда  о знакомств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61c04"/>
                </a:solidFill>
                <a:latin typeface="Times New Roman"/>
              </a:rPr>
              <a:t> </a:t>
            </a:r>
            <a:r>
              <a:rPr b="1" i="1" lang="ru-RU" sz="2500" spc="-1" strike="noStrike">
                <a:solidFill>
                  <a:srgbClr val="961c04"/>
                </a:solidFill>
                <a:latin typeface="Times New Roman"/>
              </a:rPr>
              <a:t>Князь охотился в тамошних местах. Переправляясь через реку на лодке, он заметил, что перевозчиком была юная девушка, переодетая в мужскую одежду. Игорь тотчас же «разгорелся желанием» и стал приставать к ней, однако получил в ответ достойную отповедь: «Зачем смущаешь меня, княже, нескромными словами?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 Пусть я молода и незнатна, и одна здесь, но знай: лучше для меня броситься в реку, чем стерпеть поругание». </a:t>
            </a:r>
            <a:r>
              <a:rPr b="1" i="1" lang="ru-RU" sz="2500" spc="-1" strike="noStrike">
                <a:solidFill>
                  <a:srgbClr val="961c04"/>
                </a:solidFill>
                <a:latin typeface="Times New Roman"/>
              </a:rPr>
              <a:t>О случайном знакомстве Игорь вспомнил, когда пришло время искать себе невесту, и послал Олега за полюбившейся девушкой, не желая никакой другой жен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146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Начало  прав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61c04"/>
                </a:solidFill>
                <a:latin typeface="Times New Roman"/>
              </a:rPr>
              <a:t>В  945  году  Игорь  погиб  от древлян  при взятии  у  них  дани. Святославу  было всего три года и Ольга с этого времени стала  признанным  правителем 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61c04"/>
                </a:solidFill>
                <a:latin typeface="Times New Roman"/>
              </a:rPr>
              <a:t>Ольга правила государством с 945-957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769080" cy="3976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84872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Месть  древлянам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61c04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961c04"/>
                </a:solidFill>
                <a:latin typeface="Times New Roman"/>
              </a:rPr>
              <a:t>После смерти Игоря , Ольга  мстила древлянам, по требованию языческих обыч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-я месть </a:t>
            </a:r>
            <a:r>
              <a:rPr b="1" i="1" lang="ru-RU" sz="2000" spc="-1" strike="noStrike">
                <a:solidFill>
                  <a:srgbClr val="961c04"/>
                </a:solidFill>
                <a:latin typeface="Times New Roman"/>
              </a:rPr>
              <a:t>княгини Ольги: сваты, 20 древлян, прибыли в ладье, которую киевляне отнесли и бросили в глубокую яму на дворе терема Ольги. Сватов-послов закопали живьем вместе с ладьёй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2206800" y="2637000"/>
            <a:ext cx="4371840" cy="3528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Месть  Древляна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76500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2-я месть</a:t>
            </a:r>
            <a:r>
              <a:rPr b="1" i="1" lang="ru-RU" sz="1700" spc="-1" strike="noStrike">
                <a:solidFill>
                  <a:srgbClr val="961c04"/>
                </a:solidFill>
                <a:latin typeface="Times New Roman"/>
              </a:rPr>
              <a:t>: Ольга попросила для уважения прислать к ней новых послов из лучших мужей, что и было с охотой исполнено древлянами. Посольство из знатных древлян сожгли в бане, пока те мылись, готовясь к встрече с княгине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5373360"/>
            <a:ext cx="878544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3-я месть</a:t>
            </a:r>
            <a:r>
              <a:rPr b="1" i="1" lang="ru-RU" sz="1700" spc="-1" strike="noStrike">
                <a:solidFill>
                  <a:srgbClr val="961c04"/>
                </a:solidFill>
                <a:latin typeface="Times New Roman"/>
              </a:rPr>
              <a:t>: Княгиня с небольшой дружиной приехала в земли древлян, чтобы по обычаю справить тризну на могиле мужа. Опоив во время тризны древлян, Ольга велела рубить их. Летопись сообщает о 5 тысячах перебитых древля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769080" cy="32097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4020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Месть  древляна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562752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4-я месть</a:t>
            </a:r>
            <a:r>
              <a:rPr b="1" i="1" lang="ru-RU" sz="2200" spc="-1" strike="noStrike">
                <a:solidFill>
                  <a:srgbClr val="961c04"/>
                </a:solidFill>
                <a:latin typeface="Times New Roman"/>
              </a:rPr>
              <a:t>: В 946 году  Ольга вышла с войском в поход на древлян. Безуспешно пыталась  осадить город в  течение  лета, и победила в  бою  при  помощи  птиц, к которым велела привязать зажигательные средства. Часть защитников Искоростеня были перебиты, остальные покорились.</a:t>
            </a:r>
            <a:r>
              <a:rPr b="1" i="1" lang="ru-RU" sz="2600" spc="-1" strike="noStrike">
                <a:solidFill>
                  <a:srgbClr val="961c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566800" cy="4508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4932360" cy="237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8:45:41Z</dcterms:created>
  <dc:creator>красотка</dc:creator>
  <dc:description/>
  <dc:language>en-US</dc:language>
  <cp:lastModifiedBy>Oly</cp:lastModifiedBy>
  <dcterms:modified xsi:type="dcterms:W3CDTF">2014-10-21T14:45:56Z</dcterms:modified>
  <cp:revision>26</cp:revision>
  <dc:subject/>
  <dc:title>Презентация  по   теме: «Княгиня  Ольга» </dc:title>
</cp:coreProperties>
</file>