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57360"/>
            <a:ext cx="9143640" cy="5300280"/>
            <a:chOff x="0" y="1557360"/>
            <a:chExt cx="9143640" cy="5300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0" t="0" r="27345" b="11443"/>
            <a:stretch/>
          </p:blipFill>
          <p:spPr>
            <a:xfrm>
              <a:off x="6312600" y="2238120"/>
              <a:ext cx="2831040" cy="46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586480"/>
              <a:ext cx="3983400" cy="31248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4391280" cy="3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63360">
            <a:solidFill>
              <a:srgbClr val="7a5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2" name="" descr=""/>
            <p:cNvPicPr/>
            <p:nvPr/>
          </p:nvPicPr>
          <p:blipFill>
            <a:blip r:embed="rId2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63360">
            <a:solidFill>
              <a:srgbClr val="7a5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8;&#1079;&#1086;&#1073;&#1088;&#1072;&#1078;&#1077;&#1085;&#1080;&#1077;:Albrecht_D&#252;rer_-_Melencolia_I_%28detail%29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32940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При археологических раскопках в Китае и Индии были найдены квадратные амулеты. Квадрат разделен на девять квадратиков, в каждом из которых написано по одному числу от 1 до 9. Замечательно, что суммы чисел в каждой строке, в каждом столбце и каждой из двух диагоналей были равны одному и тому же числу 15. Такие квадраты стали называть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магическими.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rot="21359400">
            <a:off x="1692000" y="422100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24360" y="4005360"/>
          <a:ext cx="2303280" cy="1925280"/>
        </p:xfrm>
        <a:graphic>
          <a:graphicData uri="http://schemas.openxmlformats.org/drawingml/2006/table">
            <a:tbl>
              <a:tblPr/>
              <a:tblGrid>
                <a:gridCol w="767520"/>
                <a:gridCol w="767880"/>
                <a:gridCol w="767880"/>
              </a:tblGrid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22480" cy="4753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87" name="" descr="Фрагмент гравюры Дюрера «Меланхолия»">
            <a:hlinkClick r:id="rId2"/>
          </p:cNvPr>
          <p:cNvPicPr/>
          <p:nvPr/>
        </p:nvPicPr>
        <p:blipFill>
          <a:blip r:embed="rId3"/>
          <a:stretch/>
        </p:blipFill>
        <p:spPr>
          <a:xfrm rot="21085200">
            <a:off x="2700000" y="4365360"/>
            <a:ext cx="1876320" cy="1944720"/>
          </a:xfrm>
          <a:prstGeom prst="rect">
            <a:avLst/>
          </a:prstGeom>
          <a:ln w="76320">
            <a:solidFill>
              <a:srgbClr val="7a5100"/>
            </a:solidFill>
            <a:miter/>
          </a:ln>
          <a:effectLst>
            <a:outerShdw dist="153753" dir="2700000" blurRad="0" rotWithShape="0">
              <a:srgbClr val="9c8662">
                <a:alpha val="50000"/>
              </a:srgbClr>
            </a:outerShdw>
          </a:effectLst>
        </p:spPr>
      </p:pic>
      <p:sp>
        <p:nvSpPr>
          <p:cNvPr id="88" name=""/>
          <p:cNvSpPr/>
          <p:nvPr/>
        </p:nvSpPr>
        <p:spPr>
          <a:xfrm>
            <a:off x="363600" y="2822400"/>
            <a:ext cx="1736640" cy="360"/>
          </a:xfrm>
          <a:prstGeom prst="rect">
            <a:avLst/>
          </a:prstGeom>
          <a:solidFill>
            <a:srgbClr val="d8b1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556200"/>
            <a:ext cx="4608720" cy="4483080"/>
          </a:xfrm>
          <a:prstGeom prst="rect">
            <a:avLst/>
          </a:prstGeom>
          <a:gradFill rotWithShape="0">
            <a:gsLst>
              <a:gs pos="0">
                <a:srgbClr val="cdc2af"/>
              </a:gs>
              <a:gs pos="50000">
                <a:srgbClr val="e4e1d7"/>
              </a:gs>
              <a:gs pos="100000">
                <a:srgbClr val="cdc2af"/>
              </a:gs>
            </a:gsLst>
            <a:lin ang="13500000"/>
          </a:gra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В древности магические квадраты очень уважали и приписывали им различные мистические свойства. Говорят, если надо было решиться на какое-то опасное дело, их с магическими целями рисовали на бумажке и съедали. Такое же кушанье предлагали в качестве панацеи от всех болезней. Бытовало поверье, что выгравированный на серебре магический квадрат защищает от чумы. Даже сегодня среди атрибутов европейских прорицателей можно увидеть магические квадра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544392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.Дюрера, гравюра «Меланхолия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(15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22:15Z</dcterms:created>
  <dc:creator/>
  <dc:description/>
  <cp:keywords/>
  <dc:language>en-US</dc:language>
  <cp:lastModifiedBy>Admin</cp:lastModifiedBy>
  <dcterms:modified xsi:type="dcterms:W3CDTF">2010-04-15T17:15:40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