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A87BD-A92E-40A3-925C-5B22488CD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06015-21CF-4187-9AD8-2BE73C1A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97346-0E14-4908-9972-9B84089B7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EF3A7-3A77-44DD-BFC5-354C6CFB0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4DEB-0532-4493-BBC5-62AD7B5AE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028D-4079-4AAB-A6E3-79084484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7B38-8DD1-40A8-8926-7D563AC5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34F1-9DEE-4A84-AA63-D985672E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ABB1-8BC1-4E90-B886-BDAF8B9B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3196-6A69-4E44-B820-C0E1C5C4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7E81-5442-4B50-847F-50C6D0BC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F4EFD-1404-4BCD-A398-13EADF9D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2928-F37D-4AE4-BDBA-E13642AE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9C62-EFA5-4959-8ABC-5CD3D3CE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6569-F595-4085-8428-B01D62A2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09D3-3CA5-48E9-9922-B24AFAA6E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2A72-6A3F-4E25-A0D2-C59C5B710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99E85-8AB0-4E6A-9854-7F5897DE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6A584-784A-4DDA-9D0C-FF85E7FA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BFCCC-7DAA-4843-9D6D-EE0172AA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630AF-751D-4970-9E1D-36C1CA51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0394C-93D6-4004-B9E2-6CF5F863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9AF48-B189-48AB-9425-99AE7318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819D9-9697-4EF0-B8D3-EF695A54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5B78-8E32-4644-B22B-5418A7BDFD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CF0B-399E-45F6-B1A2-5506CF99A9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Педагогический совет: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«Как избежать насилие в школе и семье, или воспитание милосердия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Экономическое насил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спользование денег для контролирования партнёра, при этом деньги отбирают, выдают партнёру определённые суммы как пособие, заставляют отчитываться за любые трат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Анкетирование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К педагогическому совету было проведено анкетирование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среди учащихся 2-4 классов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30 анкет)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5-9 классов (60 анкет)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-11 классов (50 анкет)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родителей (30 анкет)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11280" y="33336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Анкета для учащихся 2 - 4 классов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00000" y="1484280"/>
            <a:ext cx="777744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сили ли у вас деньги старшеклассники в школ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а Н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Били ли вас старшеклассник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Да.  Н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Наказывают ли вас за плохие оценки,  плохое поведени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ома           Да              н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 школе        Да         н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 Как бороться с насилием над детьми в школ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) проводить классные часы по данной проблем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) улучшить контроль за поведением учащихся со стороны учител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) свой ответ: установить скрытые каме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. Нужна ли служба помощи в школе жертвам насил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а Н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404640"/>
            <a:ext cx="7920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189000"/>
            <a:ext cx="8135640" cy="80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Результаты анкет 2-4 классов.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% -  детей ответили, что у них просили деньги старшеклассни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 - нет не би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%  - детей наказывают дома родители за плохие оценки, повед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  - школьников считают, что нужно больше  проводить классных часов  по проблеме насил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ыли предложения по установлению скрытых камер в школ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  - школьников считают, что надо усилить контроль за поведением учащихс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99% считают, что  служба помощи в школе жертвам насилия нужн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4920" y="-243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       </a:t>
            </a: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Анкета 5-9 классов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148428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669960"/>
            <a:ext cx="8820000" cy="62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уществует ли проблема насилия в школе?          В семь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Да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Нет                                                                     Да   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Н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Какие формы насилия в школе встречаются чаще всего: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А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изическое; Б) психологическое; В) сексуальное; Г) экономическое; Д) свой вариан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Становились ли Вы жертвой насилия в нашей школе?      Дом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а       Нет                                                                     Да          Н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 Какие варианты решения проблемы насилия в школе вы предлагает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 обсуждение на классных часах проблемы насил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 ужесточения дисциплины в школ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) улучшения контроля и надзора за поведением учащихс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) свой вариан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 Видите ли Вы необходимость в создании социальной службы в помощь жертвам насилия?      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547640" y="260280"/>
            <a:ext cx="64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Обработка результатов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148428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907920"/>
            <a:ext cx="813744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6% - детей ответили: насилие в школе существует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%- детей ответили, что    дома насилия не существуе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% - Преобладает в школе физическое насил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% - детей становились жертвами насилия в школ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ешение проблемы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5% детей ответили, что нужно обсуждать на классных часах проблему насил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% -  детей ответили, что нужно улучшить контроль и надзор за поведением учащихс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%  - детей считают, что социальная служба помощи нужна в школе жертвам насил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Garamond"/>
              </a:rPr>
              <a:t>Анкета «недописанный тезис» для учащихся 10–11 классов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1628640"/>
            <a:ext cx="749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71640" y="1773360"/>
            <a:ext cx="7510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Насилие – это….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унижение челове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 Физическое насилие – это поведение, направленное…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против челове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 Психологическое – это насилие, причиняющее обиду…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и унижение человек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 Экономическое насилие – это насилие, направленное на то, чтобы…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сломать челове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. Сексуальное насилие – это принуждение…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к половому акту без согласия партне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. Запугивание – это…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ложное выражение самоуважения и уважения други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164360" y="595008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380360" y="5734080"/>
            <a:ext cx="1547640" cy="89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Анкета для родителей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огласны ли Вы, что проблема насилия в школе существует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 какими видами насилия сталкивался Ваш ребёнок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бсуждались ли проблемы насилия в вашей семь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 чём вы видите основные причины проявления различных видов насилия среди учащихся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Какие варианты решений проблемы по преодоления насилия в школе Вы предлагает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Анализ анкет родителей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0% - считают, что насилие в школе существуют, 50% - родителей, считают, что насилия в школе нет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иды насилия: психическое, физическо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98% родителей обсуждают проблемы насилия в семь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Главными причинами проявления насилия отметили: 10% невоспитанность детей; 20% плохое поведение детей; 40% материальное неравенство, неблагополучие и насилие в семье со стороны родителей или старших детей; 20% неверная самооценка, унизить другого, значит ты сильнее, агрессивность детей; 10% влияние телевизор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Какие варианты решений проблемы по преодоления насилия в школе Вы предлагаете?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Взрослым необходимо быть добрее, правдивее, требовательнее, строже. Необходимо учить детей доверять взрослы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Родителям быть во всём примером для своих детей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ересмотр правительства на телевизионные программы, установить цензуры на центральных каналах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Усиление роли психолога в школе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К проблеме насилия подходить всем вместе: школе и семь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Вовлечение детей во всевозможные кружки, спортивные секции, мероприятия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Усилить надзор и контроль, дисциплину в школе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Обсуждение в классе проблем насил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Чаще беседовать в семье с ребёнком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Эпиграф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«Разумное и нравственное всегда совпадают» (Л.Н. Толстой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«Издевательство над чужими страданиями не должно быть прощаемо» (А.П. Чехов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«Люди, я прошу вас, ради Бога, не стесняйтесь доброты своей» (Р. Гамзатов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роблема насилия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рограмма вмешательства в школьное насилие, используемая в школах Норвегии педагогом и психологом Д. Олвеусо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 ней выдвинуто четыре основных принцип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здавать школьную среду, характеризующуюся теплом, положительным интересом и участием взрослых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станавливать ограничение на неприемлемое поведени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следовательно применять санкции и строгие наказания против насил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частвовать взрослым в качестве представителей школьной власт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рограмма Э. Роланда.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психолог из Норвегии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Эффективно чтение и обсуждение в классе рассказов или историй о тех или иных фактах насил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Учащиеся описывают в небольших сочинениях то, что, по их мнению, чувствуют жертвы насилия, что они эмоционально переживают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едлагаются ролевые игры, в которых разыгрываются поведения задиры и жертвы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бсуждение этой проблематике на классных собрания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ыскажи своё мнения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Задание для всех: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Выскажи своё мнение об этих программах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Внимание задания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Уважаемые коллеги! Напишите у себя на листочках, какие качества вы бы желали увидеть у ваших детей, какие нет?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время 5 минут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«Милосердие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Есть ли в ваших ответах слово «милосердие»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а каком оно мест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ак вы понимаете значение этого слова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очему милосердие было предано забвению, считается ли это нравственное качество актуальным сегодня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Можно ли доброту отождествлять с милосердием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Любовь и сострадание к людям является главными показателями проявления милосердия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 беседах с детьми по нравственным вопросам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Л. Толстой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писал: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«Чем добрее бывает жизнь человека, тем больше бывает в нём разума. А чем разумнее человек, тем добрее бывает жизнь человека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4960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Постарайся полюбить того, кого ты не любил, кто обидел тебя… На душе бывает особенно хорошо, когда вместо злобы и досады почувствуешь любовь.. Для того, чтобы не делать злых дел, надо удерживаться не только от  самих дел, но и от злых разговоров. Корень злых дел в дурных мыслях… Никогда не откладывай доброго дела, если можешь сделать его нынче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Создать и защитить программу: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 Как избежать насилие в семье. Несколько необходимых шагов в воспитании милосердия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 Как избежать насилие в школе. Несколько необходимых шагов в воспитании милосердия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Работа в группах 20 мину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Время выступление от групп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Группы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одителей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«Как избежать насилие в семье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Детей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«Как избежать насилие в семье или школе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ШМО классных руководителей 1-4 класс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«Как избежать насилие в семье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ШМО классных руководителей 5-8 класс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«Как избежать насилие в школе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ШМО классных руководителей 9-11 класс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«Как избежать насилие в школе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лужбы школы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«Как избежать насилие в семье и школе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Создать и защитить программу: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 Как избежать насилие в семье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есколько необходимых шагов в воспитании милосердия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 Как избежать насилие в школе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есколько необходимых шагов в воспитании милосердия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Работа в группах 20 мину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Время выступление от групп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иды насилия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Физическое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сихологическое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ексуальное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Экономическое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руги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Заключение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ейчас вместо обычного решения, мы предлагаем вам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имерную программу по преодолению насилия в школ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амятку для родителей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амятку для учащихс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нимательно прочтите её. Как вы считаете актуальна сегодня для нашей школы такая программа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инятие реш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рограмма по предупреждению насилия в школе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Включить в план работы с классным коллективом беседы на этические темы. В том числе обзор материалов периодической печати на нравственные тем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На классных часах изучить гражданский кодекс РФ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ланировать анализ художественных фильмов и прочитанных книг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роводить сюжетно-ролевые игры с учащимися по предупреждению насилия в школ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Обсудить «Правила учащихся», разработать и обсудить «Кодекс чести ученика» и памятки поведения учащихся в школе и общественных местах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Активнее вовлекать учащихся из школьного самоуправления в проведении классных часов, бесед по нравственному воспитанию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05032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Учителям, родителям, старшеклассникам наблюдать за школьниками младших классов с целью предотвращения актов насилия, оказания помощи жертвам насилия и применения наказания по отношению к нарушителям дисциплин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ресс – центру школы освещать в школьной газете проблемы насилия в школ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Сделать в рекреации школы. «Советы и назидания великих», где помещать афоризмы, крылатые слова классиков мировой литературы о поступках, манерах поведения, о достоинствах и недостатках человек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Школьному психологу спланировать индивидуальную и групповую работу с учащимися по данной тем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Школьному психологу разработать тренинги для учителей по умению владеть собой в критических ситуациях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Выносить вопросы педагогики ненасилия и воспитания милосердия на заседания ШМО классных руководителе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Всегда и везде пресекать проявления разных видов насилия с любой стороны. Никогда не забывать о педагогической этик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рограмма для родителей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Создайте дома среду, характеризующуюся теплом, положительным интересом и участием взрослых членов семьи к детя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Не используйте метод угроз и запугивания детей в решении домашних пробле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Не опускайтесь до взаимных оскорблений и резких обвинений в адрес друг друга и дете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омните, что психологическое насилие (т.е. унижение чувства собственного достоинства, словесные оскорбления, грубость по отношению к детям) способно глубоко ранить ребёнк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Не используйте экономическое насилие к членам семь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79786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тарайтесь никогда не применять физическое насилие к кому бы то ни было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Заведите дома рыбок, хомячка, собаку, кошку или других животных. Помогите ребёнку в воспитании братьев наших меньши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Учите детей заботиться о младших, о пожилых людях, о больных и немощны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екомендуйте детям читать настоящую художественную литературу, помогайте им развивать хороший вкус в выборе видеофильмов. Читайте вместе с детьм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Искренне любите детей. Помните, что «лаской всегда добьёшься больше, чем грубой силой». В.А. Сухомлинский говорил: «Ребёнок ненавидит того, кто бьёт». Помните о личном примере. Будьте во всём образцом своим детям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амятка учащимся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Дорогой друг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Всегда и везде помни об основных нормах нравственности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Обязанности человека делятся на четыре рода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Обязанности перед самим собой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перед семьёй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Перед государством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перед другими людьми вообщ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Ты живёшь среди людей. Не забывай, что каждый твой поступок, каждое твоё желание отражается на окружающих тебя людях. Знай, что существует граница между тем, что тебе хочется, и тем, что можно. Проверяй свои поступки вопросом к самому себе: не делаешь ли ты зла, неудобства людям? Делай всё так, чтобы людям, окружающим тебя, было хорошо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783432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Ты пользуешься благами, созданными другими людьми. Люди дают тебе счастья детства. Плати им за это добро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се блага  и радости жизни создаются трудом. Без труда нельзя честно жить. Народ учит: кто не работает, тот не ест. Навсегда запомни эту заповедь. Лодырь – это трутень, пожирающий мёд трудолюбивых пчёл. Учение – твой первый труд. Идя в школу, ты идёшь на работ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будь добрым и чутким к людям. Помогай слабым и беззащитным. Помогай товарищам в беде. Не причиняй людям зла, уважай и почитай мать и отца – они дали тебе жизнь, они воспитываю тебя, они хотят, чтобы ты стал честным гражданином, человеком с добрым сердцем и чистой душо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Не будь равнодушен к злу. Борись против зла, обмана, несправедливости. Будь непримирим к тому, кто стремится жить за счёт других людей, причиняет зло другим людям, обкрадывает общество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Люби людей, если хочешь, чтобы люди тебя любил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Решение педагогического совет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Обязать классных руководителей сделать коррекцию и  включить с 14 января в воспитательные планы или  системы программу по преодолению насилия в семье и школе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Классным руководителям на классных часах, родительских собраниях ознакомить учащихся, родителей с предложенными памятками, объяснить необходимость их исполнен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Классным руководителям при анализе воспитательной работы с классом прописывать результаты реализации в классе данной программ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Контроль за исполнением данного решения возложить на заместителя директора по воспитательной работ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ыдержка из журналов и газет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«В одной из школ после того как учитель отобрал мобильный телефон у ученика десятого класса, последний встал, вышел в коридор и оттуда с телефона друга позвонил родителям. Через несколько минут в класс вошёл директор школы и распорядился вернуть телефон ученику. Оказалось, ей позвонили родители и сообщили, что если телефон немедленно не вернут, то в школу придёт милиция с их заявлением о факте хищения телефона учителем»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Справочник классного руководителя №3 за 2007 год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94920" y="620280"/>
            <a:ext cx="828036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«Родители учащихся четвёртого класса были крайне недовольны учителем начальных классов – дети жаловались, что учительница грубо разговаривает с ними, кричит на них, ругая за невыполненные задание, может обозвать. Как выяснилось позже, учительница могла позволить себе грубо толкнуть ребёнка, вырвать из рук игрушку, дать подзатыльник. Родители пожаловались на учителя»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Справочник классного руководителя №1за 2007 год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иды насилия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Физическое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сихологическое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ексуальное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Экономическое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руги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Физическое насилие.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Любое принудительное или насильственное поведение, направленное против другого лица. Физическое насилие может проявляться в виде пинков, пощёчин, толчков, царапин, нанесения ожогов, ударов кулаком, пихания, шлепков, отбрасывания партнёра в сторону или наземь, грубое хватание другого человека и т.д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сихологическое насилие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асилие, причиняющее обиду, вызывающее гнев, страх, психологический упадок и эмоциональную неуверенность в собственной значимости или неспособность защищать себя от  физического, сексуального или дальнейшего психологического насил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Сексуальное насилие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Любой сексуальный акт или сексуальное поведение, навязываемое партнёрше, партнёру без его согласия.  Навязывание сексуальной близости, когда партнёрша, партнёр этого не хотят. Любое прикосновение, навязываемое против вол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80-04-14T18:37:51Z</dcterms:created>
  <dc:creator>user</dc:creator>
  <dc:description/>
  <dc:language>en-US</dc:language>
  <cp:lastModifiedBy>зам_директора</cp:lastModifiedBy>
  <dcterms:modified xsi:type="dcterms:W3CDTF">2008-01-14T08:31:26Z</dcterms:modified>
  <cp:revision>27</cp:revision>
  <dc:subject/>
  <dc:title>Педагогический совет:</dc:title>
</cp:coreProperties>
</file>