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drumroll.wav" ContentType="audio/x-wav"/>
  <Override PartName="/ppt/media/image3.png" ContentType="image/png"/>
  <Override PartName="/ppt/media/image4.png" ContentType="image/png"/>
  <Override PartName="/ppt/media/chimes.wav" ContentType="audio/x-wav"/>
  <Override PartName="/ppt/media/image8.png" ContentType="image/png"/>
  <Override PartName="/ppt/media/image6.png" ContentType="image/png"/>
  <Override PartName="/ppt/media/push.wav" ContentType="audio/x-wav"/>
  <Override PartName="/ppt/media/image7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0399-6492-4004-A593-E07B22B02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C808-9975-4550-A41F-376BD2072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7196-B847-4CE5-A9ED-21B5AC736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A6F4-0B5D-4566-9D13-C16A522F9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CB6090-1549-42E0-857C-B6F55A09B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54A8B5-6B31-457B-A921-265CCB5F4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1CBF41-009E-4DFC-B7D3-09B096681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3B356A-CE0B-4779-AA22-D477D3061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888A00-1E97-427C-8D6B-0FB93D08C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7181EE-F430-4442-8336-BBC36EE5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44CCEA-A855-4DA7-9D2D-335F9B44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F6D4-2CFF-4E8B-B9DE-14B944B23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DA8554-E419-4A06-AB09-12A851EB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FE6C03-87A2-4ABD-936D-C274ED4D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300593-19C6-4F29-BF92-3A8FDA68F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6AD9F9-66A3-4E94-B82F-C71330856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72F43B-274C-44C2-B45B-E9FD01E8F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1EF42-D634-4079-BE14-19591D1B8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7F06E-2CCC-4D9D-B1B1-03A8A73F0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51489-0273-45AA-A02E-ADE0B5DF3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2C034-F58A-4902-A6F8-C15DB814B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10C9C-0060-4A1C-A366-9C80F7F0A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6609-4F39-43F0-9B38-F5DC61D87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5AEF5-0F5E-43F8-9ED0-400252312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D3DAC-C192-42E2-96E7-B8699D1F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A9F82-DA45-4127-B8A3-77E6ECD5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A0715-D3DD-4547-BD9B-824566F4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D5B99-AB2E-4CC1-A6FC-066C912F2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56C8D-49EE-45E3-A298-4524D141C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27C7B-0D05-4AF0-8BFF-6E2B15563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273FF7-05DE-4DE0-A887-A360AFC10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BD23D8-27DD-4207-85ED-E464DB6C5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6A3127-306E-4632-A5B0-32D86AEBA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4D86-46BE-4121-9D1E-8334DF18E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7A0F80-9AB8-4DB2-A4CA-14BB993E2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ACB2CA-E4D6-40C1-A8A7-D5A18BEF2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4AB2E1-26B7-4847-AFE8-DBF1CC241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C49009-037F-44EA-9F5E-6C379966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92855C-8255-4720-8DCC-2D228A60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75A998-7795-4EA4-A1CB-0B765165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43FFBD-595A-438C-903E-3BBC742FD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40C30A-DE5E-40F4-9069-DE8DBB4A3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9DA107-D0A9-4843-8521-0C04D3072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2516-66C1-4FF1-AC7D-9C68C53D7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B2A4-82EA-4DCA-A7F2-5583695A5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97BE-5144-484C-AB89-FFE8AF58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0179-BD4E-4BE6-B0C1-EB886DF0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3679-AFF5-4C56-9BD6-B49C30A6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14001-696C-4780-B0B2-DF06BAA6B005}" type="slidenum">
              <a:rPr b="0" lang="en-US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405BA-1CBA-4C0C-A9F0-1E9BAD02D767}" type="slidenum">
              <a:rPr b="0" lang="en-US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145A-0F73-4DCD-B3AC-363E7B62108F}" type="slidenum">
              <a:rPr b="0" lang="en-US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0A16D-7422-4AE7-8F82-91B5F3147843}" type="slidenum">
              <a:rPr b="0" lang="en-US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audio" Target="../media/push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audio" Target="../media/push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57200" y="2356920"/>
            <a:ext cx="82296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Заголовок 1" descr=""/>
          <p:cNvPicPr/>
          <p:nvPr/>
        </p:nvPicPr>
        <p:blipFill>
          <a:blip r:embed="rId2"/>
          <a:stretch/>
        </p:blipFill>
        <p:spPr>
          <a:xfrm>
            <a:off x="324000" y="-674640"/>
            <a:ext cx="8540640" cy="4390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3" name="drumroll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85840" y="2428920"/>
            <a:ext cx="8572320" cy="36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tantia"/>
              </a:rPr>
              <a:t>САМОСТОЯТЕЛЬНО ОЗНАКОМИТЬСЯ С СОДЕРЖАНИЕМ ПАРАГРАФА 24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9" name="Заголовок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КРЕПОСТНИЧЕСТВО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И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КАПИТАЛИЗМ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2356920"/>
            <a:ext cx="82296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1" i="1" lang="ru-RU" sz="3600" spc="-1" strike="noStrike">
                <a:solidFill>
                  <a:srgbClr val="ffffff"/>
                </a:solidFill>
                <a:latin typeface="Constantia"/>
              </a:rPr>
              <a:t>В ХОЗЯЙСТВЕ РОССИИ </a:t>
            </a:r>
            <a:r>
              <a:rPr b="1" i="1" lang="en-US" sz="3600" spc="-1" strike="noStrike">
                <a:solidFill>
                  <a:srgbClr val="ffffff"/>
                </a:solidFill>
                <a:latin typeface="Constantia"/>
              </a:rPr>
              <a:t>XVIII</a:t>
            </a:r>
            <a:r>
              <a:rPr b="1" i="1" lang="ru-RU" sz="3600" spc="-1" strike="noStrike">
                <a:solidFill>
                  <a:srgbClr val="ffffff"/>
                </a:solidFill>
                <a:latin typeface="Constantia"/>
              </a:rPr>
              <a:t> века ПРЕОБЛАДАЮТ ФЕОДАЛЬНЫЕ (крепостнические) ПОРЯДКИ или КАПИТАЛИСТИЧЕСКИЕ?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5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59696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3" name="drumroll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nstantia"/>
              </a:rPr>
              <a:t>1. РАЗВИТИЕ СЕЛЬСКОГО ХОЗЯЙСТВА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nstantia"/>
              </a:rPr>
              <a:t>2. РАЗВИТИЕ ПРОИЗВОДСТВА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nstantia"/>
              </a:rPr>
              <a:t>3. РАЗВИТИЕ ТОРГОВЛИ И ТРАНСПОРТА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nstantia"/>
              </a:rPr>
              <a:t>4. ВЫВОДЫ по уроку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7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23660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3" name="drumroll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Constantia"/>
              </a:rPr>
              <a:t>В предоставленному вам списке перечислены права и обязанности дворян и крестьян. Определите положения, которые относятся к дворянам, а какие к крестьянам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nstantia"/>
              </a:rPr>
              <a:t>- Был сокращен срок службы до 25 лет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nstantia"/>
              </a:rPr>
              <a:t>- Правители раздавали им землю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nstantia"/>
              </a:rPr>
              <a:t>- Увеличивались крепостные права помещиков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nstantia"/>
              </a:rPr>
              <a:t>- Запрещалось покупать земли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nstantia"/>
              </a:rPr>
              <a:t>- Правители не требовали от них присяги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9" name="Заголовок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Constantia"/>
              </a:rPr>
              <a:t>Их заставляли выполнять любые работы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nstantia"/>
              </a:rPr>
              <a:t>Их разрешалось продавать и покупать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nstantia"/>
              </a:rPr>
              <a:t>В 1762 году их освободили от обязательной службы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nstantia"/>
              </a:rPr>
              <a:t>ДОКАЖИТЕ, ЧТО В ЭПОХУ ДВОРЦОВЫХ ПЕРЕВОРОТОВ КРЕПОСТНОЕ ПРАВО ДОСТИГЛО СВОЕГО РАСЦВЕТА.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nstantia"/>
              </a:rPr>
              <a:t>КАКИМИ ПРИЧИНАМИ ВЫ ЭТО МОЖЕТЕ ОБЪЯСНИТЬ?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1" name="Заголовок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3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1 РЯД – ПРОЧИТАЙТЕ ПУНКТ № 2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2 РЯД – ПРОЧИТАЙТЕ ПУНКТ № 3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3 РЯД – ПРОЧИТАЙТЕ ПУНКТ № 4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И ВЫПИШИТЕ В ТЕТРАДЬ  ТЕ ИЗМЕНЕНИЯ, КОТОРЫЕ ПРОИЗОШЛИ В ХОЗЯЙСТВЕННОЙ ЖИЗНИ СТРАНЫ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3" name="Заголовок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3" name="push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57200" y="1714680"/>
            <a:ext cx="8229600" cy="43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1.  РАЗВИТИЕ ТОРГОВЛИ: рост числа ярмарок, появление постоянных магазинов, появление первых БИРЖ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2. РАЗВИТИЕ ТРАНСПОРТА: строительство трактов, отмена внутренних таможен (1754 г.)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3. РАЗВИТИЕ МАНУФАКТУРНОГО ПРОИЗВОДСТВА:  свобода предпринимательства (1775 г.), открытие крестьянских мануфактур, работающих только на рынок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5" name="Заголовок 2" descr=""/>
          <p:cNvPicPr/>
          <p:nvPr/>
        </p:nvPicPr>
        <p:blipFill>
          <a:blip r:embed="rId2"/>
          <a:stretch/>
        </p:blipFill>
        <p:spPr>
          <a:xfrm>
            <a:off x="450720" y="23760"/>
            <a:ext cx="8321760" cy="135432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3" name="push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457200" y="2071800"/>
            <a:ext cx="8229600" cy="40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В </a:t>
            </a:r>
            <a:r>
              <a:rPr b="1" i="1" lang="en-US" sz="2600" spc="-1" strike="noStrike">
                <a:solidFill>
                  <a:srgbClr val="ffffff"/>
                </a:solidFill>
                <a:latin typeface="Constantia"/>
              </a:rPr>
              <a:t>XVIII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 ВЕКЕ В РОССИИ ПРЕОБЛАДАЛИ ЧЕРТЫ ФЕОДАЛЬНОГО (АГРАРНОГО) ОБЩЕСТВ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В ХОЗЯЙСТВЕ РОССИИ ОДНОВРЕМЕННО С                                                                                                                        УСИЛЕНИЕМ КРЕПОСТНОГО ПРАВА ПОЯВИЛИСЬ ПРИЗНАКИ НОВОГО КАПИТАЛИСТИЧЕСКОГО ОБЩЕСТВА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РАЗВИТИЕ КАПИТАЛИЗМА СДЕРЖИВАЛО КРЕПОСТНОЕ ПРАВО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7" name="Заголовок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43352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4:40:31Z</dcterms:created>
  <dc:creator>Владимир</dc:creator>
  <dc:description/>
  <dc:language>en-US</dc:language>
  <cp:lastModifiedBy>Школа</cp:lastModifiedBy>
  <dcterms:modified xsi:type="dcterms:W3CDTF">2001-12-31T21:29:12Z</dcterms:modified>
  <cp:revision>19</cp:revision>
  <dc:subject/>
  <dc:title>Слайд 1</dc:title>
</cp:coreProperties>
</file>