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3A6-BDBF-4C7E-9DC3-E0FD4900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95F-2A00-4B54-866A-C621AB3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047-A249-4737-8B2E-32B3D698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9FE-4112-41C8-9CB4-5BE2769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FF6-F306-4BAA-892D-5392567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474-8E00-4D4C-8B40-C31C742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DAC-188A-4763-AAC2-26FF19F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0DF-C23C-4CDB-B121-F489BFC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3FB-0ED4-42BF-809A-99B48BDE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A45-750C-4716-B210-1174CBF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5DF-FCD5-4AA8-978D-0511C23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FCF-6A25-4C1A-9BE9-0FA26CC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B6C8-4C6A-4505-BDB8-D335F0B30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«ИСПОЛЬЗОВАНИЕ ИГРЫ – ЭКСПЕРИМЕНТИРОВАНИЯ С РАЗЛИЧНЫМИ ПРЕДМЕТАМИ И МАТЕРИАЛАМИ В САМОСТОЯТЕЛЬНОЙ ИГРОВОЙ ДЕЯТЕЛЬНОСТИ ДОШКОЛЬНИКОВ СРЕДНЕГО ВОЗРАСТА КАК СРЕДСТВО ПРОЯВЛЕНИЯ ТВОРЧЕСТВА В СОЗДАНИИ ИГРОВЫХ СЮ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10800000">
            <a:off x="8818920" y="5445000"/>
            <a:ext cx="828036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1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ff"/>
                </a:solidFill>
                <a:latin typeface="Impact"/>
              </a:rPr>
              <a:t>Автор: Даутова Венера Хамбаловна,г.Янаул,Республика Башкортостан</a:t>
            </a:r>
            <a:endParaRPr b="0" lang="en-US" sz="4400" spc="1" strike="noStrike">
              <a:ln w="0">
                <a:noFill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lide-3-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одой «Океанари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92200" y="27687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476360" y="285264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одой «Разноцветные шар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PICT3042"/>
          <p:cNvPicPr/>
          <p:nvPr/>
        </p:nvPicPr>
        <p:blipFill>
          <a:blip r:embed="rId2"/>
          <a:stretch/>
        </p:blipFill>
        <p:spPr>
          <a:xfrm>
            <a:off x="684360" y="3573360"/>
            <a:ext cx="402732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9" descr="SDC13915.JPG"/>
          <p:cNvPicPr/>
          <p:nvPr/>
        </p:nvPicPr>
        <p:blipFill>
          <a:blip r:embed="rId3"/>
          <a:stretch/>
        </p:blipFill>
        <p:spPr>
          <a:xfrm>
            <a:off x="4000680" y="714240"/>
            <a:ext cx="442908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slide-8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lide-9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lide-11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lide-18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lide-22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lide-23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lide-26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lide-28-7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136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юди, научившиеся …наблюдениям 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ытам, приобретают способность самостоятельно ставить вопросы и получать на них фактические ответы, оказываясь на более высоком умственном и нравственном уровне в сравнении с теми, кто такой школы не пр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4141080" y="5588640"/>
            <a:ext cx="4406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.Е.Тимирязев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042920" y="1773360"/>
            <a:ext cx="777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ы с ветром</a:t>
            </a:r>
            <a:endParaRPr b="0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695320" y="18900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етром «Чудо- Пти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PICT3010"/>
          <p:cNvPicPr/>
          <p:nvPr/>
        </p:nvPicPr>
        <p:blipFill>
          <a:blip r:embed="rId2"/>
          <a:stretch/>
        </p:blipFill>
        <p:spPr>
          <a:xfrm>
            <a:off x="4572000" y="692280"/>
            <a:ext cx="421164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етром «Летающие лент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PICT3012"/>
          <p:cNvPicPr/>
          <p:nvPr/>
        </p:nvPicPr>
        <p:blipFill>
          <a:blip r:embed="rId3"/>
          <a:stretch/>
        </p:blipFill>
        <p:spPr>
          <a:xfrm>
            <a:off x="755640" y="371628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етром «Поймай бабоч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PICT3005"/>
          <p:cNvPicPr/>
          <p:nvPr/>
        </p:nvPicPr>
        <p:blipFill>
          <a:blip r:embed="rId2"/>
          <a:stretch/>
        </p:blipFill>
        <p:spPr>
          <a:xfrm>
            <a:off x="5076720" y="476280"/>
            <a:ext cx="345456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468360" y="3716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с ветром «Воздушный деса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PICT3033"/>
          <p:cNvPicPr/>
          <p:nvPr/>
        </p:nvPicPr>
        <p:blipFill>
          <a:blip r:embed="rId3"/>
          <a:stretch/>
        </p:blipFill>
        <p:spPr>
          <a:xfrm>
            <a:off x="900000" y="4149720"/>
            <a:ext cx="4038840" cy="23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Arial"/>
              </a:rPr>
              <a:t>Самое лучшее открытие – то, которое ребенок делает с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Ральф У. Эмерс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250920" y="1052640"/>
            <a:ext cx="8569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СПАСИБО ЗА ВНИМАНИЕ</a:t>
            </a:r>
            <a:endParaRPr b="1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6200000">
            <a:off x="7448400" y="4079880"/>
            <a:ext cx="371520" cy="365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133720"/>
            <a:ext cx="7570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ключается в организации условий для проявления творчества у детей дошкольного возраста в создании сюжетов игр – экспериментирования с различными предметами и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1187280" y="404640"/>
            <a:ext cx="69138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Arial"/>
              </a:rPr>
              <a:t>АКТУАЛЬНОСТЬ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Ведущая идея опы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ущность опыта заключается в развитии у детей умений выделять и решать проблемы, ставить цели, формировать задачи, анализировать объекты и явления, классифицировать, выбирать средства и материалы для самостоятельной деятельности, проводить эксперимент, делать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птимизация творческих способностей у детей дошкольного возраста, в создании сюжетов, игр-экспериментирования в самостоятельной игр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187280" y="549360"/>
            <a:ext cx="7056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693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Цель опыта</a:t>
            </a:r>
            <a:endParaRPr b="1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имулировать познавательные интересы и расширять кругозор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бучать правилам безопасного использования песка и воды, глины в процессе игр-эксперимен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бучение воспитанников навыкам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рганизовать предметно - развивающую среду для развития  творческих способностей у детей дошкольного возраста в самостоятельной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187280" y="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Задачи: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ОРМЫ РАБОТЫ С ДОШКОЛЬНИКАМИ В ПОЗНАВАТЕЛЬНО - ИССЛЕДОВАТЕЛЬСКОЙ ДЕЯТЕЛЬ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шение проблем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ллекци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дивидуа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00"/>
                            </p:stCondLst>
                            <p:childTnLst>
                              <p:par>
                                <p:cTn id="10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80"/>
                            </p:stCondLst>
                            <p:childTnLst>
                              <p:par>
                                <p:cTn id="10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40"/>
                            </p:stCondLst>
                            <p:childTnLst>
                              <p:par>
                                <p:cTn id="10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100"/>
                            </p:stCondLst>
                            <p:childTnLst>
                              <p:par>
                                <p:cTn id="11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80"/>
                            </p:stCondLst>
                            <p:childTnLst>
                              <p:par>
                                <p:cTn id="11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920"/>
                            </p:stCondLst>
                            <p:childTnLst>
                              <p:par>
                                <p:cTn id="1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480"/>
                            </p:stCondLst>
                            <p:childTnLst>
                              <p:par>
                                <p:cTn id="1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"/>
          <p:cNvGrpSpPr/>
          <p:nvPr/>
        </p:nvGrpSpPr>
        <p:grpSpPr>
          <a:xfrm>
            <a:off x="395280" y="0"/>
            <a:ext cx="8496360" cy="1773360"/>
            <a:chOff x="395280" y="0"/>
            <a:chExt cx="8496360" cy="1773360"/>
          </a:xfrm>
        </p:grpSpPr>
        <p:sp>
          <p:nvSpPr>
            <p:cNvPr id="57" name="AutoShape 7"/>
            <p:cNvSpPr/>
            <p:nvPr/>
          </p:nvSpPr>
          <p:spPr>
            <a:xfrm>
              <a:off x="395280" y="0"/>
              <a:ext cx="8496360" cy="17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558360" y="68400"/>
              <a:ext cx="7678800" cy="1636920"/>
            </a:xfrm>
            <a:prstGeom prst="horizontalScroll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ЦЕНТР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ОЗНОВАТЕЛЬНО - ИССЛЕДОВАТЕЛЬСКОЙ  ДЕЯТЕЛЬ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7" descr="SDC13920.JPG"/>
          <p:cNvPicPr/>
          <p:nvPr/>
        </p:nvPicPr>
        <p:blipFill>
          <a:blip r:embed="rId1"/>
          <a:stretch/>
        </p:blipFill>
        <p:spPr>
          <a:xfrm>
            <a:off x="1714680" y="1643040"/>
            <a:ext cx="6143400" cy="492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ИГРЫ – ЭКСПЕРИМЕНТИРОВАНИЯ С РАЗЛИЧНЫМИ ПРЕДМЕТАМИ И МАТЕРИА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4:12:19Z</dcterms:created>
  <dc:creator>User</dc:creator>
  <dc:description/>
  <dc:language>en-US</dc:language>
  <cp:lastModifiedBy>ВЕНЕРА</cp:lastModifiedBy>
  <dcterms:modified xsi:type="dcterms:W3CDTF">2014-11-06T16:20:38Z</dcterms:modified>
  <cp:revision>29</cp:revision>
  <dc:subject/>
  <dc:title>Слайд 1</dc:title>
</cp:coreProperties>
</file>