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3.png" ContentType="image/png"/>
  <Override PartName="/ppt/media/image11.wmf" ContentType="image/x-wmf"/>
  <Override PartName="/ppt/media/image15.png" ContentType="image/png"/>
  <Override PartName="/ppt/media/image12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285-E47C-4438-B891-EFA2CB34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A47-B96D-4C30-B27B-A19DAD1D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AD391-7F60-42AA-9664-6C1E6EB3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A1A3A-21EC-463D-97BB-08460600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DAEF3-37FB-42CB-AD56-A588325B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C2C6D-266A-4409-B54B-881909F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85F81-4038-4327-9FA9-EDFB7DAD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2DC0F-643B-4DA4-B3F3-933EA5B1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80C08-FF50-4C9D-89CD-C0E45E2B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EF4E6-8EA9-4CD9-BF63-5A06B2B3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5082C-ED69-44EC-BF0A-A1A27F42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67C-14D6-45D9-8E94-121DB8CD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720-28B5-41EE-9F62-E7ED8A5E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4EEF-CDAF-4AE8-9201-649E1689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D911-4546-487A-B041-43F7F83D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A1FD-707D-4090-B835-DBA3C509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D7D0-60A2-47A8-8257-2469DA6E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09FA-2557-4AE7-B998-EC500FE9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54A5-0B87-4DFD-A436-F2C5DB5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6F06-52E9-403A-9732-AAEF12E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3A8-E704-492F-AF03-17A3DE1E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25F7-CCE9-4267-A427-CAAED494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AB2B-5F18-4D16-A9CE-60BC80D9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3715-39F6-4915-9F18-8E62E7A5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296C-1736-4FBB-87B7-E29E188F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B282-CA78-42CA-B0D1-F549DAC1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BD9C0-D1BD-4E13-BF78-8AE7BFE1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02EE2-BE00-45FA-AD22-BB1BCE44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A871-8D4C-411F-A493-F9481FFA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D4866-D972-4C5B-A7C1-86E38562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F984-B5FD-454B-9576-3CCD4E39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8AD-0F4E-46E8-BCD0-EB25861F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842AB-453F-4081-B834-8A9C6A5D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5D9E-57BB-4D32-A5A2-C694D9DB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7CEA-3EA6-4A64-AE23-90E9EEA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FA1A-F81A-4CD8-A4F5-22887A53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8B69-FD19-44EF-8F90-E58BF233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A6EA-AAC6-4AE3-AD7D-D66FDADC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5C3A-D7A3-4D1B-8675-C34B64DA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AADF-B510-4397-BC4D-26EF6303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FD11D-39C7-4013-A39B-531CB43E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5B96-48CA-44DB-8A46-CCF4B903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31B-5BE0-4451-A4FC-787B6267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D953-BFED-42DF-AAB5-41506D39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2AD53-D80F-47DB-85AD-80F59CB1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26C0-D12C-4AAF-8165-2178B3E2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7896D-59BC-4D93-A6F5-3D8C9CC5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524F0-738D-4095-BFC3-FB85BFF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88993-5A9D-40CE-B285-B48217C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7123-0D8A-4456-A6AF-01FE617E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C2091-B91F-489F-B574-49B1E05E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13439-F0C6-48A5-99EC-13E2E927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CF800-9E17-40DB-B775-578203F3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983-D9A7-4782-808A-7A75557B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ADB1-3E12-4A50-B3DF-72E9F9B0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5C35F-6703-48F5-860A-D48C26B7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7B06C-6D24-4540-87ED-B1929E9F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6B5DC-7DA5-4B80-8CC1-53293D61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35460-D842-4014-93D7-3D588E01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CA47-0493-4F6F-A054-BDAE089C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E0BA7-E8C3-4658-BF43-99A68802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9E512-C1C2-40B3-A2D2-B19147FA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375CF-135E-4C6D-AE0B-8159FFAE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027A8-3E5B-4545-A982-F1DF564F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109-0CA8-409A-8044-E70CB414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9C899-E332-4F3B-B453-284F81AC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4DF56-30EB-4BF5-865A-3D22A798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05606-2B82-4B62-91B5-B9F1E15B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00147-B422-4D2B-BF6F-7A2AAF00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9D419-EF98-40A0-A7DA-6686CD51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C28CF-DD5F-4203-9232-EBE92FDF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6EC9-D4C4-4642-9F8B-DAF10912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0BC00-DF46-4FEB-B50D-8BCC1359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BE67D-A41A-419F-BB65-7CC2FE43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7CA58-29FE-4696-8A5A-4F75EE59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48A-82E3-4998-AD35-967BF44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57485-E532-486F-86BA-B38F5855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10E47-B762-4698-A275-9E1BAA3E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1A26B-47A1-449D-9AB5-D0876735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C3F62-E836-49E9-B9B3-4C27A149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6BA87-EF5A-451C-A375-711F2E29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94EF-0A5B-4444-A194-5F190A2E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A70D9-8753-4C4A-9335-C8ADFAB8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A5857-D3D9-4F81-BC8B-EE666705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1350D-9379-457A-A267-995CFD52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5C441-9F23-42F6-A850-7CA3C722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459-AB69-4FD9-A374-4507E3E0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ADA1-5BEA-428C-963D-641AAC3C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39D06-CE37-4112-9322-1450212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3BD33-B4D6-4FEF-88B1-17A2FF0A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27395-B816-4CF0-8DC4-905F58E6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77B74-0F08-479F-8153-1823183A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6CD74-DB00-4778-98BD-DEBCE72A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A6464-3BCC-4117-B360-0A702874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FEF07-73A8-4CAC-859F-171E5BFB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DEE94-BC61-43E9-8530-E3124D0E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4EE7A-CF7F-49FE-B77A-512814E1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CE3-3A78-4E12-9D30-F439521B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18082-6427-4B97-95B0-211CD252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89FD3-6479-4769-B6F2-131B5CB0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9D1C7-916B-43D3-9E01-3B1FCDC5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72EAC-9525-4FAB-B32F-5A4D203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A65CA-0987-469E-9A2C-5AE9BC8D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54D2F-FDD9-4ED6-B15D-AB75D82C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18793-9F66-4198-A496-1BDC1573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24DF7-07D5-497F-9DE6-FC6A15A5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44455-4D61-4703-AC65-2BD1856C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ECAFD-F236-4FE5-9786-3ED5986A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EE86-1CBD-4A7C-9238-0B2225634B28}" type="slidenum">
              <a:rPr b="0" lang="en-US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A921-757F-45E0-B8A6-C12848B587D0}" type="slidenum">
              <a:rPr b="0" lang="en-US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8D9D-6649-41AC-A09A-E4746B271222}" type="slidenum">
              <a:rPr b="0" lang="en-US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7CDB-C480-48E3-8487-8DE1655CD721}" type="slidenum">
              <a:rPr b="0" lang="en-US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7B83-95F7-4592-9512-7CADC1FBCD55}" type="slidenum">
              <a:rPr b="0" lang="en-US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C1E7-32A1-4EF8-8951-BD78D4FA7CE0}" type="slidenum">
              <a:rPr b="0" lang="en-US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84BC-D352-40B3-BDBB-4C6D55E3A2D5}" type="slidenum">
              <a:rPr b="0" lang="en-US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7A2E-A2B1-47D1-BBD5-ABD6C1687F05}" type="slidenum">
              <a:rPr b="0" lang="en-US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1638-D328-4C89-B14D-273C6D707ED2}" type="slidenum">
              <a:rPr b="0" lang="en-US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8.png"/><Relationship Id="rId4" Type="http://schemas.openxmlformats.org/officeDocument/2006/relationships/image" Target="../media/image12.gi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3"/>
          <a:stretch/>
        </p:blipFill>
        <p:spPr>
          <a:xfrm>
            <a:off x="-176040" y="341280"/>
            <a:ext cx="9313560" cy="4449960"/>
          </a:xfrm>
          <a:prstGeom prst="rect">
            <a:avLst/>
          </a:prstGeom>
          <a:ln w="0">
            <a:noFill/>
          </a:ln>
        </p:spPr>
      </p:pic>
      <p:sp>
        <p:nvSpPr>
          <p:cNvPr id="401" name="TextBox 7"/>
          <p:cNvSpPr/>
          <p:nvPr/>
        </p:nvSpPr>
        <p:spPr>
          <a:xfrm>
            <a:off x="2500200" y="642960"/>
            <a:ext cx="700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8429760" y="60008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E:\Рисунки\Школа\Школа\BD05097_.WMF"/>
          <p:cNvPicPr/>
          <p:nvPr/>
        </p:nvPicPr>
        <p:blipFill>
          <a:blip r:embed="rId4"/>
          <a:stretch/>
        </p:blipFill>
        <p:spPr>
          <a:xfrm>
            <a:off x="539640" y="3645000"/>
            <a:ext cx="2857680" cy="29415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2"/>
          <p:cNvSpPr/>
          <p:nvPr/>
        </p:nvSpPr>
        <p:spPr>
          <a:xfrm>
            <a:off x="3851280" y="515772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математики МОУ« СОШ ст.Тарха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ргина Ирин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5"/>
          <p:cNvSpPr txBox="1"/>
          <p:nvPr/>
        </p:nvSpPr>
        <p:spPr>
          <a:xfrm>
            <a:off x="457200" y="2286000"/>
            <a:ext cx="8077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КУЛЬТМИНУТКА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6" name="Picture 7" descr="j0079251"/>
          <p:cNvPicPr/>
          <p:nvPr/>
        </p:nvPicPr>
        <p:blipFill>
          <a:blip r:embed="rId2"/>
          <a:stretch/>
        </p:blipFill>
        <p:spPr>
          <a:xfrm>
            <a:off x="152280" y="152280"/>
            <a:ext cx="3124440" cy="307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2451240" cy="18651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137375872"/>
          <p:cNvPicPr/>
          <p:nvPr/>
        </p:nvPicPr>
        <p:blipFill>
          <a:blip r:embed="rId4"/>
          <a:stretch/>
        </p:blipFill>
        <p:spPr>
          <a:xfrm>
            <a:off x="4967280" y="4260960"/>
            <a:ext cx="3565440" cy="2336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j0079259"/>
          <p:cNvPicPr/>
          <p:nvPr/>
        </p:nvPicPr>
        <p:blipFill>
          <a:blip r:embed="rId5"/>
          <a:stretch/>
        </p:blipFill>
        <p:spPr>
          <a:xfrm>
            <a:off x="5651640" y="189000"/>
            <a:ext cx="2376360" cy="29239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874720" y="632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472" name="Text Box 9"/>
          <p:cNvSpPr/>
          <p:nvPr/>
        </p:nvSpPr>
        <p:spPr>
          <a:xfrm>
            <a:off x="8459640" y="616572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54764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с учебником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10720" y="123840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.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32000" y="126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9280" y="176688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первой остановке из автобуса вышли 5 чело - век, на второй – 11 человек. Сколько человек осталось в автобусе, если в начале в нем было 49 человек? Решите задачу двумя спо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-324000" y="-419040"/>
            <a:ext cx="9753840" cy="72770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9"/>
          <p:cNvSpPr/>
          <p:nvPr/>
        </p:nvSpPr>
        <p:spPr>
          <a:xfrm>
            <a:off x="8820000" y="6165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547640" y="0"/>
            <a:ext cx="53294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ение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9000" y="974880"/>
            <a:ext cx="496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о – 49 ч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ли : 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. – 5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. – 11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алось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7040" y="3062160"/>
            <a:ext cx="62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пособ:   49 – ( 5 + 11) = 33 (че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3933720"/>
            <a:ext cx="60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:(49 – 5) – 11 = 33 (че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56640" y="4935600"/>
            <a:ext cx="70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вет: в автобусе осталось 33 челове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-324000" y="-419040"/>
            <a:ext cx="9753840" cy="727704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9"/>
          <p:cNvSpPr/>
          <p:nvPr/>
        </p:nvSpPr>
        <p:spPr>
          <a:xfrm>
            <a:off x="8893080" y="6165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76200" y="1125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.  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08360" y="1197000"/>
            <a:ext cx="11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76720" y="2349360"/>
            <a:ext cx="2447640" cy="13669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5280" y="4292640"/>
            <a:ext cx="2448000" cy="13669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92360" y="4292640"/>
            <a:ext cx="2448000" cy="13669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516720" y="4292640"/>
            <a:ext cx="2448000" cy="13669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476000" y="3716280"/>
            <a:ext cx="30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500720" y="3716280"/>
            <a:ext cx="33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4200" y="57006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, 24, 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pic>
        <p:nvPicPr>
          <p:cNvPr id="498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8370000" y="5824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3640" y="1989000"/>
            <a:ext cx="2232000" cy="1152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95280" y="3716280"/>
            <a:ext cx="2232000" cy="1152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48000" y="3716280"/>
            <a:ext cx="2232000" cy="1152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227640" y="3716280"/>
            <a:ext cx="2232000" cy="1152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547280" y="3141720"/>
            <a:ext cx="29530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00720" y="3141720"/>
            <a:ext cx="30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500720" y="3141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9440" y="530064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, 42, 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-304920" y="-209520"/>
            <a:ext cx="9753840" cy="727704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9"/>
          <p:cNvSpPr/>
          <p:nvPr/>
        </p:nvSpPr>
        <p:spPr>
          <a:xfrm>
            <a:off x="8675640" y="60357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276720" y="1916280"/>
            <a:ext cx="2447640" cy="12254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9280" y="3933720"/>
            <a:ext cx="2448000" cy="12258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76720" y="3933720"/>
            <a:ext cx="2447640" cy="12258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72360" y="3933720"/>
            <a:ext cx="2447640" cy="12258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619280" y="3141720"/>
            <a:ext cx="288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0720" y="3141720"/>
            <a:ext cx="3166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00720" y="3141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8560" y="555624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0, 62, 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-304920" y="-209520"/>
            <a:ext cx="9753840" cy="72770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1332000" y="260280"/>
            <a:ext cx="72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0920" y="12366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тр. 48        № 290, № 296 ( а, б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вторить свойства сложения и выч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803440" y="6040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-304920" y="-209520"/>
            <a:ext cx="9753840" cy="727704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9"/>
          <p:cNvSpPr/>
          <p:nvPr/>
        </p:nvSpPr>
        <p:spPr>
          <a:xfrm>
            <a:off x="8893080" y="6165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55840" y="13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12"/>
          <p:cNvSpPr txBox="1"/>
          <p:nvPr/>
        </p:nvSpPr>
        <p:spPr>
          <a:xfrm>
            <a:off x="2484360" y="260280"/>
            <a:ext cx="31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f03e"/>
                </a:solidFill>
                <a:latin typeface="Arial"/>
              </a:rPr>
              <a:t>Рефлекс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f03e"/>
              </a:solidFill>
              <a:latin typeface="Arial"/>
              <a:ea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1413000"/>
            <a:ext cx="639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Сегодня на уроке: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повторил ...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закрепил ...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научился ...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2770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9"/>
          <p:cNvSpPr/>
          <p:nvPr/>
        </p:nvSpPr>
        <p:spPr>
          <a:xfrm>
            <a:off x="8604360" y="61657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" descr="C:\Users\User\Pictures\96849b04790b.png"/>
          <p:cNvPicPr/>
          <p:nvPr/>
        </p:nvPicPr>
        <p:blipFill>
          <a:blip r:embed="rId3"/>
          <a:stretch/>
        </p:blipFill>
        <p:spPr>
          <a:xfrm>
            <a:off x="324000" y="2924280"/>
            <a:ext cx="4379760" cy="27669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C:\Users\User\Pictures\Рисунок2.png"/>
          <p:cNvPicPr/>
          <p:nvPr/>
        </p:nvPicPr>
        <p:blipFill>
          <a:blip r:embed="rId4"/>
          <a:stretch/>
        </p:blipFill>
        <p:spPr>
          <a:xfrm>
            <a:off x="4767120" y="2997360"/>
            <a:ext cx="4376880" cy="2768400"/>
          </a:xfrm>
          <a:prstGeom prst="rect">
            <a:avLst/>
          </a:prstGeom>
          <a:ln w="0">
            <a:noFill/>
          </a:ln>
        </p:spPr>
      </p:pic>
      <p:sp>
        <p:nvSpPr>
          <p:cNvPr id="531" name="WordArt 3"/>
          <p:cNvSpPr txBox="1"/>
          <p:nvPr/>
        </p:nvSpPr>
        <p:spPr>
          <a:xfrm>
            <a:off x="380880" y="0"/>
            <a:ext cx="815364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урок.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!!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Улыбающееся лицо 8"/>
          <p:cNvSpPr/>
          <p:nvPr/>
        </p:nvSpPr>
        <p:spPr>
          <a:xfrm>
            <a:off x="395280" y="1628640"/>
            <a:ext cx="2448000" cy="22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Улыбающееся лицо 9"/>
          <p:cNvSpPr/>
          <p:nvPr/>
        </p:nvSpPr>
        <p:spPr>
          <a:xfrm>
            <a:off x="3348000" y="3429000"/>
            <a:ext cx="2305080" cy="2305080"/>
          </a:xfrm>
          <a:prstGeom prst="smileyFace">
            <a:avLst>
              <a:gd name="adj" fmla="val -286"/>
            </a:avLst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Улыбающееся лицо 10"/>
          <p:cNvSpPr/>
          <p:nvPr/>
        </p:nvSpPr>
        <p:spPr>
          <a:xfrm>
            <a:off x="6300720" y="1773360"/>
            <a:ext cx="2374920" cy="2232000"/>
          </a:xfrm>
          <a:prstGeom prst="smileyFace">
            <a:avLst>
              <a:gd name="adj" fmla="val -4652"/>
            </a:avLst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12"/>
          <p:cNvSpPr txBox="1"/>
          <p:nvPr/>
        </p:nvSpPr>
        <p:spPr>
          <a:xfrm>
            <a:off x="2484360" y="260280"/>
            <a:ext cx="31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f03e"/>
                </a:solidFill>
                <a:latin typeface="Arial"/>
              </a:rPr>
              <a:t>Рефлекс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f03e"/>
              </a:solidFill>
              <a:latin typeface="Arial"/>
              <a:ea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8604360" y="61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11120" y="452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3"/>
          <a:stretch/>
        </p:blipFill>
        <p:spPr>
          <a:xfrm>
            <a:off x="250920" y="3862440"/>
            <a:ext cx="24508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-304920" y="-209520"/>
            <a:ext cx="9753840" cy="727704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3" descr="25232634.jpg"/>
          <p:cNvPicPr/>
          <p:nvPr/>
        </p:nvPicPr>
        <p:blipFill>
          <a:blip r:embed="rId3"/>
          <a:stretch/>
        </p:blipFill>
        <p:spPr>
          <a:xfrm>
            <a:off x="3059280" y="3841920"/>
            <a:ext cx="2431800" cy="301608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9"/>
          <p:cNvSpPr/>
          <p:nvPr/>
        </p:nvSpPr>
        <p:spPr>
          <a:xfrm>
            <a:off x="8893080" y="616572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197000"/>
            <a:ext cx="91440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твет да соответствует __, ответ нет ^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. 45 – ( 25 + 17)= 37                 6). ( 200 +67) – 100=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. 90 - 67 = 23                            7). 1200 – 1100 – 40 = 10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.764 –( 264 +40) = 460             8). 32 + 13 – 5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). 301 – ( 20 +201) = 120           9). 56 +8 +12 – 26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).56 - 36 – 7 = 13                      10). 75 – 31 – 9 + 15 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120" y="4070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6200" y="517680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71480" y="6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187280" y="0"/>
            <a:ext cx="6769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афический диктант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-304920" y="-209520"/>
            <a:ext cx="9753840" cy="72770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9"/>
          <p:cNvSpPr/>
          <p:nvPr/>
        </p:nvSpPr>
        <p:spPr>
          <a:xfrm>
            <a:off x="8893080" y="616572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4948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8240" y="1187280"/>
            <a:ext cx="7178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юч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^,_, _, ^,_, ^,^, _, _, _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36920" y="2868480"/>
            <a:ext cx="403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 – 3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аллов -  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– 5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баллов – 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 – 8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баллов – 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9 – 10 баллов – «5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6" descr="Картинка (143)"/>
          <p:cNvPicPr/>
          <p:nvPr/>
        </p:nvPicPr>
        <p:blipFill>
          <a:blip r:embed="rId2"/>
          <a:stretch/>
        </p:blipFill>
        <p:spPr>
          <a:xfrm>
            <a:off x="3635280" y="3500280"/>
            <a:ext cx="208908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826920" y="549360"/>
          <a:ext cx="7705800" cy="5688000"/>
        </p:xfrm>
        <a:graphic>
          <a:graphicData uri="http://schemas.openxmlformats.org/drawingml/2006/table">
            <a:tbl>
              <a:tblPr/>
              <a:tblGrid>
                <a:gridCol w="2568600"/>
                <a:gridCol w="2568600"/>
                <a:gridCol w="2568600"/>
              </a:tblGrid>
              <a:tr h="28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</a:tr>
              <a:tr h="28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</a:tr>
            </a:tbl>
          </a:graphicData>
        </a:graphic>
      </p:graphicFrame>
      <p:sp>
        <p:nvSpPr>
          <p:cNvPr id="428" name="Text Box 19"/>
          <p:cNvSpPr/>
          <p:nvPr/>
        </p:nvSpPr>
        <p:spPr>
          <a:xfrm>
            <a:off x="1673640" y="112716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1"/>
          <p:cNvSpPr/>
          <p:nvPr/>
        </p:nvSpPr>
        <p:spPr>
          <a:xfrm>
            <a:off x="3851280" y="1125360"/>
            <a:ext cx="129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6496200" y="1197000"/>
            <a:ext cx="174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1529280" y="357516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6372360" y="3573360"/>
            <a:ext cx="18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4048920" y="32860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6200" y="-7920"/>
            <a:ext cx="84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дите правило нахождения числа, стоящего в средней клет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730000" y="632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4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9" descr="Картинка (143)"/>
          <p:cNvPicPr/>
          <p:nvPr/>
        </p:nvPicPr>
        <p:blipFill>
          <a:blip r:embed="rId2"/>
          <a:stretch/>
        </p:blipFill>
        <p:spPr>
          <a:xfrm>
            <a:off x="3492360" y="3933720"/>
            <a:ext cx="208944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68360" y="907920"/>
          <a:ext cx="8207280" cy="5545440"/>
        </p:xfrm>
        <a:graphic>
          <a:graphicData uri="http://schemas.openxmlformats.org/drawingml/2006/table">
            <a:tbl>
              <a:tblPr/>
              <a:tblGrid>
                <a:gridCol w="2682720"/>
                <a:gridCol w="2683080"/>
                <a:gridCol w="2841480"/>
              </a:tblGrid>
              <a:tr h="27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3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</a:tr>
              <a:tr h="27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42f"/>
                    </a:solidFill>
                  </a:tcPr>
                </a:tc>
              </a:tr>
            </a:tbl>
          </a:graphicData>
        </a:graphic>
      </p:graphicFrame>
      <p:sp>
        <p:nvSpPr>
          <p:cNvPr id="438" name="Text Box 19"/>
          <p:cNvSpPr/>
          <p:nvPr/>
        </p:nvSpPr>
        <p:spPr>
          <a:xfrm>
            <a:off x="0" y="136440"/>
            <a:ext cx="966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611280" y="1484280"/>
            <a:ext cx="237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3708360" y="1916280"/>
            <a:ext cx="15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5"/>
          <p:cNvSpPr/>
          <p:nvPr/>
        </p:nvSpPr>
        <p:spPr>
          <a:xfrm>
            <a:off x="971640" y="400536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8"/>
          <p:cNvSpPr/>
          <p:nvPr/>
        </p:nvSpPr>
        <p:spPr>
          <a:xfrm>
            <a:off x="3689640" y="386244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803080" y="658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0200" y="3933720"/>
            <a:ext cx="138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27640" y="1844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9"/>
          <p:cNvSpPr/>
          <p:nvPr/>
        </p:nvSpPr>
        <p:spPr>
          <a:xfrm>
            <a:off x="8893080" y="616572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55840" y="6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81080" y="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Вместо звёздочек поставь циф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чтобы получилось верно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050920" y="1197000"/>
            <a:ext cx="432144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37</a:t>
            </a:r>
            <a:endParaRPr b="0" lang="en-US" sz="40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*84*</a:t>
            </a:r>
            <a:endParaRPr b="0" lang="en-US" sz="40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9*6</a:t>
            </a:r>
            <a:endParaRPr b="0" lang="en-US" sz="40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11720" y="3952800"/>
            <a:ext cx="51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9"/>
          <p:cNvSpPr/>
          <p:nvPr/>
        </p:nvSpPr>
        <p:spPr>
          <a:xfrm>
            <a:off x="8893080" y="616572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763640" y="1125360"/>
            <a:ext cx="504036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37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41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996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47840" y="213372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35120" y="407052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" descr="K:\Documents and Settings\User\Рабочий стол\ФОНЫ для презентаций\ФОНЫ 1\100_new_fons_1\My_new_fons_next 100\58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9"/>
          <p:cNvSpPr/>
          <p:nvPr/>
        </p:nvSpPr>
        <p:spPr>
          <a:xfrm>
            <a:off x="8893080" y="616572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27120" y="189000"/>
            <a:ext cx="549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2880" y="1238400"/>
            <a:ext cx="69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числите  удобным способом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8200" y="2205000"/>
            <a:ext cx="410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групп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89 - ( 57 +189)=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416 +198) – 116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213 +189) - 8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77 +( 342 +23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911840" y="2133720"/>
            <a:ext cx="271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групп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9 – ( 27 +179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519 +192) – 119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143 +  384) – 84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62 +( 342 +38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414972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групп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87 – ( 387 +1455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467 +295) + 33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81 – ( 781 +1425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492 +295) + 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16T18:11:10Z</dcterms:modified>
  <cp:revision>62</cp:revision>
  <dc:subject/>
  <dc:title>«Поле чудес»</dc:title>
</cp:coreProperties>
</file>