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42E-8BFD-4F64-B531-60D16E4BE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5540-35EC-4D32-ACDF-FCB223FF0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E07-2161-4220-A2CD-FB734FE9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21C-82F7-492E-BFCF-075BE9AB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C0C-E987-4B62-A329-35576F32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947-C668-4589-9DA1-846FD500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E3A-2168-4466-891E-ECD8C37E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6B8-AAAD-4039-9EB7-377BB0B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64F-59AC-4541-9604-7B024711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653-06C1-4952-A1E1-B694117B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51A-8D1B-490E-BD1E-5513A5CE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A31-BF9C-4B86-97B3-9D61203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2F1-6189-49DB-9710-1CF969A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2CE-16D5-478C-9AFE-CF89D73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CD9-44D7-45C9-AEA3-F8B580769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1640" y="1268280"/>
            <a:ext cx="73105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Урок по теме «Решение задач на процент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CRCTR496"/>
          <p:cNvPicPr/>
          <p:nvPr/>
        </p:nvPicPr>
        <p:blipFill>
          <a:blip r:embed="rId1"/>
          <a:stretch/>
        </p:blipFill>
        <p:spPr>
          <a:xfrm flipH="1">
            <a:off x="539280" y="692280"/>
            <a:ext cx="924120" cy="2303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47640" y="404640"/>
            <a:ext cx="673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«Средняя общеобразователь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№ 19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http://www.nv-online.info/get_img?ImageId=48308"/>
          <p:cNvPicPr/>
          <p:nvPr/>
        </p:nvPicPr>
        <p:blipFill>
          <a:blip r:embed="rId2"/>
          <a:stretch/>
        </p:blipFill>
        <p:spPr>
          <a:xfrm>
            <a:off x="395280" y="3716280"/>
            <a:ext cx="3313080" cy="24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1484280"/>
            <a:ext cx="874872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суждают в команде полученные решения более одного ра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данное время ученик должен высказать свое предложение, затем высказывается следующий ученик и так пока не завершат   все участники высказывать свои предложени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секается время по   40 сек на одн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65240" y="407880"/>
            <a:ext cx="8820000" cy="903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HP\Desktop\нужное для пособия\внеауд. раб\rf\Часы\clock2.gif"/>
          <p:cNvPicPr/>
          <p:nvPr/>
        </p:nvPicPr>
        <p:blipFill>
          <a:blip r:embed="rId2"/>
          <a:stretch/>
        </p:blipFill>
        <p:spPr>
          <a:xfrm>
            <a:off x="539640" y="5229360"/>
            <a:ext cx="1152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5" descr=""/>
          <p:cNvPicPr/>
          <p:nvPr/>
        </p:nvPicPr>
        <p:blipFill>
          <a:blip r:embed="rId1"/>
          <a:stretch/>
        </p:blipFill>
        <p:spPr>
          <a:xfrm>
            <a:off x="609480" y="476280"/>
            <a:ext cx="6937560" cy="498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HP\Desktop\нужное для пособия\внеауд. раб\Рисунки .png\93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1000" y="5300640"/>
            <a:ext cx="1341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 При какой процентной ставке вклад на сумму 700 р. возрастет за 6 месяцев до 850 р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 Составить по одной задаче на сложные и простые процен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2360" y="620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Модель Сималтиниус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  РЕЛЛИ ТЕЙБЛ: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командная модель 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3 мину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i?id=86356674-11-72"/>
          <p:cNvPicPr/>
          <p:nvPr/>
        </p:nvPicPr>
        <p:blipFill>
          <a:blip r:embed="rId1"/>
          <a:stretch/>
        </p:blipFill>
        <p:spPr>
          <a:xfrm>
            <a:off x="5645160" y="1620720"/>
            <a:ext cx="3327480" cy="3591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homework_help_links.gif"/>
          <p:cNvPicPr/>
          <p:nvPr/>
        </p:nvPicPr>
        <p:blipFill>
          <a:blip r:embed="rId2"/>
          <a:stretch/>
        </p:blipFill>
        <p:spPr>
          <a:xfrm>
            <a:off x="7020000" y="404640"/>
            <a:ext cx="180000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324000" y="285264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Учащиеся получают карточки с заданиями, самостоятельно выполняют указанны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По истечении времени обсуждение в паре с товарищем по плеч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HP\Desktop\нужное для пособия\внеауд. раб\rf\Анимационные картинки для презентаций. Часть 2\Школа\99135422(1).gif"/>
          <p:cNvPicPr/>
          <p:nvPr/>
        </p:nvPicPr>
        <p:blipFill>
          <a:blip r:embed="rId3"/>
          <a:stretch/>
        </p:blipFill>
        <p:spPr>
          <a:xfrm>
            <a:off x="32400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360360"/>
            <a:ext cx="824256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88712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оцентом (от латинского pro cento - с сотни) называется сотая доля какого-либо числа и обозначается знаком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Arial Black"/>
              </a:rPr>
              <a:t>                   </a:t>
            </a:r>
            <a:r>
              <a:rPr b="0" i="1" lang="ru-RU" sz="3200" spc="-1" strike="noStrike">
                <a:solidFill>
                  <a:srgbClr val="0070c0"/>
                </a:solidFill>
                <a:latin typeface="Arial Black"/>
              </a:rPr>
              <a:t>1% = 1/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286000" y="2828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https://encrypted-tbn1.gstatic.com/images?q=tbn:ANd9GcTIFb1MOBxS3nStnMUncnKEBdEv1yCHtlDPd2MTWC9DpP_665Et2A"/>
          <p:cNvPicPr/>
          <p:nvPr/>
        </p:nvPicPr>
        <p:blipFill>
          <a:blip r:embed="rId2"/>
          <a:stretch/>
        </p:blipFill>
        <p:spPr>
          <a:xfrm>
            <a:off x="549360" y="3998880"/>
            <a:ext cx="2157480" cy="243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\Desktop\к уроку   23\загруженное (1).jpg"/>
          <p:cNvPicPr/>
          <p:nvPr/>
        </p:nvPicPr>
        <p:blipFill>
          <a:blip r:embed="rId3"/>
          <a:stretch/>
        </p:blipFill>
        <p:spPr>
          <a:xfrm>
            <a:off x="4565520" y="4145040"/>
            <a:ext cx="249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76000" y="3357360"/>
            <a:ext cx="707724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820 р.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160 р.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1600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68360" y="1052640"/>
            <a:ext cx="82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ерегательный банк начисляет на срочный вклад 20% годовых. Вкладчик положил на счет 800 р. Какая сумма будет на этом счете через год, если никаких операций со счетом проводиться не буд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kvartirimoskva.ru/img/content_img/Statiy2854.jpg"/>
          <p:cNvPicPr/>
          <p:nvPr/>
        </p:nvPicPr>
        <p:blipFill>
          <a:blip r:embed="rId1"/>
          <a:stretch/>
        </p:blipFill>
        <p:spPr>
          <a:xfrm>
            <a:off x="1828800" y="3998880"/>
            <a:ext cx="4260960" cy="24624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139680" y="109440"/>
            <a:ext cx="8828280" cy="944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400320" y="33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96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Содержимое 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9280" y="170028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вклада 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хеме простых процентов характеризуется тем, что суммы процентов в течение всего срока хранения определяются исходя только из первоначальной суммы вклада 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зависимо от срока хранения и количества начисления проц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окончательная сумма ,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первоначальная су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число лет  ,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% - ставка простого проц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390600" y="304920"/>
            <a:ext cx="8601120" cy="1189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168720" cy="893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лож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1 + p/100)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 = 1, 2, 3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304920"/>
            <a:ext cx="860112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invest-4you.ru/wp-content/uploads/2011/05/procent-300x267.jpg"/>
          <p:cNvPicPr/>
          <p:nvPr/>
        </p:nvPicPr>
        <p:blipFill>
          <a:blip r:embed="rId2"/>
          <a:stretch/>
        </p:blipFill>
        <p:spPr>
          <a:xfrm>
            <a:off x="2908440" y="3638520"/>
            <a:ext cx="28699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560" y="2349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формулу  простых проце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 280 000 рублей будет через 5 ле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60 000 рублей через 10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трелка вниз 27"/>
          <p:cNvSpPr/>
          <p:nvPr/>
        </p:nvSpPr>
        <p:spPr>
          <a:xfrm>
            <a:off x="2195640" y="2060640"/>
            <a:ext cx="72720" cy="4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468360" y="476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мер: Банк выплачивает вкладчикам каждый год 8% от внесенной суммы. Клиент сделал вклад в размере 200 000 р. Какая сумма будет на его счете через 5 лет, через 1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2303640" cy="576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41958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4519800" cy="576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25034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ользуемся формулой сложных проц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луч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2000·1,1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2000·2508,8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3947,65 (р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3947 р. 65 к. будет лежать 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ете через 10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24000" y="260280"/>
            <a:ext cx="82915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р: Вкладчик открыл счет в банке, внеся 2000 р. на вклад, годовой доход по которому составляет 12%, и решил в течение 6 лет не брать процентные начисления. Какая сумма будет лежать на его счете через 6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95280" y="3701880"/>
            <a:ext cx="2305080" cy="59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395280" y="4237200"/>
            <a:ext cx="2808360" cy="717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4:16:08Z</dcterms:created>
  <dc:creator>Grigoriy</dc:creator>
  <dc:description/>
  <dc:language>en-US</dc:language>
  <cp:lastModifiedBy>1</cp:lastModifiedBy>
  <dcterms:modified xsi:type="dcterms:W3CDTF">2014-11-06T18:21:25Z</dcterms:modified>
  <cp:revision>358</cp:revision>
  <dc:subject/>
  <dc:title>МОУ «СОШ № 18» г. Электросталь  Московской области</dc:title>
</cp:coreProperties>
</file>