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60A-E0EA-41BE-ADE2-93717EE0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B0D-8432-45BE-825B-0EE9A4EB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AFB-3740-472E-833D-82B80B18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82F-4F5B-440D-8C3A-0F61CCF0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BE7DC-1AE8-4BD3-B5CF-312DEF78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74272-1A68-4CAD-AC3B-5A98F566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967FA-C7E3-43D5-89F3-33E588D7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A56C3-320D-4414-9EB6-D16EB929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C5414-778D-4665-AD44-1292E3BA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9B573-AB13-4CEF-A401-2DD0A656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AB455-40D8-423A-A112-D8E21B17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8D8-F795-498A-94CE-C2B5DFFC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64201-6B68-4C98-AA22-6E532289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EE2EB-40AC-47E9-8968-66F001A9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8139B-710A-471C-8F0F-261C984C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32B22-3DF4-4AE1-9B6E-5E93FCAA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2C1F0-346D-4E52-AB31-6E887FCE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D9F-2771-4872-BF20-3DDE775A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769-8BCB-4136-8603-6B225D73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29B-DDDE-4F8D-996B-4873F010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F76-26B4-4F6E-A11F-023C635A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5CE-4E4F-4ABC-B493-EC98410D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3C3-5234-4F88-8A50-B45D2731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A73-8F7E-43C2-8AA6-92C16A50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6795-D3B2-4181-9139-5EE6DFCB66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0D5F-4EC9-4BFA-9673-1F51276B02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cc00ff"/>
                </a:solidFill>
                <a:latin typeface="Times New Roman"/>
              </a:rPr>
              <a:t>Семья</a:t>
            </a:r>
            <a:endParaRPr b="0" lang="en-US" sz="1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4248000" cy="424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20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Помогите найти деткам родител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Корова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жеребенок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кон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Кошка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теленок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зая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Зайчиха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щенок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  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пе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Лошадь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котенок  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бы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Собака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зайчонок    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ко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-5291640"/>
            <a:ext cx="206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8100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Семья – это группа живущих      вместе родственников.</a:t>
            </a:r>
            <a:br>
              <a:rPr sz="4800"/>
            </a:b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                   (словарь русского языка С.И.Ожегов)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3300"/>
                </a:solidFill>
                <a:latin typeface="Times New Roman"/>
              </a:rPr>
              <a:t>Семья – это родители и дети.</a:t>
            </a:r>
            <a:br>
              <a:rPr sz="4800"/>
            </a:b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современная действительность)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453708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4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91960"/>
            <a:ext cx="7859880" cy="60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При солнышке тепло, при матери добро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6857640"/>
            <a:ext cx="1332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87520" y="260280"/>
            <a:ext cx="62895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600"/>
                            </p:stCondLst>
                            <p:childTnLst>
                              <p:par>
                                <p:cTn id="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700360" y="285264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868840" cy="4292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012000" y="1700280"/>
            <a:ext cx="29113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7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Качества счастливой семь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39640" y="1275480"/>
            <a:ext cx="5903280" cy="5530320"/>
            <a:chOff x="2339640" y="1275480"/>
            <a:chExt cx="5903280" cy="5530320"/>
          </a:xfrm>
        </p:grpSpPr>
        <p:sp>
          <p:nvSpPr>
            <p:cNvPr id="100" name="_s38933"/>
            <p:cNvSpPr/>
            <p:nvPr/>
          </p:nvSpPr>
          <p:spPr>
            <a:xfrm flipH="1" flipV="1">
              <a:off x="4113720" y="3252240"/>
              <a:ext cx="587880" cy="44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38932"/>
            <p:cNvSpPr/>
            <p:nvPr/>
          </p:nvSpPr>
          <p:spPr>
            <a:xfrm>
              <a:off x="2775960" y="2084400"/>
              <a:ext cx="1504800" cy="14367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Дол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перед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близким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38931"/>
            <p:cNvSpPr/>
            <p:nvPr/>
          </p:nvSpPr>
          <p:spPr>
            <a:xfrm flipH="1">
              <a:off x="3825360" y="4307400"/>
              <a:ext cx="732240" cy="159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38930"/>
            <p:cNvSpPr/>
            <p:nvPr/>
          </p:nvSpPr>
          <p:spPr>
            <a:xfrm>
              <a:off x="2339640" y="3907440"/>
              <a:ext cx="1504800" cy="143604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Взаим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поним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38929"/>
            <p:cNvSpPr/>
            <p:nvPr/>
          </p:nvSpPr>
          <p:spPr>
            <a:xfrm flipH="1">
              <a:off x="4638960" y="4794120"/>
              <a:ext cx="327600" cy="64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38928"/>
            <p:cNvSpPr/>
            <p:nvPr/>
          </p:nvSpPr>
          <p:spPr>
            <a:xfrm>
              <a:off x="3560040" y="5369760"/>
              <a:ext cx="1504800" cy="1436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Вер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38927"/>
            <p:cNvSpPr/>
            <p:nvPr/>
          </p:nvSpPr>
          <p:spPr>
            <a:xfrm>
              <a:off x="5618520" y="4791600"/>
              <a:ext cx="324000" cy="64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38926"/>
            <p:cNvSpPr/>
            <p:nvPr/>
          </p:nvSpPr>
          <p:spPr>
            <a:xfrm>
              <a:off x="5518440" y="5369760"/>
              <a:ext cx="1504080" cy="143604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Дружб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38925"/>
            <p:cNvSpPr/>
            <p:nvPr/>
          </p:nvSpPr>
          <p:spPr>
            <a:xfrm>
              <a:off x="6023160" y="4304880"/>
              <a:ext cx="732960" cy="16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38924"/>
            <p:cNvSpPr/>
            <p:nvPr/>
          </p:nvSpPr>
          <p:spPr>
            <a:xfrm>
              <a:off x="6738840" y="3907440"/>
              <a:ext cx="1504080" cy="1436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Терп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38923"/>
            <p:cNvSpPr/>
            <p:nvPr/>
          </p:nvSpPr>
          <p:spPr>
            <a:xfrm flipV="1">
              <a:off x="5878800" y="3252240"/>
              <a:ext cx="587880" cy="44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38922"/>
            <p:cNvSpPr/>
            <p:nvPr/>
          </p:nvSpPr>
          <p:spPr>
            <a:xfrm>
              <a:off x="6302880" y="2084400"/>
              <a:ext cx="1504080" cy="14367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Уваж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38921"/>
            <p:cNvSpPr/>
            <p:nvPr/>
          </p:nvSpPr>
          <p:spPr>
            <a:xfrm flipV="1">
              <a:off x="5290560" y="2711160"/>
              <a:ext cx="0" cy="718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38920"/>
            <p:cNvSpPr/>
            <p:nvPr/>
          </p:nvSpPr>
          <p:spPr>
            <a:xfrm>
              <a:off x="4538160" y="1275480"/>
              <a:ext cx="1504080" cy="14360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Любов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38919"/>
            <p:cNvSpPr/>
            <p:nvPr/>
          </p:nvSpPr>
          <p:spPr>
            <a:xfrm>
              <a:off x="4538160" y="3430080"/>
              <a:ext cx="1504080" cy="1436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Семь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100"/>
                            </p:stCondLst>
                            <p:childTnLst>
                              <p:par>
                                <p:cTn id="1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e0000"/>
                </a:solidFill>
                <a:latin typeface="Times New Roman"/>
              </a:rPr>
              <a:t>Государство – это большая семья, </a:t>
            </a:r>
            <a:br>
              <a:rPr sz="6000"/>
            </a:br>
            <a:r>
              <a:rPr b="1" lang="en-US" sz="6000" spc="-1" strike="noStrike">
                <a:solidFill>
                  <a:srgbClr val="de0000"/>
                </a:solidFill>
                <a:latin typeface="Times New Roman"/>
              </a:rPr>
              <a:t>а семья – это маленькое государство.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Великий философ Конфу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6308280"/>
            <a:ext cx="698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rot="1720800">
            <a:off x="1979280" y="4652640"/>
            <a:ext cx="16383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Допишите 5 определений счастливой семь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600"/>
                </a:solidFill>
                <a:latin typeface="Times New Roman"/>
              </a:rPr>
              <a:t>Семья будет счастливой если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2462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750"/>
                            </p:stCondLst>
                            <p:childTnLst>
                              <p:par>
                                <p:cTn id="13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250"/>
                            </p:stCondLst>
                            <p:childTnLst>
                              <p:par>
                                <p:cTn id="1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4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Объясните пословиц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Родители трудолюбивы и дети не ленив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Где любовь да совет там и горя н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Кто детям потакает, тот потом слезы пролива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Детей наказывай стыдом, а не грозою и бич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596360" y="189000"/>
            <a:ext cx="13492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00"/>
                            </p:stCondLst>
                            <p:childTnLst>
                              <p:par>
                                <p:cTn id="16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700"/>
                            </p:stCondLst>
                            <p:childTnLst>
                              <p:par>
                                <p:cTn id="1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700"/>
                            </p:stCondLst>
                            <p:childTnLst>
                              <p:par>
                                <p:cTn id="17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700"/>
                            </p:stCondLst>
                            <p:childTnLst>
                              <p:par>
                                <p:cTn id="18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4700"/>
                            </p:stCondLst>
                            <p:childTnLst>
                              <p:par>
                                <p:cTn id="1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4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1:34:10Z</dcterms:created>
  <dc:creator>1</dc:creator>
  <dc:description/>
  <dc:language>en-US</dc:language>
  <cp:lastModifiedBy>1</cp:lastModifiedBy>
  <dcterms:modified xsi:type="dcterms:W3CDTF">2008-02-08T07:23:33Z</dcterms:modified>
  <cp:revision>7</cp:revision>
  <dc:subject/>
  <dc:title>Слайд 1</dc:title>
</cp:coreProperties>
</file>