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63293-C4F1-4DC0-ADB5-2E60A5AA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78D05-6C90-429C-BCA8-7BD6970A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C0E28-D3E6-4D27-B6A5-82A7B89B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C092D-E6D3-42DF-8C4B-CE529E81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3521B-4CA9-4C2A-9FFA-D0A4B330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66879-25D8-411D-8238-D65A68F6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286A2-BBBA-4466-931D-5AC247EB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4E06A-67EF-4928-BBAC-64939834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70E81-973D-4E03-B6E7-FCEB3346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58695-A94B-4E3D-9F8C-6965B4A8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1F379-DFA9-45D6-98DE-FCA07AD8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F8F9B-E2DB-4017-A331-036F15D6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7323E-6E31-414F-9B60-16E1417C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6747D-EA4E-4248-ACEE-5460885C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F4247-28D1-426D-AB35-1A8DECE6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4A53C-8122-4184-8FA4-73C9F70B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69C77-7DC3-4083-B99C-2BE2B740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578E8-FFF5-4A97-87D5-F2F5EE30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79102-C0A0-41AA-872A-7545C229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1AD46-F128-4060-9145-C189A866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360FB-18DA-4C94-8400-0B2F59D0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99611-51E8-4410-BEDB-F5F564CD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1B562-6B27-47AB-83A1-4A60C893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3329C-B8E2-41B0-8E0F-2AD57EF0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CEB00-3702-4B37-AD82-F1628EDD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D8EA1-70C9-4574-9277-3E3BCF4A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DE48C-6B5E-4443-A813-26860CFB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B5896-7F24-455B-8125-9AFE9D19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EFDB9-27DD-4F4D-B2E8-D8964C1A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00692-5D26-41AF-A0F8-FC8388E8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F59D6-DBE1-47D4-B613-59871093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33775-886F-4A3F-BF08-3E6B905E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5F216-0B1B-4A4D-B858-5194EAD3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582F1-736C-4B34-A235-9FB08D07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0A1F-8211-456A-BA62-89E99422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6BE34-151D-4104-9ADC-35C74FE7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1C47A-F561-4E58-9282-4D9963EF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70530-08B4-4CF7-8E71-48C7F700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9DC64-0563-44CE-BF14-8364D9F2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C550E-FE7F-41F7-8494-27D09332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42F95-88CE-4613-AFB5-8F9C9D0F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1C887-A510-4F39-BD35-00FA28AF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DE5B1-F60B-4E83-9D04-D7F83C89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EFEE9-B454-4E73-9AF1-E7E697A5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465AA-06DF-4E7C-BF97-0E2289E4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7306-6CA5-4C55-BA18-C960A5D5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E6A26-8008-4053-8F87-A04645EC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FD2AC-12E0-4B54-9711-7DBFCAF7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C05F4-201D-4F22-B4DE-2B00680F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EA2F0-C786-43D0-A69D-CA9976CF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93502-D058-41CD-A78D-F1F1339B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B71F2B-B081-4B10-A2FB-BC96B9C8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3B7EB1-AE9B-47C2-A199-411E83FB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30C02-A668-4059-801C-00C8FD74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415342-8776-4316-9BBB-9ADEE7BD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87E4F-39BE-4272-BE4F-0DF1B99B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2667-9DDF-4E41-8087-7C11CDD4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5367D-E3E0-45B5-8480-7F9F2019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E640C1-2613-45E6-8A2E-BAC8E943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B97065-8166-499E-BC64-CD2A4C5B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70858-4184-4023-A6F3-67EB37AE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EDBDE8-EDDD-40E3-9C5A-9B9DBCBB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132E5-7F5E-4EA9-B9A8-87DD427C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4F9EF0-C7FC-4EA4-A3D1-6A9BB67A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A3A7E5-1837-4381-96F4-0FC61C42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CA2BA-891A-415B-B770-7BCDA388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67F01-76B7-48BE-A19B-B665B888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052D-E4ED-4984-A482-8C8F3731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343B8-216B-4A0A-AA11-29A196B6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BB7476-2832-40D1-A35F-0DAB18B6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867ED-9D85-4CC3-917D-30A5E2CB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0E9186-C2AA-4E90-ABF5-86176225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E46B0E-8C5B-4DF1-8063-EAF142D5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806686-BF33-46C3-8D6B-CBA2E4CF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CF154C-D678-4A0A-9FF9-BAA9E390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CCEBC0-2D4C-46FA-925F-C8FC4032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696AD1-9083-4D9C-BB08-E9DA9815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099143-AB97-4F7F-8977-741DF3C1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E968-E317-4851-825F-27267A5F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39B320-015E-4A4C-BC01-551A4417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279C91-5E56-402A-A9D3-380E7781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20D463-703A-43B9-B8DC-D66F5DA5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6C4587-419F-45AC-B67C-352A7221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765063-802C-48DB-9097-AE458350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08109E-12C3-4204-AF6C-B8E2EC8C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773F1A-79B8-40E3-B069-DE99C5D2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190ABE-E62C-4E5B-94D8-B320D07F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8E8D49-049A-4DD1-8B1D-06700D48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15BD67-2896-43B6-BC07-A723B78D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EAF1-05BC-45C1-9AFE-F2D760D5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086E6B-3D2E-409A-BDEA-1AC93665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9CC4-4713-41FF-96AE-C2D1A401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FC097-02AD-432B-98CA-F84C44A9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582B-87C7-424F-A798-3A7C6CFD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643D-43BE-4D65-9243-2BC1D6D5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4813-8D49-42AB-BB62-AA446734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CF03-D33B-40D4-9B32-B5CFB531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698B-5D70-494C-A8D7-7AF1030A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5D9F4-1A2B-4B78-8B4E-F4BE36B6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EEBD1-DEAE-4567-B662-2FFD6461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94880-23AE-4D7A-9B69-C530760E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1C594-987F-43D2-9E2A-7AEECD29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FCD0F-F3A6-4589-9E55-7B011C4D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07C32-018B-42BC-95B8-0E18898C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0F52F-3AF2-4732-829B-4F3B3081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5C25A-CE0B-4471-90E7-036AEA44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50546-6843-4768-B8FA-F25BF7DA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472A8-4112-4BC8-A623-758EE5A3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1B53B-3709-47A7-A9D3-F4AF76E1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164FE-E8C6-41D3-8D42-AD8DA356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B70FA-D116-4104-A221-AC3816EB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8D87A-005D-444E-AB17-A2FDEA7A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26ADD-DA44-41AF-B15F-25828B08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EE151-1886-43AB-92C8-61471A1B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238BF-9F11-472A-A504-022DDA74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F851B-C2FA-482C-AEF5-8F3048B2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3253C-B264-44D7-A240-06448B41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FFA30-152B-41D7-B317-FE754FCE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35784-F188-4A59-AAEA-6AF69D4D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8368B-27B4-4CB3-B435-2FB57B02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5AB04-D08A-45BF-AA7F-05E853EF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3104C-4E79-46A3-BCA7-A89D6D0D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932C0-ACDB-4349-95CB-945B0DCE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5E05C-F8B5-4B3D-A267-7E7E7DE0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D4606-29C4-4019-A2AB-794C33B8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82BEA-9752-4AAF-B1FB-18C38BFC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28291-CB2C-4A95-BED2-0E63195D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7C5C4-3FDF-4A6F-A248-889DDB2C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90CAE-B814-449F-AE32-B7E2E575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E6421-D358-40D3-915E-AAA761BC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86515-E32D-45D1-B853-669E529E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AF6B7-7433-4916-B537-B3817398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00F2F-FE62-44DB-80A8-B3A4F8CF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45DD6-51EE-47AA-A3EA-1B50E349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2BA2C-372C-40D1-98EF-3D024F23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AC990-CE3F-474A-8D2E-BC57809C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E9287-BE0E-44BF-88CA-7CB97BDB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2801D-AB84-45A7-9FB0-3EFE14A0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0E7B2-0E8C-4658-9E37-65C05456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AD9C9-D27D-47E9-822E-5E567A70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C2482-3F15-4FDB-8901-F0F40C05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25A49-D688-491A-8503-9E98218A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B1FCD-B038-4861-A343-2F92BA2F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B3A73-BD13-4BC2-9856-9C6EA42C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F6160-4DA3-482C-80D9-8C181B5E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57A82-160A-4071-96A7-721369E1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B7594-F20A-45DF-9E88-5A856337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FF37C-C08E-450C-B517-8D0B89D7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921FF-92E9-4BFA-A82C-4CF11108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2675A-8EA4-4D7C-97C3-7A7C2B92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563FE-4FBA-4164-A202-6AA182EF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DA963-EDBD-42AE-B08B-11A7E80E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8499F-14EC-4013-8510-8ACB1326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94C8B-4429-485B-864C-93C97152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688F4-EC67-4B36-A38C-6430999A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8BBA1-32CE-4DD8-8CA8-43457899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492A6-CB79-4636-B481-57D7C62F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D6D59-DDCA-42FE-828F-3DB1C980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C7553-1CDB-4832-8556-FA771A00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23E45-D30E-4D98-8750-D85ACE11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9855F-EC32-4BDB-82AF-AFC65D84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98ED2-C72E-44F3-9EBE-55B9EAE1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12B27-F6B8-4CC5-BEC1-954156CE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D4DC5-7AFF-4DC6-A16B-292EF4E0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D3106-40A9-4B1D-B853-FC7E5FD5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19659-8B78-4329-A1FE-2B3CA4E5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70E28-6401-4995-8CEE-F3A02E3E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39C1A-5A0A-4273-A613-B16EA476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1DFBB-1D46-4737-8B32-80FA04D3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E8833-F1CD-4955-807A-88FEDC31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B6190-8E67-48ED-86AF-B65C0C8B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C6488-5020-45F1-A426-9BB0E805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597FF-3B57-4756-82EF-89E14D7A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F1A6D-EEE2-49EF-9A76-0F3E9AC2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F2A56-50FB-4D5D-BDA0-0383B7E2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FC9DB-B582-4FBF-81D8-116F27BF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323B2-DF8B-4828-AE82-3F3AF76D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C7975-1006-470C-A4C2-57861990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DB367-F69B-469B-BD9F-4C777B1F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FE39E-6605-428A-A2AC-9AB2E26D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3BF3-6B7D-440B-8184-FB672350D96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12C5-EBC2-4463-A448-AAEBFCB049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3358-925B-4CB7-B6DA-B25A88D297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AD73-5601-4665-91BC-EC1DAE398E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E37A-B682-42B6-A02D-1084EFE5F9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6588-1A04-46A7-98B7-CA37116DDE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CB05-8F8A-431A-B002-7C7846CE07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7D34-4A15-4DCE-9664-37E58E1F08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00D6-ED59-4AD7-8CCC-C89DB27369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55F1-8CA5-4238-B419-2B8164BD639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4778-8476-4485-A907-515ABA237D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32F6-8BFF-48FE-8C74-DFE4CD1A28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5CCE-C66D-4FCD-BD26-3C9477C03E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830C-69B9-466B-B466-80A51051C3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C3D4-D1C7-4A67-9FEC-AC766EF368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TextBox 3" descr=""/>
          <p:cNvPicPr/>
          <p:nvPr/>
        </p:nvPicPr>
        <p:blipFill>
          <a:blip r:embed="rId1"/>
          <a:stretch/>
        </p:blipFill>
        <p:spPr>
          <a:xfrm>
            <a:off x="-6480" y="-36360"/>
            <a:ext cx="7570800" cy="4632120"/>
          </a:xfrm>
          <a:prstGeom prst="rect">
            <a:avLst/>
          </a:prstGeom>
          <a:ln w="0">
            <a:noFill/>
          </a:ln>
        </p:spPr>
      </p:pic>
      <p:sp>
        <p:nvSpPr>
          <p:cNvPr id="660" name="AutoShape 4"/>
          <p:cNvSpPr/>
          <p:nvPr/>
        </p:nvSpPr>
        <p:spPr>
          <a:xfrm>
            <a:off x="71280" y="-136440"/>
            <a:ext cx="11718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1" name="Рисунок 4" descr="http://im2-tub-ru.yandex.net/i?id=316478254-19-72&amp;n=21"/>
          <p:cNvPicPr/>
          <p:nvPr/>
        </p:nvPicPr>
        <p:blipFill>
          <a:blip r:embed="rId2"/>
          <a:stretch/>
        </p:blipFill>
        <p:spPr>
          <a:xfrm>
            <a:off x="5929200" y="2214720"/>
            <a:ext cx="2916360" cy="3528720"/>
          </a:xfrm>
          <a:prstGeom prst="rect">
            <a:avLst/>
          </a:prstGeom>
          <a:ln w="0">
            <a:noFill/>
          </a:ln>
        </p:spPr>
      </p:pic>
      <p:pic>
        <p:nvPicPr>
          <p:cNvPr id="662" name="TextBox 4" descr=""/>
          <p:cNvPicPr/>
          <p:nvPr/>
        </p:nvPicPr>
        <p:blipFill>
          <a:blip r:embed="rId3"/>
          <a:stretch/>
        </p:blipFill>
        <p:spPr>
          <a:xfrm>
            <a:off x="-433440" y="4645080"/>
            <a:ext cx="757260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F:\учитель\фоны\фоны под номинации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4" name="Таблица 5" descr=""/>
          <p:cNvPicPr/>
          <p:nvPr/>
        </p:nvPicPr>
        <p:blipFill>
          <a:blip r:embed="rId2"/>
          <a:stretch/>
        </p:blipFill>
        <p:spPr>
          <a:xfrm>
            <a:off x="122400" y="79200"/>
            <a:ext cx="8899200" cy="6602760"/>
          </a:xfrm>
          <a:prstGeom prst="rect">
            <a:avLst/>
          </a:prstGeom>
          <a:ln w="0">
            <a:noFill/>
          </a:ln>
        </p:spPr>
      </p:pic>
      <p:sp>
        <p:nvSpPr>
          <p:cNvPr id="665" name="5-конечная звезда 3">
            <a:hlinkClick r:id="rId3" action="ppaction://hlinksldjump"/>
          </p:cNvPr>
          <p:cNvSpPr/>
          <p:nvPr/>
        </p:nvSpPr>
        <p:spPr>
          <a:xfrm>
            <a:off x="8604360" y="6381720"/>
            <a:ext cx="395280" cy="33192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F:\учитель\фоны\Безимесни-2.jpg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7" name="Прямоугольник 2" descr=""/>
          <p:cNvPicPr/>
          <p:nvPr/>
        </p:nvPicPr>
        <p:blipFill>
          <a:blip r:embed="rId2"/>
          <a:stretch/>
        </p:blipFill>
        <p:spPr>
          <a:xfrm>
            <a:off x="8193240" y="-85680"/>
            <a:ext cx="853920" cy="615960"/>
          </a:xfrm>
          <a:prstGeom prst="rect">
            <a:avLst/>
          </a:prstGeom>
          <a:ln w="0">
            <a:noFill/>
          </a:ln>
        </p:spPr>
      </p:pic>
      <p:pic>
        <p:nvPicPr>
          <p:cNvPr id="668" name="Прямоугольник 11" descr=""/>
          <p:cNvPicPr/>
          <p:nvPr/>
        </p:nvPicPr>
        <p:blipFill>
          <a:blip r:embed="rId3"/>
          <a:stretch/>
        </p:blipFill>
        <p:spPr>
          <a:xfrm>
            <a:off x="3054240" y="-79200"/>
            <a:ext cx="5235840" cy="676080"/>
          </a:xfrm>
          <a:prstGeom prst="rect">
            <a:avLst/>
          </a:prstGeom>
          <a:ln w="0">
            <a:noFill/>
          </a:ln>
        </p:spPr>
      </p:pic>
      <p:sp>
        <p:nvSpPr>
          <p:cNvPr id="669" name="Управляющая кнопка: в начало 12">
            <a:hlinkClick r:id="rId4" action="ppaction://hlinksldjump"/>
          </p:cNvPr>
          <p:cNvSpPr/>
          <p:nvPr/>
        </p:nvSpPr>
        <p:spPr>
          <a:xfrm>
            <a:off x="8532720" y="6165720"/>
            <a:ext cx="611280" cy="692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92280"/>
              <a:gd name="textAreaBottom" fmla="*/ 652680 h 692280"/>
            </a:gdLst>
            <a:ahLst/>
            <a:rect l="textAreaLeft" t="textAreaTop" r="textAreaRight" b="textAreaBottom"/>
            <a:pathLst>
              <a:path w="21600" h="24461">
                <a:moveTo>
                  <a:pt x="0" y="0"/>
                </a:moveTo>
                <a:lnTo>
                  <a:pt x="21600" y="0"/>
                </a:lnTo>
                <a:lnTo>
                  <a:pt x="21600" y="24461"/>
                </a:lnTo>
                <a:lnTo>
                  <a:pt x="0" y="24461"/>
                </a:lnTo>
                <a:close/>
              </a:path>
              <a:path fill="lightenLess" w="21600" h="244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1">
                <a:moveTo>
                  <a:pt x="21600" y="0"/>
                </a:moveTo>
                <a:lnTo>
                  <a:pt x="21600" y="24461"/>
                </a:lnTo>
                <a:lnTo>
                  <a:pt x="20200" y="23061"/>
                </a:lnTo>
                <a:lnTo>
                  <a:pt x="20200" y="1400"/>
                </a:lnTo>
                <a:close/>
              </a:path>
              <a:path fill="darkenLess" w="21600" h="24461">
                <a:moveTo>
                  <a:pt x="21600" y="24461"/>
                </a:moveTo>
                <a:lnTo>
                  <a:pt x="0" y="24461"/>
                </a:lnTo>
                <a:lnTo>
                  <a:pt x="1400" y="23061"/>
                </a:lnTo>
                <a:lnTo>
                  <a:pt x="20200" y="23061"/>
                </a:lnTo>
                <a:close/>
              </a:path>
              <a:path fill="lighten" w="21600" h="24461">
                <a:moveTo>
                  <a:pt x="0" y="244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1"/>
                </a:lnTo>
                <a:close/>
              </a:path>
              <a:path fill="darken" w="21600" h="24461">
                <a:moveTo>
                  <a:pt x="7301" y="12230"/>
                </a:moveTo>
                <a:lnTo>
                  <a:pt x="17806" y="5224"/>
                </a:lnTo>
                <a:lnTo>
                  <a:pt x="17806" y="19237"/>
                </a:lnTo>
                <a:close/>
              </a:path>
              <a:path fill="darken" w="21600" h="24461">
                <a:moveTo>
                  <a:pt x="3794" y="5224"/>
                </a:moveTo>
                <a:lnTo>
                  <a:pt x="5456" y="5224"/>
                </a:lnTo>
                <a:lnTo>
                  <a:pt x="5456" y="19237"/>
                </a:lnTo>
                <a:lnTo>
                  <a:pt x="3794" y="1923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0" name="Прямоугольник 13" descr=""/>
          <p:cNvPicPr/>
          <p:nvPr/>
        </p:nvPicPr>
        <p:blipFill>
          <a:blip r:embed="rId5"/>
          <a:stretch/>
        </p:blipFill>
        <p:spPr>
          <a:xfrm>
            <a:off x="1755720" y="811080"/>
            <a:ext cx="6046920" cy="2359080"/>
          </a:xfrm>
          <a:prstGeom prst="rect">
            <a:avLst/>
          </a:prstGeom>
          <a:ln w="0">
            <a:noFill/>
          </a:ln>
        </p:spPr>
      </p:pic>
      <p:pic>
        <p:nvPicPr>
          <p:cNvPr id="671" name="Прямоугольник 14" descr=""/>
          <p:cNvPicPr/>
          <p:nvPr/>
        </p:nvPicPr>
        <p:blipFill>
          <a:blip r:embed="rId6"/>
          <a:stretch/>
        </p:blipFill>
        <p:spPr>
          <a:xfrm>
            <a:off x="1944720" y="3865680"/>
            <a:ext cx="5992920" cy="1255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75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75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09:05:46Z</dcterms:created>
  <dc:creator>Преподаватель Скоробогатова Л.В.</dc:creator>
  <dc:description/>
  <dc:language>en-US</dc:language>
  <cp:lastModifiedBy>саня</cp:lastModifiedBy>
  <dcterms:modified xsi:type="dcterms:W3CDTF">2014-11-06T05:24:14Z</dcterms:modified>
  <cp:revision>296</cp:revision>
  <dc:subject/>
  <dc:title>Слайд 1</dc:title>
</cp:coreProperties>
</file>