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FBF27-94F7-4E2E-8253-F597EC34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7770-028F-472A-8887-BCE6A65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7331-BDEC-4720-B917-F6EB3293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54473-B100-4242-8D6D-FBF66F9B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FCD7-31DD-4ECA-9A4C-08B310F7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430F-1124-4689-890F-4C3D86B8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7BF3-2F18-46D5-9571-90EF2E16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AA6F-82A6-40AF-B338-E78E94B0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F8F-39FD-48C6-B1A0-19A29063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DB5-F26A-485D-A96F-113F86D4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17E6-8C59-43C1-A2AC-4F010695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9963-99DA-4B4E-9B6A-5AE0E282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934D-F70A-4819-BCCA-38C05DB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8CA5-1702-411D-8B3E-9EC2BF5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A23C-0428-4B6B-A271-F0986C9F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FB4C-2231-4068-BEAD-FE48BDE6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ACD0-D7E4-48DA-8755-AC4954E1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4E69-5C4F-4086-81AC-738C3994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C476-C1EA-4249-BBEC-B04C2826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28F8-F71C-4C0D-BF5F-EBFEE867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FB33-5759-448B-B854-0B42394A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7B7C-0B12-4134-A3D2-9922254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391B-D07C-462F-AC02-9A6B77D3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F589-7435-45D7-8543-F4F233EC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2EF8-5302-4FC9-A35F-49CD07309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8884-380E-483E-9FD2-D1A095D2E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АЕМ БЫСТРО И ПРАВИ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дай ЕГЭ по математике на отлич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6(2 из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квадратом натурального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акое либо число, сумма цифр которого равна 1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20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º¹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а+в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2∙а∙в+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(80 – 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400 –2∙80∙2+4 = 60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450:2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52640" y="3205080"/>
            <a:ext cx="343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влечение квадратного корня из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561=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561=√ 3 ∙ 3 ∙ 3 ∙ 3 =√ 81 ∙ 81 = 81 могут использовать учащиеся 6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проб и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шибки при решении части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Верный путь к потере баллов — неаккуратные вычисления, в которых что-то исправлено, зачеркнуто, одна цифра написана поверх другой. Посмотрите на свои черновики. Возможно, они выглядят так же?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новики наших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иси карандашом,на поля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ка заданий части В – автоматическая. Здесь не бывает «почти правильного» ответа. Либо он правилен, либо нет. Одна вычислительная ошибка – и , задача не засчитывается. Поэтому в наших интересах научиться считать быстро, правильно и без калькуля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сть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части С проверяет эксперт. Позаботьтесь о нем! Пусть ему будет понятен и ваш почерк, и логика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ЧТО ОБРАТИТЬ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ема Ви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пени и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йствия с чис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сь ответа и проверка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пособы вычисления без кальк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ожение на простые множители как способ извлечения квадратных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чественное знание формул сокращенного умн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66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999х+333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х+1=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с,х1,х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уравнения с помощью теоремы Ви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2010х-201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1∙х2=-2011,х1+х2=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1=-1, х2=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уравнения  связью между коэффициен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вх+с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=а+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1=-1,х2=-с/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2010х-201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7х+5=0,х=-1,х=-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блица умножения до19х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чисел,разбиением мысленно на десятки и еди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*12=29*10+29*2=290+58= 3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*16=41*10+41*6 = 410+246 =6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ведение в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2*3=6; 6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4*5= 20;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14*15 = 210; 21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езно запом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7*З =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помнив это, легко выполнять устно умножение числа 37 на 6, 9, 12 и т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*6=37*3*2=2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*9=37*3*3=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*12=37*3*4=4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*15=37*3*5 =555 и т. 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*11*13=1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изведение на 8,4,25,125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изведение чисел от 11 до 1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х14   запись справа на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х4=12 пишем2, 1 в у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+4=7 ,7+1=8 пишем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х1=1 пишем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8:10:20Z</dcterms:created>
  <dc:creator>user</dc:creator>
  <dc:description/>
  <dc:language>en-US</dc:language>
  <cp:lastModifiedBy>user</cp:lastModifiedBy>
  <dcterms:modified xsi:type="dcterms:W3CDTF">2013-01-08T17:22:05Z</dcterms:modified>
  <cp:revision>5</cp:revision>
  <dc:subject/>
  <dc:title>РЕШАЕМ БЫСТРО И ПРАВИЛЬНО</dc:title>
</cp:coreProperties>
</file>