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3AE69-ED39-4B17-BD22-9D2145C97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621DE-E1BC-4BDA-BA53-17C92DC3B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24894-CC55-4EB0-AB80-26B277934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DDDA6-DB55-4D37-810E-282B002ED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D7114-BC14-4278-AA65-D777630DA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0F709-EEB3-473B-B7AE-61A9611BB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9C9C0-2C35-4942-A052-04924E0EE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754A2-5FA9-4998-8982-92B569C74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0B02D-9E9D-4D1A-A5C5-5DFC65F8C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E48C6-E24A-47E3-A21B-211597520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741AB-F56D-490A-8442-C9B7FBCC2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34E17-52E2-4481-86A2-1FDD93276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ABABE-FA1A-406E-A763-43C3710E3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B7C9F-DF3C-4ECB-BB91-200BB78EE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3C385-41A7-4316-AB1D-C1A4A9E3F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43AE6-5D87-4EAB-A72E-4D2D7DC48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8DFBB-CC0D-492D-8C44-A27E99DD5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FD263-93B7-47E4-8A70-81A571073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95973-A7D6-44AB-96A1-F36147DD5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24FFB-B598-4580-AF94-73BFA5B85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CC474-0719-4C9E-B380-51E8E3AB6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859B2-137F-4C23-8A2C-A955DCB7D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1F8A6-8925-49DE-AC3E-E789C1A3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C45F5-92C5-4089-8AF9-BF71851D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782B4-0A90-4E33-8F66-FBE321B1C3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D5A6C-0385-432F-AB41-E4A97C7E40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Технология оценивания образовательных достижений (учебных успехов) в начальной школ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Подготовила: Наширбанова Т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учитель начальных класс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МКОУ «Средняя школа №6»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Интегрированная проверочная работа (конец год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зволяет определить сформированность умения переноса знаний и способов учебных действий, полученных в одной предметной области, на другие учебные ситуации и задач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543800" y="4876920"/>
            <a:ext cx="1219320" cy="1447560"/>
          </a:xfrm>
          <a:custGeom>
            <a:avLst/>
            <a:gdLst>
              <a:gd name="textAreaLeft" fmla="*/ 78840 w 1219320"/>
              <a:gd name="textAreaRight" fmla="*/ 1140480 w 1219320"/>
              <a:gd name="textAreaTop" fmla="*/ 78840 h 1447560"/>
              <a:gd name="textAreaBottom" fmla="*/ 1368720 h 1447560"/>
            </a:gdLst>
            <a:ahLst/>
            <a:rect l="textAreaLeft" t="textAreaTop" r="textAreaRight" b="textAreaBottom"/>
            <a:pathLst>
              <a:path w="21600" h="25642">
                <a:moveTo>
                  <a:pt x="0" y="0"/>
                </a:moveTo>
                <a:lnTo>
                  <a:pt x="21600" y="0"/>
                </a:lnTo>
                <a:lnTo>
                  <a:pt x="21600" y="25642"/>
                </a:lnTo>
                <a:lnTo>
                  <a:pt x="0" y="25642"/>
                </a:lnTo>
                <a:close/>
              </a:path>
              <a:path fill="lightenLess" w="21600" h="256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642">
                <a:moveTo>
                  <a:pt x="21600" y="0"/>
                </a:moveTo>
                <a:lnTo>
                  <a:pt x="21600" y="25642"/>
                </a:lnTo>
                <a:lnTo>
                  <a:pt x="20200" y="24242"/>
                </a:lnTo>
                <a:lnTo>
                  <a:pt x="20200" y="1400"/>
                </a:lnTo>
                <a:close/>
              </a:path>
              <a:path fill="darkenLess" w="21600" h="25642">
                <a:moveTo>
                  <a:pt x="21600" y="25642"/>
                </a:moveTo>
                <a:lnTo>
                  <a:pt x="0" y="25642"/>
                </a:lnTo>
                <a:lnTo>
                  <a:pt x="1400" y="24242"/>
                </a:lnTo>
                <a:lnTo>
                  <a:pt x="20200" y="24242"/>
                </a:lnTo>
                <a:close/>
              </a:path>
              <a:path fill="lighten" w="21600" h="25642">
                <a:moveTo>
                  <a:pt x="0" y="2564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242"/>
                </a:lnTo>
                <a:close/>
              </a:path>
              <a:path fill="darkenLess" w="21600" h="25642">
                <a:moveTo>
                  <a:pt x="5273" y="6006"/>
                </a:moveTo>
                <a:lnTo>
                  <a:pt x="12271" y="6006"/>
                </a:lnTo>
                <a:lnTo>
                  <a:pt x="16327" y="9505"/>
                </a:lnTo>
                <a:lnTo>
                  <a:pt x="16327" y="19636"/>
                </a:lnTo>
                <a:lnTo>
                  <a:pt x="5273" y="19636"/>
                </a:lnTo>
                <a:close/>
              </a:path>
              <a:path fill="darken" w="21600" h="25642">
                <a:moveTo>
                  <a:pt x="12271" y="6006"/>
                </a:moveTo>
                <a:lnTo>
                  <a:pt x="16327" y="9505"/>
                </a:lnTo>
                <a:lnTo>
                  <a:pt x="12271" y="9505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Самое главное при оценивании – сравнивать результаты с уровнем самого ученика на предыдущих этапах, подчёркивая продвижение и выделяя действия, развитие которых необходимо продолжить в будущ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Система оценки должн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Фиксировать цели оценочной деятельнос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риентировать на достижение личностных, предметных и метапредметных результат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еспечить комплексный подход к оценке этих результа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Система оценки должн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Фиксировать критерии, процедуры, инструменты оценки и формы представления её результа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Фиксировать условия и границы применения системы оцен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Правила оценивания и контро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66"/>
                </a:solidFill>
                <a:uFillTx/>
                <a:latin typeface="Arial"/>
              </a:rPr>
              <a:t>Что оценивае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цениваются результаты- предметные, метапредметные, личност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66"/>
                </a:solidFill>
                <a:uFillTx/>
                <a:latin typeface="Arial"/>
              </a:rPr>
              <a:t>Кто оценивае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итель и ученик вместе определяют оценку и отмет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Правила оценивания и контро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Сколько ставить отмето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 числу решённых зада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Где накапливать оценки и отмет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таблицах образовательных результатов и в «Портфеле достижений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Таблицы предметных результа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Таблицы метапредметных результа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502920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  <a:path fill="darkenLess" w="21600" h="26394">
                <a:moveTo>
                  <a:pt x="5273" y="6382"/>
                </a:moveTo>
                <a:lnTo>
                  <a:pt x="12271" y="6382"/>
                </a:lnTo>
                <a:lnTo>
                  <a:pt x="16327" y="9881"/>
                </a:lnTo>
                <a:lnTo>
                  <a:pt x="16327" y="20012"/>
                </a:lnTo>
                <a:lnTo>
                  <a:pt x="5273" y="20012"/>
                </a:lnTo>
                <a:close/>
              </a:path>
              <a:path fill="darken" w="21600" h="26394">
                <a:moveTo>
                  <a:pt x="12271" y="6382"/>
                </a:moveTo>
                <a:lnTo>
                  <a:pt x="16327" y="9881"/>
                </a:lnTo>
                <a:lnTo>
                  <a:pt x="12271" y="9881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Правила оценивания и контро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66"/>
                </a:solidFill>
                <a:uFillTx/>
                <a:latin typeface="Arial"/>
              </a:rPr>
              <a:t>Когда ставить отмет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кущие – по желанию, за тематические проверочные работы – обязатель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66"/>
                </a:solidFill>
                <a:uFillTx/>
                <a:latin typeface="Arial"/>
              </a:rPr>
              <a:t>По каким критериям оценива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признакам трёх уровней успеш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еобходимый уровень (базовы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вышенный уровень (программны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аксимальный уровень (НЕобязательны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Правила оценивания и контро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Как определять итоговые оцен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 таблицам предметных достижений, с учетом результатов итоговых интегрированных работ учащих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8T17:45:36Z</dcterms:created>
  <dc:creator>Admin</dc:creator>
  <dc:description/>
  <dc:language>en-US</dc:language>
  <cp:lastModifiedBy>Admin</cp:lastModifiedBy>
  <dcterms:modified xsi:type="dcterms:W3CDTF">2014-11-06T20:03:3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