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B97-6F86-4776-8B21-760BD40E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881-B90F-4E78-99DD-E53CEF49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561-FB9E-4D85-A8BD-6A1BF667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293-824D-44A6-9DA1-153422FF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23D-F745-4B12-8612-76A8B434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A9E-B203-4672-88B7-ACE0A222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CBE-CD9F-4B2A-BD29-61F6BFAF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42F-AD4C-4F41-9242-7BEC4EEF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289-4784-4E9B-8772-08FBD962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3BF-3627-48AA-BFB2-AF641385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41C-ACAF-4333-8231-AA4104AC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44B-B534-4ED9-A270-2190FF17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7DF2-BEE7-420F-AA02-D114035F0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57160" y="500040"/>
            <a:ext cx="7715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Verdana"/>
                <a:ea typeface="Arial"/>
              </a:rPr>
              <a:t>Нелегкий выбор профе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889520" y="5445000"/>
            <a:ext cx="42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Работу выполнила Ткачева Лил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Ученица 10А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МБОУ «Шолоховская гимназ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Учитель Сидорова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и переобучение безработных по программам Центра занятости населения Шолоховского райо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10-2012 г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1071720" y="1857240"/>
          <a:ext cx="763740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1857240"/>
                    <a:ext cx="763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лонности учащихся 10-11 класс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анным ДДО Клим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981800" y="177336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в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445080" y="184464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7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4038480" cy="478620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9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28148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Места жительства выпускников гимназии 1994-2006г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ject 4" descr=""/>
          <p:cNvPicPr/>
          <p:nvPr/>
        </p:nvPicPr>
        <p:blipFill>
          <a:blip r:embed="rId2"/>
          <a:stretch/>
        </p:blipFill>
        <p:spPr>
          <a:xfrm>
            <a:off x="142920" y="1643040"/>
            <a:ext cx="3481200" cy="3643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863640" y="192888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Желание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-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9"/>
          <p:cNvGraphicFramePr/>
          <p:nvPr/>
        </p:nvGraphicFramePr>
        <p:xfrm>
          <a:off x="3643200" y="1428840"/>
          <a:ext cx="5500800" cy="493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1428840"/>
                    <a:ext cx="550080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Диаграмма 7" descr=""/>
          <p:cNvPicPr/>
          <p:nvPr/>
        </p:nvPicPr>
        <p:blipFill>
          <a:blip r:embed="rId5"/>
          <a:stretch/>
        </p:blipFill>
        <p:spPr>
          <a:xfrm>
            <a:off x="3500280" y="1500120"/>
            <a:ext cx="56437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первом в будущей жизни буду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Object 4" descr=""/>
          <p:cNvPicPr/>
          <p:nvPr/>
        </p:nvPicPr>
        <p:blipFill>
          <a:blip r:embed="rId2"/>
          <a:stretch/>
        </p:blipFill>
        <p:spPr>
          <a:xfrm>
            <a:off x="417600" y="1830240"/>
            <a:ext cx="8335800" cy="40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офессии, выбираемые учащимис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-11 классов гимназии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Диаграмма 3"/>
          <p:cNvGraphicFramePr/>
          <p:nvPr/>
        </p:nvGraphicFramePr>
        <p:xfrm>
          <a:off x="233280" y="1494000"/>
          <a:ext cx="8534520" cy="498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494000"/>
                    <a:ext cx="8534520" cy="49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фессии вы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нные выпускника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имназ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010-2012г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4" descr="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 выборе профессии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о уче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вои склонности, способности и жел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Аргументы родителей и близк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итуацию на рынке тру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собенности будущей работы, ее преимущества и недоста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\Мои документы\Профессии\b15d3a2774993f93a5ba8529e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8360" y="2143080"/>
            <a:ext cx="6289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Выбирая будущую профессию, нужно учитывать свои способности и желания, положение на рынке труда, особенности выбранной профе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Цель проекта: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Изучить набор наиболее востребованных профессий современности и дать рекомендации по выбору профе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900"/>
            </a:b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- изучить теоретические особенности выбора профессии;</a:t>
            </a:r>
            <a:br>
              <a:rPr sz="2900"/>
            </a:b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- проанализировать рынок самых востребованных и высо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оплачиваемых профессий России;</a:t>
            </a:r>
            <a:br>
              <a:rPr sz="2900"/>
            </a:b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- изучить положение на рынке труда Шолоховского района;</a:t>
            </a:r>
            <a:br>
              <a:rPr sz="2900"/>
            </a:b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- рассмотреть выбор профессий учащимися и выпускниками Шолоховской гимназии.</a:t>
            </a:r>
            <a:br>
              <a:rPr sz="3600"/>
            </a:b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ланы: личные планы человека относительно его карьеры и будущего. А также приходится учитывать и планы его близких, например родител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Склонности: интересы к определенным видам деятельности, пожел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Способности – как уже известные ему, так и скрытые, не успевшие прояв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Актуальный социальный запрос на тот или иной вид профессии, а также прогноз динамики спроса на профессионалов в будущ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42800" y="189000"/>
            <a:ext cx="8701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профессии – это процесс, цепочка взаимосвязанных шагов, осуществляемых с учетом различных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стоятельст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чественный состав вакансий в Центре занятости населения Шолоховского райо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 2012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Содержимое 3"/>
          <p:cNvGraphicFramePr/>
          <p:nvPr/>
        </p:nvGraphicFramePr>
        <p:xfrm>
          <a:off x="6480" y="1623960"/>
          <a:ext cx="8634240" cy="430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Содержимое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80" y="1623960"/>
                    <a:ext cx="863424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личество безработных разных категори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 вакансий (з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в. 2012 года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"/>
          <p:cNvPicPr/>
          <p:nvPr/>
        </p:nvPicPr>
        <p:blipFill>
          <a:blip r:embed="rId2"/>
          <a:stretch/>
        </p:blipFill>
        <p:spPr>
          <a:xfrm>
            <a:off x="785880" y="1214280"/>
            <a:ext cx="82296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6:52:51Z</dcterms:created>
  <dc:creator>Admin</dc:creator>
  <dc:description/>
  <dc:language>en-US</dc:language>
  <cp:lastModifiedBy>Shol_G</cp:lastModifiedBy>
  <dcterms:modified xsi:type="dcterms:W3CDTF">2013-03-29T08:51:38Z</dcterms:modified>
  <cp:revision>32</cp:revision>
  <dc:subject/>
  <dc:title>Гипотеза:  Выбирая будущую профессию, нужно учитывать свои способности и желания, положение на рынке труда, особенности выбранной профессии</dc:title>
</cp:coreProperties>
</file>