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16C-AEC7-41CD-A423-BF43BC93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6F9-7C04-4053-A94D-5171473F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CC4-EEBB-487A-B072-BA1297C9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7AA-94AD-4AB2-B245-3BDE81D1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D81D-9C6E-452D-8507-E81CCC3D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92A4-98F2-4E89-BE9C-C029D81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6323-F4E7-4C01-807A-EEB65F17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657-61E9-407D-9363-1E306F2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2F46-46E3-4E97-A2DB-9181C645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C474-DA37-4792-BC51-7765B321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DCD6-3DBD-43A8-8503-2FF3FFB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EB6-DEFC-4562-BCCD-03FC02A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57D-BBF0-4E42-BC05-22B4A51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10EE-A137-4EA2-BAA6-104CC83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682-02AB-4488-B56D-EB5FEE2C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72B7-5E16-4CF7-A0C5-77F9E4A8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D9D-7894-4EC1-A8EA-2D7333A3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FA1-3B2F-45AC-8ACB-08DA762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507-7E92-4BED-BE39-5AA9BFAA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F6F-561D-4855-9BE3-DB35BB1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15B-2030-4F19-AF30-A98FD17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298-0C73-4A09-9630-9FDD1B4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F0D-DD23-41FD-B416-AE07E3B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E74-1CF3-4410-92E3-B13A79E6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F639-C45A-4002-B6DB-1C5AD299EAA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102-542E-4D37-AFC5-138C771C09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7360" y="70236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кружающий мир. 4 класс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ма: «Русь расправляет крылья»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708280"/>
            <a:ext cx="76932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формировать представления учащихся о возрождении Рус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вивать речь учащихся, умение работать с карто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оспитывать интерес к истор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8). Когда состоялось Ледовое побоище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92240" y="2361960"/>
            <a:ext cx="65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5 апреля 1242 год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20 мая 1242 год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5 апреля 1421 год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амопровер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1 – 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2 – 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3 – В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4 – В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5 – 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6 – 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7 – 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8 – 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Русь расправляет крыл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257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Как возрождалась Рус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Города северо-восточных земель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Моск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Твер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Ярославл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Возрождение прежних ремё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кузнецы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кожев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гончар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сапож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плот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каменотё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брон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щит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луч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кольчуж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0" y="4691160"/>
            <a:ext cx="51847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Монастырь – обитель монах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Монастырь – это территория, храм и все помещения такой общин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(Толковый словарь русского языка. С.И.Ожегов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Троице-Сергиева лавра</a:t>
            </a:r>
            <a:br>
              <a:rPr sz="3200"/>
            </a:b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(А.Васнецов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33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66"/>
                </a:solidFill>
                <a:latin typeface="Arial"/>
              </a:rPr>
              <a:t>Дмитрий Иванович получает благословение у Сергия Радонежского</a:t>
            </a:r>
            <a:br>
              <a:rPr sz="3200"/>
            </a:b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(Художник А. Новоскольский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608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Московский князь Иван Данилови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по прозв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Кали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Трудные времена на Русской земл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Проверочный тес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511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51280" y="3500280"/>
            <a:ext cx="5138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Московский Кремль</a:t>
            </a:r>
            <a:br>
              <a:rPr sz="2800"/>
            </a:b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при Иване Калите</a:t>
            </a:r>
            <a:br>
              <a:rPr sz="32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А.Васнецов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77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Шапка Мономаха –</a:t>
            </a:r>
            <a:br>
              <a:rPr sz="3200"/>
            </a:b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символ вла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Закрепление изученног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Блиц-опро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Русь расправляет крыл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акие земли оказались более безопасными для жизн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акие города здесь располагалис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акие ремёсла возродились в этих городах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акой монастырь возник около города Радонеж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то его основал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то правил в Москве в те времен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Что происходило с Москвой при его правлени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Что получили в наследство от Ивана Калиты московские князья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Чем известен в истории Иван Калит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ведение итогов урок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омашнее зад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читать текст, ответить на вопросы «Проверь себя» (с.65 – 69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полнить задания (с.69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дготовить сообщения о возникновении Москвы, Крем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1). Поход монголо-татар возглавил хан…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43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А) Чингисха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Б) Бат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В) Темучи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2). Какой город первым оказался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на их пут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Ряза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Владими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Новгоро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3). Какой город долго сопротивлялся монголо-татарам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58880" y="2361960"/>
            <a:ext cx="68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Новгоро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Ряза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Козельс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4). Что выплачивала Русь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Золотой Орде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26720" y="2361960"/>
            <a:ext cx="6604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выкуп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нало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да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5). Первый удар в 1240 г. на северо-западном рубеже Руси нанесли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26720" y="2361960"/>
            <a:ext cx="6604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монгол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швед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рыцари-крестоносц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6). Разбил шведов на реке Неве князь 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26720" y="2361960"/>
            <a:ext cx="6604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Александ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Яросла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Владими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7). Какое прозвище получил новгородский князь за победу над шведам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60080" y="2361960"/>
            <a:ext cx="627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А) Мудр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) Невск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) Вещ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23:15Z</dcterms:created>
  <dc:creator>Инна</dc:creator>
  <dc:description/>
  <dc:language>en-US</dc:language>
  <cp:lastModifiedBy>Инна</cp:lastModifiedBy>
  <dcterms:modified xsi:type="dcterms:W3CDTF">2014-11-06T11:39:21Z</dcterms:modified>
  <cp:revision>6</cp:revision>
  <dc:subject/>
  <dc:title>Трудные времена на Русской земле.</dc:title>
</cp:coreProperties>
</file>