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DE7-E852-49D8-8765-6C31B702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CD1-1731-4F51-8A5B-66056A8C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FD6-5372-4BE2-8105-1DAAFCA9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753-2A41-4BB0-948A-C881FA6C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5D3-9192-4926-987C-D402E5AF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166-885B-48EB-9D8E-C33EB20E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FD5-52BC-4FBF-8160-FD1008E9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27C-A266-4771-A08B-C177A682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217-ADD3-4F75-AF72-5E4C2BF8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8C3-3376-469F-9AF9-8671E39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674-DF79-4F0F-A994-8E4721D8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8E9-910F-4AF4-8869-7C58EF3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6EC4-8D78-405D-A41D-B9029C74B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итературная гостин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вященная 195-летию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 дня рождения Ивана Сергеевича Тургене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797360"/>
            <a:ext cx="727236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ий певец великой Росси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05200" y="692280"/>
            <a:ext cx="4438800" cy="616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87640" y="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ина Виар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20640"/>
            <a:ext cx="378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ношения Тургенева и Полины Виардо причисляют к самым драматичным и долгим историям любви. Это было время для Ивана Сергеевича и сладостное, и нелепое. Сладостное заключалось в том, что он полюбил, он ею заболел на долгие сорок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67440" y="476280"/>
            <a:ext cx="39765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чь И.С.Тургенева Пелагея ( Полин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5000"/>
            <a:ext cx="38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5000"/>
            <a:ext cx="46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42 году у Тургенева от крепостной крестьянки Авдотьи Ермолаевны родилась внебрачная дочь – Пелагея ( Полина впоследствии ). Долгое время девочка жила в Спасском. В 1850 Иван Сергеевич вывез свою дочь в Париж, к Полине Виардо, которая воспитывала её вместе со своими детьми. Дочь Тургенева получила приличное дворянское воспитание – словом, точь-в-точь история А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45080" y="-243000"/>
            <a:ext cx="5398920" cy="7461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956720" y="5805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268280"/>
            <a:ext cx="30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9000"/>
            <a:ext cx="3708360" cy="63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м, вдали, где роща так туман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луг едва трепещет над тропой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а, Лиза, Маша, Мариан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Ася, и несчастная Сусанн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ралися воздушною тро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омые причудливые те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я любви и крас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ейственной, и женственной мечты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вызвал к жизни чистый, нежный г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дал им форму, краски и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К. Бальмон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28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362480" y="0"/>
            <a:ext cx="478152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49360"/>
            <a:ext cx="42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брый мой читатель, не пробегай этих стихотворений сподря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бе, вероятно, скучно станет,… книга вывалится из рук. Но читай их враздроб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егодня одно, завтра другое, - которое-нибудь из них, может быть, заронит тебе что-нибудь в душу» , - так обращался Тургенев к читателям «Стихотворений в прозе», опубликованных в журнале «Вестник Европы» в 1882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76680" y="0"/>
            <a:ext cx="5467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404640"/>
            <a:ext cx="349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 Иван Сергеевич Тургенев 3 сентября 1883 года. Похоронен в Петербурге на Волковском кладбище. В 1884 году на могиле Тургенева была установлена черная мраморная плита с надписью «Вечная память славному поборнику просвещения народа русс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820000" cy="76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ургенев – это «вся чистота чувства, расцвеченное мгновенье, заветная лесная опушка, душистый сад люблю, музыка души, перекличка сердец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.Бальмо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Вся моя биография в моих сочинениях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.С.Турген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.С. Тургенев родился в Орлу 28 октября 1818 года и детские года провел в Орловском поместье матери Варвары Петровны, в селе Спасском. В поместье царил деспотический, жестокий произвол его суровой хозяйки, беспощадной со своими слугами. Отец Тургенева принадлежал к известному дворянскому роду. Он участвовал в Бородинском сражении, где был ранен и за храбрость награжден Георгиевским крестом. Отец будущего писателя Сергей Николаевич был в семье на втором пл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5280" y="458136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5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дорогом ему Спасском Тургенев говори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Я провёл здесь лучшие годы своей жизни». Рано полюбил охоту, отправлялся с ружьём на берега Десны, в леса и бол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оящий успех пришёл к писателю вместе с публикацией рассказов «Записки охотника». Он сделал героями своих очерков, мужиков, крепостных. В рассказе «Бежин луг» героями выступают деревенские мальчишки. Писатель описал их с уважением, любовью, интересом к личности каждого, изобразил разнообразные характеры. Народная Россия в «Записках охотника» одухотворяется и растёт на наших глазах. Её живой, целостный образ, увенчивает при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94872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18:21:34Z</dcterms:created>
  <dc:creator>User</dc:creator>
  <dc:description/>
  <dc:language>en-US</dc:language>
  <cp:lastModifiedBy>User</cp:lastModifiedBy>
  <dcterms:modified xsi:type="dcterms:W3CDTF">2014-10-28T12:31:11Z</dcterms:modified>
  <cp:revision>9</cp:revision>
  <dc:subject/>
  <dc:title>Литературная гостиная, посвященная 195-летию со дня рождения Ивана Сергеевича Тургенева </dc:title>
</cp:coreProperties>
</file>