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gif" ContentType="image/gif"/>
  <Override PartName="/ppt/media/image8.jpeg" ContentType="image/jpeg"/>
  <Override PartName="/ppt/media/image4.png" ContentType="image/png"/>
  <Override PartName="/ppt/media/image3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0.png" ContentType="image/png"/>
  <Override PartName="/ppt/media/image20.wmf" ContentType="image/x-wmf"/>
  <Override PartName="/ppt/media/image17.gif" ContentType="image/gif"/>
  <Override PartName="/ppt/media/image16.gif" ContentType="image/gif"/>
  <Override PartName="/ppt/media/image25.png" ContentType="image/png"/>
  <Override PartName="/ppt/media/image2.png" ContentType="image/png"/>
  <Override PartName="/ppt/media/image18.png" ContentType="image/png"/>
  <Override PartName="/ppt/media/image15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35C-A46E-46B7-AFC1-6CBEFABE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D2A-6BDC-4C6D-B644-5F9048B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780-0B64-4657-9103-0CCF1D3E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7D0-ACE8-49BF-BE11-312555DA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9EC-8C66-4D36-B196-E86EB42C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E91-5BC1-4796-A643-0D67782A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C2F-5EBB-42EB-8FDF-4A0EE1B2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892-1ABE-4D5A-AE89-FF6856D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07A-5D21-4F31-B227-3FB7ED99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8DA-A9AD-4CDB-B52E-4F5B82C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C67-D0FC-4DFB-8BDB-70D811B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F00-E83E-4992-8D0A-A25FE83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18BC-5634-427B-926C-2A0928069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900000" y="1125360"/>
            <a:ext cx="7704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авила обозначен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буквам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согласных звуко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42" name="Picture 4" descr="http://www.nach-info.yourtalent.ru/FON-1/risunok12.png"/>
          <p:cNvPicPr/>
          <p:nvPr/>
        </p:nvPicPr>
        <p:blipFill>
          <a:blip r:embed="rId7"/>
          <a:stretch/>
        </p:blipFill>
        <p:spPr>
          <a:xfrm>
            <a:off x="95400" y="4437000"/>
            <a:ext cx="9048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826920" y="333360"/>
            <a:ext cx="7490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Орфографическая дуэ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2" name="Text Box 5"/>
          <p:cNvSpPr/>
          <p:nvPr/>
        </p:nvSpPr>
        <p:spPr>
          <a:xfrm flipV="1">
            <a:off x="826920" y="1917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71640" y="1844640"/>
            <a:ext cx="936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050920" y="119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               2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79640" y="177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85128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084720" y="3284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067280" y="4005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908000" y="472428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556000" y="2133720"/>
            <a:ext cx="1726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427640" y="2852640"/>
            <a:ext cx="2089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4500720" y="3645000"/>
            <a:ext cx="2016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H="1">
            <a:off x="2411280" y="4365720"/>
            <a:ext cx="18734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987640" y="260280"/>
            <a:ext cx="32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агад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1253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шите отгадки вместе с проверочными  слов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1700280"/>
            <a:ext cx="424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кинут ковё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кинут гор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 ковра не подня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 гороха соб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bgstar"/>
          <p:cNvPicPr/>
          <p:nvPr/>
        </p:nvPicPr>
        <p:blipFill>
          <a:blip r:embed="rId3"/>
          <a:stretch/>
        </p:blipFill>
        <p:spPr>
          <a:xfrm>
            <a:off x="3419640" y="1628640"/>
            <a:ext cx="3384360" cy="144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250920" y="3789360"/>
            <a:ext cx="367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нь и ночь стучит о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вно бы завед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дет плохо, если вд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кратится этот ст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003640" y="3068640"/>
            <a:ext cx="3889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-ка, кто из вас ответ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огонь, а больно жж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фонарь, а ярко све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не пекарь, а печ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13"/>
          <p:cNvPicPr/>
          <p:nvPr/>
        </p:nvPicPr>
        <p:blipFill>
          <a:blip r:embed="rId4"/>
          <a:stretch/>
        </p:blipFill>
        <p:spPr>
          <a:xfrm>
            <a:off x="6156360" y="4797360"/>
            <a:ext cx="1871640" cy="1773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сердце"/>
          <p:cNvPicPr/>
          <p:nvPr/>
        </p:nvPicPr>
        <p:blipFill>
          <a:blip r:embed="rId5"/>
          <a:stretch/>
        </p:blipFill>
        <p:spPr>
          <a:xfrm>
            <a:off x="2124000" y="5445000"/>
            <a:ext cx="1584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971640" y="260280"/>
            <a:ext cx="654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Названия предмето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052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шите названия предметов. Подчеркните в словах звонкие и глухие согласные, которые надо проверить. Подберите провероч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flag"/>
          <p:cNvPicPr/>
          <p:nvPr/>
        </p:nvPicPr>
        <p:blipFill>
          <a:blip r:embed="rId3"/>
          <a:stretch/>
        </p:blipFill>
        <p:spPr>
          <a:xfrm>
            <a:off x="611280" y="2565360"/>
            <a:ext cx="1952640" cy="1409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RAPES"/>
          <p:cNvPicPr/>
          <p:nvPr/>
        </p:nvPicPr>
        <p:blipFill>
          <a:blip r:embed="rId4"/>
          <a:stretch/>
        </p:blipFill>
        <p:spPr>
          <a:xfrm>
            <a:off x="684360" y="4581360"/>
            <a:ext cx="1584000" cy="180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OFFEE1"/>
          <p:cNvPicPr/>
          <p:nvPr/>
        </p:nvPicPr>
        <p:blipFill>
          <a:blip r:embed="rId5"/>
          <a:stretch/>
        </p:blipFill>
        <p:spPr>
          <a:xfrm>
            <a:off x="3851280" y="5084640"/>
            <a:ext cx="1727280" cy="144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BOOKCASE"/>
          <p:cNvPicPr/>
          <p:nvPr/>
        </p:nvPicPr>
        <p:blipFill>
          <a:blip r:embed="rId6"/>
          <a:stretch/>
        </p:blipFill>
        <p:spPr>
          <a:xfrm>
            <a:off x="3419640" y="249228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WATERMLN"/>
          <p:cNvPicPr/>
          <p:nvPr/>
        </p:nvPicPr>
        <p:blipFill>
          <a:blip r:embed="rId7"/>
          <a:stretch/>
        </p:blipFill>
        <p:spPr>
          <a:xfrm>
            <a:off x="6516720" y="4869000"/>
            <a:ext cx="1511280" cy="1492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OBJ091"/>
          <p:cNvPicPr/>
          <p:nvPr/>
        </p:nvPicPr>
        <p:blipFill>
          <a:blip r:embed="rId8"/>
          <a:stretch/>
        </p:blipFill>
        <p:spPr>
          <a:xfrm>
            <a:off x="6588000" y="2205000"/>
            <a:ext cx="216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3203640" y="40464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95640" y="1557360"/>
          <a:ext cx="4691160" cy="4568760"/>
        </p:xfrm>
        <a:graphic>
          <a:graphicData uri="http://schemas.openxmlformats.org/drawingml/2006/table">
            <a:tbl>
              <a:tblPr/>
              <a:tblGrid>
                <a:gridCol w="470160"/>
                <a:gridCol w="468000"/>
                <a:gridCol w="470160"/>
                <a:gridCol w="468360"/>
                <a:gridCol w="469800"/>
                <a:gridCol w="468360"/>
                <a:gridCol w="469800"/>
                <a:gridCol w="468360"/>
                <a:gridCol w="469800"/>
                <a:gridCol w="46836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97"/>
          <p:cNvSpPr/>
          <p:nvPr/>
        </p:nvSpPr>
        <p:spPr>
          <a:xfrm>
            <a:off x="250920" y="1341360"/>
            <a:ext cx="338436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на льду на коньках в небольшой мяч или шай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Дорога с рядами деревьев по сторо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Место, где продают бил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Человек, который совершает поездку на поезде, парох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Дорога, покрытая асфаль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6"/>
          <p:cNvSpPr/>
          <p:nvPr/>
        </p:nvSpPr>
        <p:spPr>
          <a:xfrm>
            <a:off x="5003640" y="227664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37"/>
          <p:cNvSpPr/>
          <p:nvPr/>
        </p:nvSpPr>
        <p:spPr>
          <a:xfrm>
            <a:off x="4932360" y="21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8"/>
          <p:cNvSpPr/>
          <p:nvPr/>
        </p:nvSpPr>
        <p:spPr>
          <a:xfrm>
            <a:off x="5435640" y="21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9"/>
          <p:cNvSpPr/>
          <p:nvPr/>
        </p:nvSpPr>
        <p:spPr>
          <a:xfrm>
            <a:off x="5867280" y="213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0"/>
          <p:cNvSpPr/>
          <p:nvPr/>
        </p:nvSpPr>
        <p:spPr>
          <a:xfrm>
            <a:off x="6300720" y="213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1"/>
          <p:cNvSpPr/>
          <p:nvPr/>
        </p:nvSpPr>
        <p:spPr>
          <a:xfrm>
            <a:off x="6804000" y="213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2"/>
          <p:cNvSpPr/>
          <p:nvPr/>
        </p:nvSpPr>
        <p:spPr>
          <a:xfrm>
            <a:off x="7308720" y="213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3"/>
          <p:cNvSpPr/>
          <p:nvPr/>
        </p:nvSpPr>
        <p:spPr>
          <a:xfrm>
            <a:off x="493236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4"/>
          <p:cNvSpPr/>
          <p:nvPr/>
        </p:nvSpPr>
        <p:spPr>
          <a:xfrm>
            <a:off x="5435640" y="2781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5"/>
          <p:cNvSpPr/>
          <p:nvPr/>
        </p:nvSpPr>
        <p:spPr>
          <a:xfrm>
            <a:off x="5867280" y="2781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46"/>
          <p:cNvSpPr/>
          <p:nvPr/>
        </p:nvSpPr>
        <p:spPr>
          <a:xfrm>
            <a:off x="637236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7"/>
          <p:cNvSpPr/>
          <p:nvPr/>
        </p:nvSpPr>
        <p:spPr>
          <a:xfrm>
            <a:off x="680400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8"/>
          <p:cNvSpPr/>
          <p:nvPr/>
        </p:nvSpPr>
        <p:spPr>
          <a:xfrm>
            <a:off x="5364000" y="342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9"/>
          <p:cNvSpPr/>
          <p:nvPr/>
        </p:nvSpPr>
        <p:spPr>
          <a:xfrm>
            <a:off x="5867280" y="3429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0"/>
          <p:cNvSpPr/>
          <p:nvPr/>
        </p:nvSpPr>
        <p:spPr>
          <a:xfrm>
            <a:off x="6372360" y="342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1"/>
          <p:cNvSpPr/>
          <p:nvPr/>
        </p:nvSpPr>
        <p:spPr>
          <a:xfrm>
            <a:off x="6804000" y="342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52"/>
          <p:cNvSpPr/>
          <p:nvPr/>
        </p:nvSpPr>
        <p:spPr>
          <a:xfrm>
            <a:off x="7308720" y="342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53"/>
          <p:cNvSpPr/>
          <p:nvPr/>
        </p:nvSpPr>
        <p:spPr>
          <a:xfrm>
            <a:off x="450072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4"/>
          <p:cNvSpPr/>
          <p:nvPr/>
        </p:nvSpPr>
        <p:spPr>
          <a:xfrm>
            <a:off x="500364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5"/>
          <p:cNvSpPr/>
          <p:nvPr/>
        </p:nvSpPr>
        <p:spPr>
          <a:xfrm>
            <a:off x="543564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6"/>
          <p:cNvSpPr/>
          <p:nvPr/>
        </p:nvSpPr>
        <p:spPr>
          <a:xfrm>
            <a:off x="5867280" y="4149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57"/>
          <p:cNvSpPr/>
          <p:nvPr/>
        </p:nvSpPr>
        <p:spPr>
          <a:xfrm>
            <a:off x="637236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58"/>
          <p:cNvSpPr/>
          <p:nvPr/>
        </p:nvSpPr>
        <p:spPr>
          <a:xfrm>
            <a:off x="6804000" y="414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9"/>
          <p:cNvSpPr/>
          <p:nvPr/>
        </p:nvSpPr>
        <p:spPr>
          <a:xfrm>
            <a:off x="7308720" y="414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0"/>
          <p:cNvSpPr/>
          <p:nvPr/>
        </p:nvSpPr>
        <p:spPr>
          <a:xfrm>
            <a:off x="774072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1"/>
          <p:cNvSpPr/>
          <p:nvPr/>
        </p:nvSpPr>
        <p:spPr>
          <a:xfrm>
            <a:off x="450072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2"/>
          <p:cNvSpPr/>
          <p:nvPr/>
        </p:nvSpPr>
        <p:spPr>
          <a:xfrm>
            <a:off x="493236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63"/>
          <p:cNvSpPr/>
          <p:nvPr/>
        </p:nvSpPr>
        <p:spPr>
          <a:xfrm>
            <a:off x="543564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64"/>
          <p:cNvSpPr/>
          <p:nvPr/>
        </p:nvSpPr>
        <p:spPr>
          <a:xfrm>
            <a:off x="5867280" y="4797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65"/>
          <p:cNvSpPr/>
          <p:nvPr/>
        </p:nvSpPr>
        <p:spPr>
          <a:xfrm>
            <a:off x="637236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6"/>
          <p:cNvSpPr/>
          <p:nvPr/>
        </p:nvSpPr>
        <p:spPr>
          <a:xfrm>
            <a:off x="3995640" y="20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7"/>
          <p:cNvSpPr/>
          <p:nvPr/>
        </p:nvSpPr>
        <p:spPr>
          <a:xfrm>
            <a:off x="43560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68"/>
          <p:cNvSpPr/>
          <p:nvPr/>
        </p:nvSpPr>
        <p:spPr>
          <a:xfrm>
            <a:off x="3924360" y="407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9"/>
          <p:cNvSpPr/>
          <p:nvPr/>
        </p:nvSpPr>
        <p:spPr>
          <a:xfrm>
            <a:off x="3851280" y="47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0"/>
          <p:cNvSpPr/>
          <p:nvPr/>
        </p:nvSpPr>
        <p:spPr>
          <a:xfrm>
            <a:off x="493236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72">
            <a:hlinkClick r:id="rId3"/>
          </p:cNvPr>
          <p:cNvSpPr/>
          <p:nvPr/>
        </p:nvSpPr>
        <p:spPr>
          <a:xfrm>
            <a:off x="8028000" y="6237360"/>
            <a:ext cx="792000" cy="431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71640" y="620640"/>
            <a:ext cx="136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Цел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11280" y="1844640"/>
            <a:ext cx="8532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ить различать согласные в корнях слов: проверяемые произношением и не проверяемые произношением, а также непроизносимые и удвоенные соглас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ировать умение безошибочно писать согласные в корня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50920" y="1916280"/>
            <a:ext cx="360360" cy="358560"/>
          </a:xfrm>
          <a:custGeom>
            <a:avLst/>
            <a:gdLst>
              <a:gd name="textAreaLeft" fmla="*/ 82080 w 360360"/>
              <a:gd name="textAreaRight" fmla="*/ 278280 w 3603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e00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50920" y="4508640"/>
            <a:ext cx="360360" cy="358560"/>
          </a:xfrm>
          <a:custGeom>
            <a:avLst/>
            <a:gdLst>
              <a:gd name="textAreaLeft" fmla="*/ 82080 w 360360"/>
              <a:gd name="textAreaRight" fmla="*/ 278280 w 3603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e00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050920" y="333360"/>
            <a:ext cx="48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Орфограм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413000"/>
          <a:ext cx="8229600" cy="4797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ые 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нях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ш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е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ш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31"/>
          <p:cNvSpPr/>
          <p:nvPr/>
        </p:nvSpPr>
        <p:spPr>
          <a:xfrm>
            <a:off x="539640" y="2708280"/>
            <a:ext cx="80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хие и звонкие     бер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бер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рю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сные                    грус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й – гру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ь         э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, в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3"/>
          <p:cNvSpPr/>
          <p:nvPr/>
        </p:nvSpPr>
        <p:spPr>
          <a:xfrm>
            <a:off x="468360" y="386064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произносимые    звёз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й – звез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чу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сные                                                               праз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5"/>
          <p:cNvSpPr/>
          <p:nvPr/>
        </p:nvSpPr>
        <p:spPr>
          <a:xfrm>
            <a:off x="611280" y="5084640"/>
            <a:ext cx="79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двоенные                                                        гр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сные                                                             к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кти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7" descr="anim81"/>
          <p:cNvPicPr/>
          <p:nvPr/>
        </p:nvPicPr>
        <p:blipFill>
          <a:blip r:embed="rId3"/>
          <a:stretch/>
        </p:blipFill>
        <p:spPr>
          <a:xfrm>
            <a:off x="395280" y="260280"/>
            <a:ext cx="12970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2268360" y="260280"/>
            <a:ext cx="453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огласные зву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187280" y="119664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1197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8172360" y="119700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187280" y="177336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187280" y="1773360"/>
            <a:ext cx="716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187280" y="4941720"/>
            <a:ext cx="741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8532720" y="1773360"/>
            <a:ext cx="716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258920" y="32130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332000" y="2276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он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1332000" y="37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х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987640" y="220500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3059280" y="378936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4067280" y="220500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4067280" y="378936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4859280" y="378936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4932360" y="220500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5867280" y="378936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5867280" y="220500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6877080" y="220500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7740720" y="220500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6732720" y="378936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7667640" y="378936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3059280" y="2205000"/>
            <a:ext cx="50472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3059280" y="3789360"/>
            <a:ext cx="57600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4067280" y="2205000"/>
            <a:ext cx="57600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4140360" y="3789360"/>
            <a:ext cx="50292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4932360" y="2205000"/>
            <a:ext cx="57636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4859280" y="3789360"/>
            <a:ext cx="57636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5867280" y="2205000"/>
            <a:ext cx="57636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5867280" y="3789360"/>
            <a:ext cx="57636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6948360" y="2205000"/>
            <a:ext cx="57492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6732720" y="3860640"/>
            <a:ext cx="57600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7740720" y="2276640"/>
            <a:ext cx="5032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7740720" y="3789360"/>
            <a:ext cx="50472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>
            <a:off x="3780000" y="177336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2"/>
          <p:cNvSpPr/>
          <p:nvPr/>
        </p:nvSpPr>
        <p:spPr>
          <a:xfrm>
            <a:off x="4788000" y="177336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3"/>
          <p:cNvSpPr/>
          <p:nvPr/>
        </p:nvSpPr>
        <p:spPr>
          <a:xfrm>
            <a:off x="572436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4"/>
          <p:cNvSpPr/>
          <p:nvPr/>
        </p:nvSpPr>
        <p:spPr>
          <a:xfrm>
            <a:off x="665964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5"/>
          <p:cNvSpPr/>
          <p:nvPr/>
        </p:nvSpPr>
        <p:spPr>
          <a:xfrm>
            <a:off x="759636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7" descr="anim81"/>
          <p:cNvPicPr/>
          <p:nvPr/>
        </p:nvPicPr>
        <p:blipFill>
          <a:blip r:embed="rId3"/>
          <a:stretch/>
        </p:blipFill>
        <p:spPr>
          <a:xfrm>
            <a:off x="395280" y="260280"/>
            <a:ext cx="12970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835280" y="404640"/>
            <a:ext cx="59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есёлые рифм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920" y="1557360"/>
            <a:ext cx="54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рой в словах встреч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жасные согла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и не произнося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что писать, неясно на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643280" y="1557360"/>
            <a:ext cx="45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бы знать, как пис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до слово изме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за звуком непоня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стро гласную иск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556000" y="3573360"/>
            <a:ext cx="4464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чудесно, не прекрас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ужасно и 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кву Т писать напр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м известно, как преле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кву Т писать умес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7" descr="anim81"/>
          <p:cNvPicPr/>
          <p:nvPr/>
        </p:nvPicPr>
        <p:blipFill>
          <a:blip r:embed="rId3"/>
          <a:stretch/>
        </p:blipFill>
        <p:spPr>
          <a:xfrm>
            <a:off x="250920" y="333360"/>
            <a:ext cx="12967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979640" y="260280"/>
            <a:ext cx="5329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Найди лишнее сло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00000" y="2060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устный, ужасный, хрустнуть, грус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364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, участник, вкусный, ярос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24000" y="2133720"/>
            <a:ext cx="502920" cy="431640"/>
          </a:xfrm>
          <a:custGeom>
            <a:avLst/>
            <a:gdLst>
              <a:gd name="textAreaLeft" fmla="*/ 207360 w 502920"/>
              <a:gd name="textAreaRight" fmla="*/ 295560 w 5029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e00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324000" y="3645000"/>
            <a:ext cx="502920" cy="431640"/>
          </a:xfrm>
          <a:custGeom>
            <a:avLst/>
            <a:gdLst>
              <a:gd name="textAreaLeft" fmla="*/ 207360 w 502920"/>
              <a:gd name="textAreaRight" fmla="*/ 295560 w 5029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e00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http://beverlymonical.com/wp-content/uploads/2012/07/question_smiley_clip_art_252721.jpg"/>
          <p:cNvPicPr/>
          <p:nvPr/>
        </p:nvPicPr>
        <p:blipFill>
          <a:blip r:embed="rId1"/>
          <a:stretch/>
        </p:blipFill>
        <p:spPr>
          <a:xfrm>
            <a:off x="4427640" y="4581360"/>
            <a:ext cx="180000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6028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Запишите в 4 столбика слова, в которых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4360" y="1197000"/>
            <a:ext cx="845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дит изменение согласного в корне сл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дит изменение согласного в середине сл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непроизносимые соглас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удвоенные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24000" y="1268280"/>
            <a:ext cx="287280" cy="287640"/>
          </a:xfrm>
          <a:custGeom>
            <a:avLst/>
            <a:gdLst>
              <a:gd name="textAreaLeft" fmla="*/ 65520 w 287280"/>
              <a:gd name="textAreaRight" fmla="*/ 221760 w 28728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324000" y="1844640"/>
            <a:ext cx="287280" cy="287280"/>
          </a:xfrm>
          <a:custGeom>
            <a:avLst/>
            <a:gdLst>
              <a:gd name="textAreaLeft" fmla="*/ 65520 w 287280"/>
              <a:gd name="textAreaRight" fmla="*/ 221760 w 2872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324000" y="2421000"/>
            <a:ext cx="287280" cy="287280"/>
          </a:xfrm>
          <a:custGeom>
            <a:avLst/>
            <a:gdLst>
              <a:gd name="textAreaLeft" fmla="*/ 65520 w 287280"/>
              <a:gd name="textAreaRight" fmla="*/ 221760 w 2872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24000" y="2924280"/>
            <a:ext cx="287280" cy="287280"/>
          </a:xfrm>
          <a:custGeom>
            <a:avLst/>
            <a:gdLst>
              <a:gd name="textAreaLeft" fmla="*/ 65520 w 287280"/>
              <a:gd name="textAreaRight" fmla="*/ 221760 w 2872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68360" y="3645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дка, несчастный, рожь, молодёжь, перевозка, группа, капустный, ошибка. коллекция, овраг, лестничный, вокзал, круг, хоккей, улыбка, яростный. тенн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http://blesk.ru/img/saved/3/67/news_6673"/>
          <p:cNvPicPr/>
          <p:nvPr/>
        </p:nvPicPr>
        <p:blipFill>
          <a:blip r:embed="rId1"/>
          <a:stretch/>
        </p:blipFill>
        <p:spPr>
          <a:xfrm>
            <a:off x="7494480" y="4842000"/>
            <a:ext cx="12542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195640" y="333360"/>
            <a:ext cx="51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Одно слов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9640" y="1413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е словосочетания одним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060640"/>
            <a:ext cx="583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ьничный 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варищ по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пулярная игра на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исунки в журнале, кни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мещение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нь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учение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508720" y="1989000"/>
            <a:ext cx="2663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юлле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лл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к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ллю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уб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ресс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http://im5-tub-ru.yandex.net/i?id=100858677-50-72&amp;n=21"/>
          <p:cNvPicPr/>
          <p:nvPr/>
        </p:nvPicPr>
        <p:blipFill>
          <a:blip r:embed="rId3"/>
          <a:stretch/>
        </p:blipFill>
        <p:spPr>
          <a:xfrm>
            <a:off x="539640" y="260280"/>
            <a:ext cx="11620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187280" y="333360"/>
            <a:ext cx="64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00ee"/>
                    </a:gs>
                    <a:gs pos="100000">
                      <a:srgbClr val="ff99ff"/>
                    </a:gs>
                  </a:gsLst>
                  <a:lin ang="5400000"/>
                </a:gradFill>
                <a:latin typeface="Arial"/>
              </a:rPr>
              <a:t>Орфографическая дуэ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00ee"/>
                  </a:gs>
                  <a:gs pos="100000">
                    <a:srgbClr val="ff99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11280" y="1484280"/>
            <a:ext cx="8137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..ность, чудес..ный, тес..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..ный, доблес..ный, соглас..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..но, бессловес..ный, облас..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с..ный, окрес..ность, опас..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..ный, безглас..ный, парус..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http://reiki-unlimited.org/_fr/0/2655146.gif"/>
          <p:cNvPicPr/>
          <p:nvPr/>
        </p:nvPicPr>
        <p:blipFill>
          <a:blip r:embed="rId1"/>
          <a:stretch/>
        </p:blipFill>
        <p:spPr>
          <a:xfrm>
            <a:off x="6300720" y="4292640"/>
            <a:ext cx="1727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9:20Z</dcterms:created>
  <dc:creator>ТАНЯ</dc:creator>
  <dc:description/>
  <dc:language>en-US</dc:language>
  <cp:lastModifiedBy>User</cp:lastModifiedBy>
  <dcterms:modified xsi:type="dcterms:W3CDTF">2014-01-12T09:22:47Z</dcterms:modified>
  <cp:revision>17</cp:revision>
  <dc:subject/>
  <dc:title>Слайд 1</dc:title>
</cp:coreProperties>
</file>