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D3B-8320-4CF5-998A-4C6BA049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28E-087F-4077-B329-16B39A61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7C7-E251-4828-826F-AE360717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D2B-0212-4D13-A30E-82816A97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1CE-E3AF-4059-9CDB-E9A603D2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75F-6804-4099-910B-C988D49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BFA-74EC-48FA-909D-7824796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37B-B99A-4731-A761-BF57B65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118-78B0-4580-9B3B-044FDAC1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F0D-C893-417B-9465-E1A334E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4BC-309B-473A-8C62-2025B0E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009-62AF-46D3-A2F9-268BB3C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C383-D66B-43FB-B547-8CDBC419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file:///&#1055;&#1088;&#1077;&#1079;&#1077;&#1085;&#1090;&#1072;&#1094;&#1080;&#1103;1.ppt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рок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1197000"/>
            <a:ext cx="8569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Мягкий знак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после шипящих 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в конце имён существительных и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глаголов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3097080" cy="38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24000" y="333360"/>
            <a:ext cx="84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Проверочный тест</a:t>
            </a:r>
            <a:endParaRPr b="0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d09b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8532720" y="26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edd09b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981000"/>
            <a:ext cx="799308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Желаю успеха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40000" y="5229360"/>
            <a:ext cx="453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692280"/>
            <a:ext cx="151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Цель: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700280"/>
            <a:ext cx="82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844640"/>
            <a:ext cx="7993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репить навык правописания Ь после шипящих на конце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навык орфографического анали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91628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860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40464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асти ре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557360"/>
          <a:ext cx="7772400" cy="4537080"/>
        </p:xfrm>
        <a:graphic>
          <a:graphicData uri="http://schemas.openxmlformats.org/drawingml/2006/table">
            <a:tbl>
              <a:tblPr/>
              <a:tblGrid>
                <a:gridCol w="1509840"/>
                <a:gridCol w="1368360"/>
                <a:gridCol w="1439640"/>
                <a:gridCol w="345456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5564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существительное            Гла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350028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429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         2         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941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941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69236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мените данные слова  существите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основой на шипящий, укажите скло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484280"/>
            <a:ext cx="3024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держ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рав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д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зветр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148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148428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 ск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21337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2133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 ск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2924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лож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292428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 ск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64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клю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357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 ск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4365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мощ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4292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 ск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084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товари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013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 ск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587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тиш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5805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 ск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7636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лу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867280" y="404640"/>
            <a:ext cx="9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5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916280"/>
            <a:ext cx="863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126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                      2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1844640"/>
            <a:ext cx="752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щ..                 глуш..              печёш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..            грач..               круч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ош..               мыш..              бежиш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..                  дач..                доч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ёш..             печ..                молодёж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04640"/>
            <a:ext cx="8893080" cy="916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олуч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27640" y="404640"/>
            <a:ext cx="86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5</a:t>
            </a:r>
            <a:endParaRPr b="0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177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             2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133720"/>
            <a:ext cx="79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2205000"/>
            <a:ext cx="37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ь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56536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2565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2708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3429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407664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076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4149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4869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5516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551664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981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дед над водой, трясёт бород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50040" y="692280"/>
            <a:ext cx="1893960" cy="213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1773360"/>
            <a:ext cx="396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го бьют, а он не плачет, только выше, выше скач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3284640"/>
            <a:ext cx="48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а маленькая крошка рада даже хлебной крошке, потому что дотемна в норке прячется 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22936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 похож на человечка, но имеет он сердечко. И работе круглый год он сердечко отдаёт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146664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1773360"/>
            <a:ext cx="1513080" cy="1430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415280" y="4724280"/>
            <a:ext cx="1728720" cy="184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95280" y="342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95280" y="191628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95280" y="537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395280" y="11970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пишите послов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557360"/>
            <a:ext cx="4248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пешишь – люде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з тру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кем поведёшь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ила в меш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посееш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насмешиш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27664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не вытащишь и рыбку из пру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2997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от того и наберёш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3716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не утаиш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44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то и пожнёш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052640"/>
            <a:ext cx="309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484280"/>
            <a:ext cx="3097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горизонт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 за весенняя птица любит за плугом ходить и кормить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Как называют человека, который играет на скрипк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мик, сделанный из веток и соло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вертик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Кра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Мой весёлый, звонкий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сокое болотное раст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64000" y="912960"/>
          <a:ext cx="5580000" cy="5945040"/>
        </p:xfrm>
        <a:graphic>
          <a:graphicData uri="http://schemas.openxmlformats.org/drawingml/2006/table">
            <a:tbl>
              <a:tblPr/>
              <a:tblGrid>
                <a:gridCol w="576360"/>
                <a:gridCol w="502920"/>
                <a:gridCol w="493920"/>
                <a:gridCol w="500040"/>
                <a:gridCol w="501480"/>
                <a:gridCol w="501840"/>
                <a:gridCol w="501480"/>
                <a:gridCol w="500040"/>
                <a:gridCol w="498600"/>
                <a:gridCol w="608040"/>
                <a:gridCol w="395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659640" y="2565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   р   а    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364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  к   р   и   п   а   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5805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  а   л   а   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625840"/>
            <a:ext cx="2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48560" y="2997360"/>
            <a:ext cx="63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19840" y="3860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4221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69000"/>
            <a:ext cx="43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7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2360" y="2060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41497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472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522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0:19:11Z</dcterms:created>
  <dc:creator>User</dc:creator>
  <dc:description/>
  <dc:language>en-US</dc:language>
  <cp:lastModifiedBy>ТАНЯ</cp:lastModifiedBy>
  <dcterms:modified xsi:type="dcterms:W3CDTF">2006-06-08T03:31:26Z</dcterms:modified>
  <cp:revision>67</cp:revision>
  <dc:subject/>
  <dc:title>Презентация PowerPoint</dc:title>
</cp:coreProperties>
</file>